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6.wmf" ContentType="image/x-wmf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86800" cy="100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888240" cy="10020240"/>
          </a:xfrm>
          <a:custGeom>
            <a:avLst/>
            <a:gdLst>
              <a:gd name="textAreaLeft" fmla="*/ 360 w 6888240"/>
              <a:gd name="textAreaRight" fmla="*/ 6887880 w 6888240"/>
              <a:gd name="textAreaTop" fmla="*/ 360 h 10020240"/>
              <a:gd name="textAreaBottom" fmla="*/ 10019880 h 10020240"/>
            </a:gdLst>
            <a:ahLst/>
            <a:rect l="textAreaLeft" t="textAreaTop" r="textAreaRight" b="textAreaBottom"/>
            <a:pathLst>
              <a:path w="21600" h="31421">
                <a:moveTo>
                  <a:pt x="5" y="0"/>
                </a:moveTo>
                <a:arcTo wR="5" hR="5" stAng="16200000" swAng="-5400000"/>
                <a:lnTo>
                  <a:pt x="0" y="31416"/>
                </a:lnTo>
                <a:arcTo wR="5" hR="5" stAng="10800000" swAng="-5400000"/>
                <a:lnTo>
                  <a:pt x="21595" y="3142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82960" cy="5000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9320" bIns="4932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902040" y="-360"/>
            <a:ext cx="2982960" cy="5000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9320" bIns="4932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937800" y="750600"/>
            <a:ext cx="5008680" cy="3755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5040" rIns="9504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08720" cy="4508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9320" bIns="493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16600"/>
            <a:ext cx="2982960" cy="5000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9320" bIns="4932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902040" y="9516600"/>
            <a:ext cx="2982960" cy="5000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9320" bIns="4932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2120"/>
                <a:tab algn="l" pos="2898720"/>
                <a:tab algn="l" pos="3863880"/>
                <a:tab algn="l" pos="4830840"/>
                <a:tab algn="l" pos="5797440"/>
                <a:tab algn="l" pos="6762600"/>
                <a:tab algn="l" pos="7729560"/>
                <a:tab algn="l" pos="8694720"/>
                <a:tab algn="l" pos="9661680"/>
                <a:tab algn="l" pos="1062828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2120"/>
                <a:tab algn="l" pos="2898720"/>
                <a:tab algn="l" pos="3863880"/>
                <a:tab algn="l" pos="4830840"/>
                <a:tab algn="l" pos="5797440"/>
                <a:tab algn="l" pos="6762600"/>
                <a:tab algn="l" pos="7729560"/>
                <a:tab algn="l" pos="8694720"/>
                <a:tab algn="l" pos="9661680"/>
                <a:tab algn="l" pos="10628280"/>
              </a:tabLst>
            </a:pPr>
            <a:fld id="{ED75F36D-A4B7-4A6A-9F0F-8336DA73D4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Rectangle 7"/>
          <p:cNvSpPr/>
          <p:nvPr/>
        </p:nvSpPr>
        <p:spPr>
          <a:xfrm>
            <a:off x="3902040" y="9516960"/>
            <a:ext cx="2982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2120"/>
                <a:tab algn="l" pos="2898720"/>
                <a:tab algn="l" pos="3863880"/>
                <a:tab algn="l" pos="4830840"/>
                <a:tab algn="l" pos="5797440"/>
                <a:tab algn="l" pos="6762600"/>
                <a:tab algn="l" pos="7729560"/>
                <a:tab algn="l" pos="8694720"/>
                <a:tab algn="l" pos="9661680"/>
                <a:tab algn="l" pos="10628280"/>
              </a:tabLst>
            </a:pPr>
            <a:fld id="{4A17A8E6-B13D-42CD-945C-8965228B8FF9}" type="slidenum">
              <a:rPr b="0" lang="en-US" sz="13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0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10120" cy="3757680"/>
          </a:xfrm>
          <a:prstGeom prst="rect">
            <a:avLst/>
          </a:prstGeom>
          <a:ln w="0">
            <a:noFill/>
          </a:ln>
        </p:spPr>
      </p:sp>
      <p:sp>
        <p:nvSpPr>
          <p:cNvPr id="1131" name="PlaceHolder 2"/>
          <p:cNvSpPr>
            <a:spLocks noGrp="1"/>
          </p:cNvSpPr>
          <p:nvPr>
            <p:ph type="body"/>
          </p:nvPr>
        </p:nvSpPr>
        <p:spPr>
          <a:xfrm>
            <a:off x="689040" y="4758840"/>
            <a:ext cx="5510160" cy="46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Rectangle 7"/>
          <p:cNvSpPr/>
          <p:nvPr/>
        </p:nvSpPr>
        <p:spPr>
          <a:xfrm>
            <a:off x="3902040" y="9516960"/>
            <a:ext cx="2982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2120"/>
                <a:tab algn="l" pos="2898720"/>
                <a:tab algn="l" pos="3863880"/>
                <a:tab algn="l" pos="4830840"/>
                <a:tab algn="l" pos="5797440"/>
                <a:tab algn="l" pos="6762600"/>
                <a:tab algn="l" pos="7729560"/>
                <a:tab algn="l" pos="8694720"/>
                <a:tab algn="l" pos="9661680"/>
                <a:tab algn="l" pos="10628280"/>
              </a:tabLst>
            </a:pPr>
            <a:fld id="{A80F762D-D278-474F-85B9-5F4317D73BF3}" type="slidenum">
              <a:rPr b="0" lang="en-US" sz="13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3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10120" cy="3757680"/>
          </a:xfrm>
          <a:prstGeom prst="rect">
            <a:avLst/>
          </a:prstGeom>
          <a:ln w="0">
            <a:noFill/>
          </a:ln>
        </p:spPr>
      </p:sp>
      <p:sp>
        <p:nvSpPr>
          <p:cNvPr id="1134" name="PlaceHolder 2"/>
          <p:cNvSpPr>
            <a:spLocks noGrp="1"/>
          </p:cNvSpPr>
          <p:nvPr>
            <p:ph type="body"/>
          </p:nvPr>
        </p:nvSpPr>
        <p:spPr>
          <a:xfrm>
            <a:off x="689040" y="4758840"/>
            <a:ext cx="5510160" cy="46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Rectangle 7"/>
          <p:cNvSpPr/>
          <p:nvPr/>
        </p:nvSpPr>
        <p:spPr>
          <a:xfrm>
            <a:off x="3902040" y="9516960"/>
            <a:ext cx="2982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2120"/>
                <a:tab algn="l" pos="2898720"/>
                <a:tab algn="l" pos="3863880"/>
                <a:tab algn="l" pos="4830840"/>
                <a:tab algn="l" pos="5797440"/>
                <a:tab algn="l" pos="6762600"/>
                <a:tab algn="l" pos="7729560"/>
                <a:tab algn="l" pos="8694720"/>
                <a:tab algn="l" pos="9661680"/>
                <a:tab algn="l" pos="10628280"/>
              </a:tabLst>
            </a:pPr>
            <a:fld id="{86B385DF-EA28-4691-95C8-41D83FC50369}" type="slidenum">
              <a:rPr b="0" lang="en-US" sz="13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6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10120" cy="3757680"/>
          </a:xfrm>
          <a:prstGeom prst="rect">
            <a:avLst/>
          </a:prstGeom>
          <a:ln w="0">
            <a:noFill/>
          </a:ln>
        </p:spPr>
      </p:sp>
      <p:sp>
        <p:nvSpPr>
          <p:cNvPr id="1137" name="PlaceHolder 2"/>
          <p:cNvSpPr>
            <a:spLocks noGrp="1"/>
          </p:cNvSpPr>
          <p:nvPr>
            <p:ph type="body"/>
          </p:nvPr>
        </p:nvSpPr>
        <p:spPr>
          <a:xfrm>
            <a:off x="689040" y="4758840"/>
            <a:ext cx="5510160" cy="46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Rectangle 7"/>
          <p:cNvSpPr/>
          <p:nvPr/>
        </p:nvSpPr>
        <p:spPr>
          <a:xfrm>
            <a:off x="3902040" y="9516960"/>
            <a:ext cx="2982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2120"/>
                <a:tab algn="l" pos="2898720"/>
                <a:tab algn="l" pos="3863880"/>
                <a:tab algn="l" pos="4830840"/>
                <a:tab algn="l" pos="5797440"/>
                <a:tab algn="l" pos="6762600"/>
                <a:tab algn="l" pos="7729560"/>
                <a:tab algn="l" pos="8694720"/>
                <a:tab algn="l" pos="9661680"/>
                <a:tab algn="l" pos="10628280"/>
              </a:tabLst>
            </a:pPr>
            <a:fld id="{C3BBF77E-955A-4372-B429-62A3D8435356}" type="slidenum">
              <a:rPr b="0" lang="en-US" sz="13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9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10120" cy="3757680"/>
          </a:xfrm>
          <a:prstGeom prst="rect">
            <a:avLst/>
          </a:prstGeom>
          <a:ln w="0">
            <a:noFill/>
          </a:ln>
        </p:spPr>
      </p:sp>
      <p:sp>
        <p:nvSpPr>
          <p:cNvPr id="1140" name="PlaceHolder 2"/>
          <p:cNvSpPr>
            <a:spLocks noGrp="1"/>
          </p:cNvSpPr>
          <p:nvPr>
            <p:ph type="body"/>
          </p:nvPr>
        </p:nvSpPr>
        <p:spPr>
          <a:xfrm>
            <a:off x="689040" y="4758840"/>
            <a:ext cx="5510160" cy="46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Rectangle 7"/>
          <p:cNvSpPr/>
          <p:nvPr/>
        </p:nvSpPr>
        <p:spPr>
          <a:xfrm>
            <a:off x="3902040" y="9516960"/>
            <a:ext cx="2982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2120"/>
                <a:tab algn="l" pos="2898720"/>
                <a:tab algn="l" pos="3863880"/>
                <a:tab algn="l" pos="4830840"/>
                <a:tab algn="l" pos="5797440"/>
                <a:tab algn="l" pos="6762600"/>
                <a:tab algn="l" pos="7729560"/>
                <a:tab algn="l" pos="8694720"/>
                <a:tab algn="l" pos="9661680"/>
                <a:tab algn="l" pos="10628280"/>
              </a:tabLst>
            </a:pPr>
            <a:fld id="{13B9137A-B96C-4A62-AA55-CECB372C44FF}" type="slidenum">
              <a:rPr b="0" lang="en-US" sz="13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2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10120" cy="3757680"/>
          </a:xfrm>
          <a:prstGeom prst="rect">
            <a:avLst/>
          </a:prstGeom>
          <a:ln w="0">
            <a:noFill/>
          </a:ln>
        </p:spPr>
      </p:sp>
      <p:sp>
        <p:nvSpPr>
          <p:cNvPr id="1143" name="PlaceHolder 2"/>
          <p:cNvSpPr>
            <a:spLocks noGrp="1"/>
          </p:cNvSpPr>
          <p:nvPr>
            <p:ph type="body"/>
          </p:nvPr>
        </p:nvSpPr>
        <p:spPr>
          <a:xfrm>
            <a:off x="689040" y="4758840"/>
            <a:ext cx="5510160" cy="46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Rectangle 7"/>
          <p:cNvSpPr/>
          <p:nvPr/>
        </p:nvSpPr>
        <p:spPr>
          <a:xfrm>
            <a:off x="3902040" y="9516960"/>
            <a:ext cx="2982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2120"/>
                <a:tab algn="l" pos="2898720"/>
                <a:tab algn="l" pos="3863880"/>
                <a:tab algn="l" pos="4830840"/>
                <a:tab algn="l" pos="5797440"/>
                <a:tab algn="l" pos="6762600"/>
                <a:tab algn="l" pos="7729560"/>
                <a:tab algn="l" pos="8694720"/>
                <a:tab algn="l" pos="9661680"/>
                <a:tab algn="l" pos="10628280"/>
              </a:tabLst>
            </a:pPr>
            <a:fld id="{0B0E2BD0-02F0-438A-AFAD-7D46CBD768B7}" type="slidenum">
              <a:rPr b="0" lang="en-US" sz="13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5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10120" cy="3757680"/>
          </a:xfrm>
          <a:prstGeom prst="rect">
            <a:avLst/>
          </a:prstGeom>
          <a:ln w="0">
            <a:noFill/>
          </a:ln>
        </p:spPr>
      </p:sp>
      <p:sp>
        <p:nvSpPr>
          <p:cNvPr id="1146" name="PlaceHolder 2"/>
          <p:cNvSpPr>
            <a:spLocks noGrp="1"/>
          </p:cNvSpPr>
          <p:nvPr>
            <p:ph type="body"/>
          </p:nvPr>
        </p:nvSpPr>
        <p:spPr>
          <a:xfrm>
            <a:off x="689040" y="4758840"/>
            <a:ext cx="5510160" cy="46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Rectangle 7"/>
          <p:cNvSpPr/>
          <p:nvPr/>
        </p:nvSpPr>
        <p:spPr>
          <a:xfrm>
            <a:off x="3902040" y="9516960"/>
            <a:ext cx="2982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2120"/>
                <a:tab algn="l" pos="2898720"/>
                <a:tab algn="l" pos="3863880"/>
                <a:tab algn="l" pos="4830840"/>
                <a:tab algn="l" pos="5797440"/>
                <a:tab algn="l" pos="6762600"/>
                <a:tab algn="l" pos="7729560"/>
                <a:tab algn="l" pos="8694720"/>
                <a:tab algn="l" pos="9661680"/>
                <a:tab algn="l" pos="10628280"/>
              </a:tabLst>
            </a:pPr>
            <a:fld id="{05629595-6BF4-4A7B-9AB2-AE7F9A9D6005}" type="slidenum">
              <a:rPr b="0" lang="en-US" sz="13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5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10120" cy="3757680"/>
          </a:xfrm>
          <a:prstGeom prst="rect">
            <a:avLst/>
          </a:prstGeom>
          <a:ln w="0">
            <a:noFill/>
          </a:ln>
        </p:spPr>
      </p:sp>
      <p:sp>
        <p:nvSpPr>
          <p:cNvPr id="1116" name="PlaceHolder 2"/>
          <p:cNvSpPr>
            <a:spLocks noGrp="1"/>
          </p:cNvSpPr>
          <p:nvPr>
            <p:ph type="body"/>
          </p:nvPr>
        </p:nvSpPr>
        <p:spPr>
          <a:xfrm>
            <a:off x="689040" y="4758840"/>
            <a:ext cx="5510160" cy="46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Rectangle 7"/>
          <p:cNvSpPr/>
          <p:nvPr/>
        </p:nvSpPr>
        <p:spPr>
          <a:xfrm>
            <a:off x="3902040" y="9516960"/>
            <a:ext cx="2982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2120"/>
                <a:tab algn="l" pos="2898720"/>
                <a:tab algn="l" pos="3863880"/>
                <a:tab algn="l" pos="4830840"/>
                <a:tab algn="l" pos="5797440"/>
                <a:tab algn="l" pos="6762600"/>
                <a:tab algn="l" pos="7729560"/>
                <a:tab algn="l" pos="8694720"/>
                <a:tab algn="l" pos="9661680"/>
                <a:tab algn="l" pos="10628280"/>
              </a:tabLst>
            </a:pPr>
            <a:fld id="{98F6669C-86A0-4D9B-B78E-E69CB7D019BD}" type="slidenum">
              <a:rPr b="0" lang="en-US" sz="13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8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10120" cy="3757680"/>
          </a:xfrm>
          <a:prstGeom prst="rect">
            <a:avLst/>
          </a:prstGeom>
          <a:ln w="0">
            <a:noFill/>
          </a:ln>
        </p:spPr>
      </p:sp>
      <p:sp>
        <p:nvSpPr>
          <p:cNvPr id="1119" name="PlaceHolder 2"/>
          <p:cNvSpPr>
            <a:spLocks noGrp="1"/>
          </p:cNvSpPr>
          <p:nvPr>
            <p:ph type="body"/>
          </p:nvPr>
        </p:nvSpPr>
        <p:spPr>
          <a:xfrm>
            <a:off x="689040" y="4758840"/>
            <a:ext cx="5510160" cy="46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Rectangle 7"/>
          <p:cNvSpPr/>
          <p:nvPr/>
        </p:nvSpPr>
        <p:spPr>
          <a:xfrm>
            <a:off x="3902040" y="9516960"/>
            <a:ext cx="2982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2120"/>
                <a:tab algn="l" pos="2898720"/>
                <a:tab algn="l" pos="3863880"/>
                <a:tab algn="l" pos="4830840"/>
                <a:tab algn="l" pos="5797440"/>
                <a:tab algn="l" pos="6762600"/>
                <a:tab algn="l" pos="7729560"/>
                <a:tab algn="l" pos="8694720"/>
                <a:tab algn="l" pos="9661680"/>
                <a:tab algn="l" pos="10628280"/>
              </a:tabLst>
            </a:pPr>
            <a:fld id="{D50CB0DE-443B-483D-839E-1E236D32975C}" type="slidenum">
              <a:rPr b="0" lang="es-ES" sz="13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1" name="PlaceHolder 1"/>
          <p:cNvSpPr>
            <a:spLocks noGrp="1"/>
          </p:cNvSpPr>
          <p:nvPr>
            <p:ph type="sldImg"/>
          </p:nvPr>
        </p:nvSpPr>
        <p:spPr>
          <a:xfrm>
            <a:off x="938160" y="750960"/>
            <a:ext cx="5008680" cy="3755880"/>
          </a:xfrm>
          <a:prstGeom prst="rect">
            <a:avLst/>
          </a:prstGeom>
          <a:ln w="0">
            <a:noFill/>
          </a:ln>
        </p:spPr>
      </p:sp>
      <p:sp>
        <p:nvSpPr>
          <p:cNvPr id="1122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0872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Rectangle 7"/>
          <p:cNvSpPr/>
          <p:nvPr/>
        </p:nvSpPr>
        <p:spPr>
          <a:xfrm>
            <a:off x="3902040" y="9516960"/>
            <a:ext cx="2982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2120"/>
                <a:tab algn="l" pos="2898720"/>
                <a:tab algn="l" pos="3863880"/>
                <a:tab algn="l" pos="4830840"/>
                <a:tab algn="l" pos="5797440"/>
                <a:tab algn="l" pos="6762600"/>
                <a:tab algn="l" pos="7729560"/>
                <a:tab algn="l" pos="8694720"/>
                <a:tab algn="l" pos="9661680"/>
                <a:tab algn="l" pos="10628280"/>
              </a:tabLst>
            </a:pPr>
            <a:fld id="{692DD3E9-D4F4-443B-89BA-7EB120AED510}" type="slidenum">
              <a:rPr b="0" lang="en-US" sz="13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10120" cy="3757680"/>
          </a:xfrm>
          <a:prstGeom prst="rect">
            <a:avLst/>
          </a:prstGeom>
          <a:ln w="0">
            <a:noFill/>
          </a:ln>
        </p:spPr>
      </p:sp>
      <p:sp>
        <p:nvSpPr>
          <p:cNvPr id="1125" name="PlaceHolder 2"/>
          <p:cNvSpPr>
            <a:spLocks noGrp="1"/>
          </p:cNvSpPr>
          <p:nvPr>
            <p:ph type="body"/>
          </p:nvPr>
        </p:nvSpPr>
        <p:spPr>
          <a:xfrm>
            <a:off x="689040" y="4758840"/>
            <a:ext cx="5510160" cy="46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Rectangle 7"/>
          <p:cNvSpPr/>
          <p:nvPr/>
        </p:nvSpPr>
        <p:spPr>
          <a:xfrm>
            <a:off x="3902040" y="9516960"/>
            <a:ext cx="2982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2120"/>
                <a:tab algn="l" pos="2898720"/>
                <a:tab algn="l" pos="3863880"/>
                <a:tab algn="l" pos="4830840"/>
                <a:tab algn="l" pos="5797440"/>
                <a:tab algn="l" pos="6762600"/>
                <a:tab algn="l" pos="7729560"/>
                <a:tab algn="l" pos="8694720"/>
                <a:tab algn="l" pos="9661680"/>
                <a:tab algn="l" pos="10628280"/>
              </a:tabLst>
            </a:pPr>
            <a:fld id="{EB5CC5DA-25D9-45AB-AC15-8551AE6FBF0F}" type="slidenum">
              <a:rPr b="0" lang="en-US" sz="13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7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10120" cy="3757680"/>
          </a:xfrm>
          <a:prstGeom prst="rect">
            <a:avLst/>
          </a:prstGeom>
          <a:ln w="0">
            <a:noFill/>
          </a:ln>
        </p:spPr>
      </p:sp>
      <p:sp>
        <p:nvSpPr>
          <p:cNvPr id="1128" name="PlaceHolder 2"/>
          <p:cNvSpPr>
            <a:spLocks noGrp="1"/>
          </p:cNvSpPr>
          <p:nvPr>
            <p:ph type="body"/>
          </p:nvPr>
        </p:nvSpPr>
        <p:spPr>
          <a:xfrm>
            <a:off x="689040" y="4758840"/>
            <a:ext cx="5510160" cy="46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F6B69-EAC4-46ED-8D53-99F77B6A5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F4B88-CCCD-4D2F-8197-2FC010873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22273-C140-4B32-A869-8D12284ED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3DA6F-3387-4785-9361-681C9B2A1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10FF6-B4FA-4880-8812-8F973E127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D78FC-C3B8-43E3-9E54-73B763C8D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CB206-9DF2-4227-99A0-945BD3866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BACD8-5D6B-4B89-B0EC-F408AF24C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9588E-D4F0-4AF6-929B-DF839B7CC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EDB5C-19AD-4681-B692-431F960E2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1AE61-D494-4DAB-9DED-A30D03B80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342FA-FBEF-4BBC-B6D1-546A6E52C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6C621B-A4CF-4982-BA83-0566F0259C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wmf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4 CuadroTexto"/>
          <p:cNvSpPr/>
          <p:nvPr/>
        </p:nvSpPr>
        <p:spPr>
          <a:xfrm>
            <a:off x="785880" y="1500120"/>
            <a:ext cx="76438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000" spc="-1" strike="noStrike">
                <a:solidFill>
                  <a:srgbClr val="6600cc"/>
                </a:solidFill>
                <a:latin typeface="Arial"/>
              </a:rPr>
              <a:t>Bolilla 11: Biosíntesis de Proteínas. </a:t>
            </a:r>
            <a:r>
              <a:rPr b="1" lang="es-ES" sz="2000" spc="-1" strike="noStrike">
                <a:solidFill>
                  <a:srgbClr val="ff0000"/>
                </a:solidFill>
                <a:latin typeface="Arial"/>
              </a:rPr>
              <a:t>Traducción de la información genética. Universalidad del código genético. Activación de los aminoácidos, fidelidad de la síntesis proteica. Etapas de iniciación, formación del enlace peptídico, elongación y terminación de la síntesis, factores que intervienen, consumo energético y regulación. Inhibidores de la síntesis</a:t>
            </a:r>
            <a:r>
              <a:rPr b="0" lang="es-ES" sz="2000" spc="-1" strike="noStrike">
                <a:solidFill>
                  <a:srgbClr val="3333cc"/>
                </a:solidFill>
                <a:latin typeface="Arial"/>
              </a:rPr>
              <a:t>. Nociones sobre alimentos transgénic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2"/>
          <p:cNvSpPr/>
          <p:nvPr/>
        </p:nvSpPr>
        <p:spPr>
          <a:xfrm>
            <a:off x="324000" y="279360"/>
            <a:ext cx="858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s-ES" sz="2000" spc="-1" strike="noStrike">
                <a:solidFill>
                  <a:srgbClr val="0000ff"/>
                </a:solidFill>
                <a:latin typeface="Arial"/>
              </a:rPr>
              <a:t>QUIMICA BIOLOGICA</a:t>
            </a:r>
            <a:r>
              <a:rPr b="1" lang="es-ES" sz="2400" spc="-1" strike="noStrike">
                <a:solidFill>
                  <a:srgbClr val="0000ff"/>
                </a:solidFill>
                <a:latin typeface="Arial"/>
              </a:rPr>
              <a:t>             </a:t>
            </a:r>
            <a:r>
              <a:rPr b="1" lang="es-ES" sz="2000" spc="-1" strike="noStrike">
                <a:solidFill>
                  <a:srgbClr val="0000ff"/>
                </a:solidFill>
                <a:latin typeface="Arial"/>
              </a:rPr>
              <a:t>Ing. en Alim. y Lic. en CyT de los Ali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77360" y="301320"/>
            <a:ext cx="821844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 u="sng">
                <a:solidFill>
                  <a:srgbClr val="3333cc"/>
                </a:solidFill>
                <a:uFillTx/>
                <a:latin typeface="Arial"/>
              </a:rPr>
              <a:t>Transcripción de un gen eucariota, maduración del ARNm y traduc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9" name="Picture 6" descr="Gene_Intron_Exon"/>
          <p:cNvPicPr/>
          <p:nvPr/>
        </p:nvPicPr>
        <p:blipFill>
          <a:blip r:embed="rId1"/>
          <a:stretch/>
        </p:blipFill>
        <p:spPr>
          <a:xfrm>
            <a:off x="108000" y="749160"/>
            <a:ext cx="2287440" cy="2824200"/>
          </a:xfrm>
          <a:prstGeom prst="rect">
            <a:avLst/>
          </a:prstGeom>
          <a:ln w="0">
            <a:noFill/>
          </a:ln>
        </p:spPr>
      </p:pic>
      <p:sp>
        <p:nvSpPr>
          <p:cNvPr id="990" name="Rectangle 39"/>
          <p:cNvSpPr/>
          <p:nvPr/>
        </p:nvSpPr>
        <p:spPr>
          <a:xfrm>
            <a:off x="1054080" y="4392720"/>
            <a:ext cx="1018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oteín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1" name="Rectangle 52"/>
          <p:cNvSpPr/>
          <p:nvPr/>
        </p:nvSpPr>
        <p:spPr>
          <a:xfrm>
            <a:off x="5573880" y="4876920"/>
            <a:ext cx="2323800" cy="60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de-DE" sz="1800" spc="-1" strike="noStrike">
                <a:solidFill>
                  <a:srgbClr val="cc0055"/>
                </a:solidFill>
                <a:latin typeface="Arial"/>
              </a:rPr>
              <a:t>Modificacione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de-DE" sz="1800" spc="-1" strike="noStrike">
                <a:solidFill>
                  <a:srgbClr val="cc0055"/>
                </a:solidFill>
                <a:latin typeface="Arial"/>
              </a:rPr>
              <a:t>postransducciona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92" name="69 Grupo"/>
          <p:cNvGrpSpPr/>
          <p:nvPr/>
        </p:nvGrpSpPr>
        <p:grpSpPr>
          <a:xfrm>
            <a:off x="2639880" y="1268280"/>
            <a:ext cx="5964480" cy="1625760"/>
            <a:chOff x="2639880" y="1268280"/>
            <a:chExt cx="5964480" cy="1625760"/>
          </a:xfrm>
        </p:grpSpPr>
        <p:sp>
          <p:nvSpPr>
            <p:cNvPr id="993" name="Rectangle 7"/>
            <p:cNvSpPr/>
            <p:nvPr/>
          </p:nvSpPr>
          <p:spPr>
            <a:xfrm>
              <a:off x="2639880" y="1750680"/>
              <a:ext cx="773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de-DE" sz="1500" spc="-1" strike="noStrike">
                  <a:solidFill>
                    <a:srgbClr val="000000"/>
                  </a:solidFill>
                  <a:latin typeface="Arial"/>
                </a:rPr>
                <a:t>preARN: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94" name="Group 8"/>
            <p:cNvGrpSpPr/>
            <p:nvPr/>
          </p:nvGrpSpPr>
          <p:grpSpPr>
            <a:xfrm>
              <a:off x="3634200" y="1268280"/>
              <a:ext cx="4969800" cy="287280"/>
              <a:chOff x="3634200" y="1268280"/>
              <a:chExt cx="4969800" cy="287280"/>
            </a:xfrm>
          </p:grpSpPr>
          <p:sp>
            <p:nvSpPr>
              <p:cNvPr id="995" name="Rectangle 9"/>
              <p:cNvSpPr/>
              <p:nvPr/>
            </p:nvSpPr>
            <p:spPr>
              <a:xfrm>
                <a:off x="8158680" y="1268280"/>
                <a:ext cx="435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Arial"/>
                  </a:rPr>
                  <a:t>3'UTR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6" name="Rectangle 10"/>
              <p:cNvSpPr/>
              <p:nvPr/>
            </p:nvSpPr>
            <p:spPr>
              <a:xfrm>
                <a:off x="5797440" y="1268280"/>
                <a:ext cx="9360" cy="191880"/>
              </a:xfrm>
              <a:prstGeom prst="rect">
                <a:avLst/>
              </a:prstGeom>
              <a:noFill/>
              <a:ln w="93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spcBef>
                    <a:spcPts val="3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7" name="Rectangle 11"/>
              <p:cNvSpPr/>
              <p:nvPr/>
            </p:nvSpPr>
            <p:spPr>
              <a:xfrm>
                <a:off x="3634200" y="1268280"/>
                <a:ext cx="435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Arial"/>
                  </a:rPr>
                  <a:t>5'UTR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8" name="Line 12"/>
              <p:cNvSpPr/>
              <p:nvPr/>
            </p:nvSpPr>
            <p:spPr>
              <a:xfrm flipV="1">
                <a:off x="3719160" y="1482480"/>
                <a:ext cx="0" cy="68400"/>
              </a:xfrm>
              <a:prstGeom prst="line">
                <a:avLst/>
              </a:prstGeom>
              <a:ln w="1260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9" name="Line 13"/>
              <p:cNvSpPr/>
              <p:nvPr/>
            </p:nvSpPr>
            <p:spPr>
              <a:xfrm>
                <a:off x="3719160" y="1481040"/>
                <a:ext cx="4884840" cy="0"/>
              </a:xfrm>
              <a:prstGeom prst="line">
                <a:avLst/>
              </a:prstGeom>
              <a:ln w="1260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0" name="Line 14"/>
              <p:cNvSpPr/>
              <p:nvPr/>
            </p:nvSpPr>
            <p:spPr>
              <a:xfrm flipV="1">
                <a:off x="4005000" y="1481040"/>
                <a:ext cx="0" cy="71280"/>
              </a:xfrm>
              <a:prstGeom prst="line">
                <a:avLst/>
              </a:prstGeom>
              <a:ln w="1260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1" name="Line 15"/>
              <p:cNvSpPr/>
              <p:nvPr/>
            </p:nvSpPr>
            <p:spPr>
              <a:xfrm flipV="1">
                <a:off x="8181720" y="1484280"/>
                <a:ext cx="0" cy="71280"/>
              </a:xfrm>
              <a:prstGeom prst="line">
                <a:avLst/>
              </a:prstGeom>
              <a:ln w="1260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2" name="Line 16"/>
              <p:cNvSpPr/>
              <p:nvPr/>
            </p:nvSpPr>
            <p:spPr>
              <a:xfrm flipV="1">
                <a:off x="8596080" y="1477800"/>
                <a:ext cx="0" cy="71280"/>
              </a:xfrm>
              <a:prstGeom prst="line">
                <a:avLst/>
              </a:prstGeom>
              <a:ln w="1260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03" name="Rectangle 17"/>
            <p:cNvSpPr/>
            <p:nvPr/>
          </p:nvSpPr>
          <p:spPr>
            <a:xfrm>
              <a:off x="7202520" y="1790640"/>
              <a:ext cx="985680" cy="188640"/>
            </a:xfrm>
            <a:prstGeom prst="rect">
              <a:avLst/>
            </a:prstGeom>
            <a:solidFill>
              <a:srgbClr val="660033"/>
            </a:solidFill>
            <a:ln w="12600">
              <a:solidFill>
                <a:srgbClr val="66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4" name="Rectangle 18"/>
            <p:cNvSpPr/>
            <p:nvPr/>
          </p:nvSpPr>
          <p:spPr>
            <a:xfrm>
              <a:off x="4012920" y="1792080"/>
              <a:ext cx="630000" cy="188640"/>
            </a:xfrm>
            <a:prstGeom prst="rect">
              <a:avLst/>
            </a:prstGeom>
            <a:solidFill>
              <a:srgbClr val="660033"/>
            </a:solidFill>
            <a:ln w="12600">
              <a:solidFill>
                <a:srgbClr val="66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5" name="Rectangle 19"/>
            <p:cNvSpPr/>
            <p:nvPr/>
          </p:nvSpPr>
          <p:spPr>
            <a:xfrm>
              <a:off x="5079960" y="1792080"/>
              <a:ext cx="1023840" cy="188640"/>
            </a:xfrm>
            <a:prstGeom prst="rect">
              <a:avLst/>
            </a:prstGeom>
            <a:solidFill>
              <a:srgbClr val="660033"/>
            </a:solidFill>
            <a:ln w="12600">
              <a:solidFill>
                <a:srgbClr val="66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6" name="Rectangle 20"/>
            <p:cNvSpPr/>
            <p:nvPr/>
          </p:nvSpPr>
          <p:spPr>
            <a:xfrm>
              <a:off x="4173840" y="1609560"/>
              <a:ext cx="343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de-DE" sz="900" spc="-1" strike="noStrike">
                  <a:solidFill>
                    <a:srgbClr val="000000"/>
                  </a:solidFill>
                  <a:latin typeface="Times New Roman"/>
                </a:rPr>
                <a:t>Exon 1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7" name="Rectangle 21"/>
            <p:cNvSpPr/>
            <p:nvPr/>
          </p:nvSpPr>
          <p:spPr>
            <a:xfrm>
              <a:off x="5434560" y="1609560"/>
              <a:ext cx="343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de-DE" sz="900" spc="-1" strike="noStrike">
                  <a:solidFill>
                    <a:srgbClr val="000000"/>
                  </a:solidFill>
                  <a:latin typeface="Times New Roman"/>
                </a:rPr>
                <a:t>Exon 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8" name="Rectangle 22"/>
            <p:cNvSpPr/>
            <p:nvPr/>
          </p:nvSpPr>
          <p:spPr>
            <a:xfrm>
              <a:off x="7506360" y="1609560"/>
              <a:ext cx="343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de-DE" sz="900" spc="-1" strike="noStrike">
                  <a:solidFill>
                    <a:srgbClr val="000000"/>
                  </a:solidFill>
                  <a:latin typeface="Times New Roman"/>
                </a:rPr>
                <a:t>Exon 3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9" name="Rectangle 23"/>
            <p:cNvSpPr/>
            <p:nvPr/>
          </p:nvSpPr>
          <p:spPr>
            <a:xfrm>
              <a:off x="4670640" y="1674720"/>
              <a:ext cx="4060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de-DE" sz="900" spc="-1" strike="noStrike">
                  <a:solidFill>
                    <a:srgbClr val="000000"/>
                  </a:solidFill>
                  <a:latin typeface="Times New Roman"/>
                </a:rPr>
                <a:t>Intron 1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0" name="Rectangle 24"/>
            <p:cNvSpPr/>
            <p:nvPr/>
          </p:nvSpPr>
          <p:spPr>
            <a:xfrm>
              <a:off x="6451920" y="1674720"/>
              <a:ext cx="4060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de-DE" sz="900" spc="-1" strike="noStrike">
                  <a:solidFill>
                    <a:srgbClr val="000000"/>
                  </a:solidFill>
                  <a:latin typeface="Times New Roman"/>
                </a:rPr>
                <a:t>Intron 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1" name="Line 25"/>
            <p:cNvSpPr/>
            <p:nvPr/>
          </p:nvSpPr>
          <p:spPr>
            <a:xfrm>
              <a:off x="3719520" y="1898640"/>
              <a:ext cx="4884840" cy="0"/>
            </a:xfrm>
            <a:prstGeom prst="line">
              <a:avLst/>
            </a:prstGeom>
            <a:ln w="38160">
              <a:solidFill>
                <a:srgbClr val="66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2" name="Rectangle 26"/>
            <p:cNvSpPr/>
            <p:nvPr/>
          </p:nvSpPr>
          <p:spPr>
            <a:xfrm>
              <a:off x="7133040" y="2649600"/>
              <a:ext cx="8236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Arial"/>
                </a:rPr>
                <a:t>AAAAAAAAA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3" name="Rectangle 27"/>
            <p:cNvSpPr/>
            <p:nvPr/>
          </p:nvSpPr>
          <p:spPr>
            <a:xfrm>
              <a:off x="2640240" y="2665440"/>
              <a:ext cx="1396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de-DE" sz="1500" spc="-1" strike="noStrike">
                  <a:solidFill>
                    <a:srgbClr val="000000"/>
                  </a:solidFill>
                  <a:latin typeface="Arial"/>
                </a:rPr>
                <a:t>ARNm maduro: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4" name="Rectangle 29"/>
            <p:cNvSpPr/>
            <p:nvPr/>
          </p:nvSpPr>
          <p:spPr>
            <a:xfrm>
              <a:off x="7351560" y="2436840"/>
              <a:ext cx="424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polyA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5" name="Rectangle 30"/>
            <p:cNvSpPr/>
            <p:nvPr/>
          </p:nvSpPr>
          <p:spPr>
            <a:xfrm>
              <a:off x="4435560" y="2637000"/>
              <a:ext cx="630000" cy="188640"/>
            </a:xfrm>
            <a:prstGeom prst="rect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6" name="Rectangle 31"/>
            <p:cNvSpPr/>
            <p:nvPr/>
          </p:nvSpPr>
          <p:spPr>
            <a:xfrm>
              <a:off x="5073480" y="2637000"/>
              <a:ext cx="1023840" cy="188640"/>
            </a:xfrm>
            <a:prstGeom prst="rect">
              <a:avLst/>
            </a:prstGeom>
            <a:solidFill>
              <a:srgbClr val="92d05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7" name="Line 32"/>
            <p:cNvSpPr/>
            <p:nvPr/>
          </p:nvSpPr>
          <p:spPr>
            <a:xfrm>
              <a:off x="4144680" y="2733840"/>
              <a:ext cx="295200" cy="0"/>
            </a:xfrm>
            <a:prstGeom prst="line">
              <a:avLst/>
            </a:prstGeom>
            <a:ln w="38160">
              <a:solidFill>
                <a:srgbClr val="66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8" name="Rectangle 33"/>
            <p:cNvSpPr/>
            <p:nvPr/>
          </p:nvSpPr>
          <p:spPr>
            <a:xfrm>
              <a:off x="4458600" y="2665440"/>
              <a:ext cx="282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Arial"/>
                </a:rPr>
                <a:t>AUG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9" name="Line 34"/>
            <p:cNvSpPr/>
            <p:nvPr/>
          </p:nvSpPr>
          <p:spPr>
            <a:xfrm>
              <a:off x="4336920" y="2073240"/>
              <a:ext cx="45720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0" name="Line 35"/>
            <p:cNvSpPr/>
            <p:nvPr/>
          </p:nvSpPr>
          <p:spPr>
            <a:xfrm>
              <a:off x="5619600" y="2073240"/>
              <a:ext cx="0" cy="444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1" name="Line 36"/>
            <p:cNvSpPr/>
            <p:nvPr/>
          </p:nvSpPr>
          <p:spPr>
            <a:xfrm flipH="1">
              <a:off x="6966000" y="2085840"/>
              <a:ext cx="406080" cy="406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2" name="Rectangle 37"/>
            <p:cNvSpPr/>
            <p:nvPr/>
          </p:nvSpPr>
          <p:spPr>
            <a:xfrm>
              <a:off x="6114960" y="2637000"/>
              <a:ext cx="1023840" cy="188640"/>
            </a:xfrm>
            <a:prstGeom prst="rect">
              <a:avLst/>
            </a:prstGeom>
            <a:solidFill>
              <a:srgbClr val="cc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3" name="Text Box 38"/>
            <p:cNvSpPr/>
            <p:nvPr/>
          </p:nvSpPr>
          <p:spPr>
            <a:xfrm>
              <a:off x="6772320" y="2611440"/>
              <a:ext cx="49824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UAA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4" name="Rectangle 60"/>
            <p:cNvSpPr/>
            <p:nvPr/>
          </p:nvSpPr>
          <p:spPr>
            <a:xfrm>
              <a:off x="4014720" y="1790640"/>
              <a:ext cx="630000" cy="188640"/>
            </a:xfrm>
            <a:prstGeom prst="rect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5" name="Rectangle 61"/>
            <p:cNvSpPr/>
            <p:nvPr/>
          </p:nvSpPr>
          <p:spPr>
            <a:xfrm>
              <a:off x="4042800" y="1819080"/>
              <a:ext cx="282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de-DE" sz="1000" spc="-1" strike="noStrike">
                  <a:solidFill>
                    <a:srgbClr val="ffffff"/>
                  </a:solidFill>
                  <a:latin typeface="Arial"/>
                </a:rPr>
                <a:t>AUG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6" name="Rectangle 62"/>
            <p:cNvSpPr/>
            <p:nvPr/>
          </p:nvSpPr>
          <p:spPr>
            <a:xfrm>
              <a:off x="5081400" y="1790640"/>
              <a:ext cx="1023840" cy="188640"/>
            </a:xfrm>
            <a:prstGeom prst="rect">
              <a:avLst/>
            </a:prstGeom>
            <a:solidFill>
              <a:srgbClr val="92d05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7" name="Rectangle 63"/>
            <p:cNvSpPr/>
            <p:nvPr/>
          </p:nvSpPr>
          <p:spPr>
            <a:xfrm>
              <a:off x="7139160" y="1790640"/>
              <a:ext cx="1023840" cy="188640"/>
            </a:xfrm>
            <a:prstGeom prst="rect">
              <a:avLst/>
            </a:prstGeom>
            <a:solidFill>
              <a:srgbClr val="cc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8" name="Rectangle 64"/>
            <p:cNvSpPr/>
            <p:nvPr/>
          </p:nvSpPr>
          <p:spPr>
            <a:xfrm>
              <a:off x="7912440" y="1819080"/>
              <a:ext cx="275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Arial"/>
                </a:rPr>
                <a:t>UAA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9" name="Rectangle 28"/>
          <p:cNvSpPr/>
          <p:nvPr/>
        </p:nvSpPr>
        <p:spPr>
          <a:xfrm>
            <a:off x="4688640" y="2138400"/>
            <a:ext cx="2387160" cy="182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de-DE" sz="1200" spc="-1" strike="noStrike">
                <a:solidFill>
                  <a:srgbClr val="660033"/>
                </a:solidFill>
                <a:latin typeface="Arial"/>
              </a:rPr>
              <a:t>5‘CAP / Polyadenylation/Splic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30" name="Grupo 9"/>
          <p:cNvGrpSpPr/>
          <p:nvPr/>
        </p:nvGrpSpPr>
        <p:grpSpPr>
          <a:xfrm>
            <a:off x="1619280" y="2786040"/>
            <a:ext cx="7416720" cy="865080"/>
            <a:chOff x="1619280" y="2786040"/>
            <a:chExt cx="7416720" cy="865080"/>
          </a:xfrm>
        </p:grpSpPr>
        <p:sp>
          <p:nvSpPr>
            <p:cNvPr id="1031" name="Rectangle 66"/>
            <p:cNvSpPr/>
            <p:nvPr/>
          </p:nvSpPr>
          <p:spPr>
            <a:xfrm>
              <a:off x="1619280" y="3357360"/>
              <a:ext cx="7416720" cy="293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600" spc="-1" strike="noStrike">
                  <a:solidFill>
                    <a:srgbClr val="002060"/>
                  </a:solidFill>
                  <a:latin typeface="Arial"/>
                </a:rPr>
                <a:t>5’metGG</a:t>
              </a:r>
              <a:r>
                <a:rPr b="1" lang="en-US" sz="1600" spc="-1" strike="noStrike">
                  <a:solidFill>
                    <a:srgbClr val="ff6600"/>
                  </a:solidFill>
                  <a:latin typeface="Arial"/>
                </a:rPr>
                <a:t>AUG…….CAG</a:t>
              </a:r>
              <a:r>
                <a:rPr b="1" lang="en-US" sz="1600" spc="-1" strike="noStrike">
                  <a:solidFill>
                    <a:srgbClr val="00b050"/>
                  </a:solidFill>
                  <a:latin typeface="Arial"/>
                </a:rPr>
                <a:t>UGGAAA……..CUA</a:t>
              </a:r>
              <a:r>
                <a:rPr b="1" lang="en-US" sz="1600" spc="-1" strike="noStrike">
                  <a:solidFill>
                    <a:srgbClr val="cc66ff"/>
                  </a:solidFill>
                  <a:latin typeface="Arial"/>
                </a:rPr>
                <a:t>GUCGCC……..UAA</a:t>
              </a:r>
              <a:r>
                <a:rPr b="1" lang="en-US" sz="1600" spc="-1" strike="noStrike">
                  <a:solidFill>
                    <a:srgbClr val="002060"/>
                  </a:solidFill>
                  <a:latin typeface="Arial"/>
                </a:rPr>
                <a:t>AAAA…AAA-3</a:t>
              </a:r>
              <a:r>
                <a:rPr b="1" lang="en-US" sz="1800" spc="-1" strike="noStrike">
                  <a:solidFill>
                    <a:srgbClr val="262699"/>
                  </a:solidFill>
                  <a:latin typeface="Arial"/>
                </a:rPr>
                <a:t>’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Conector recto 2"/>
            <p:cNvSpPr/>
            <p:nvPr/>
          </p:nvSpPr>
          <p:spPr>
            <a:xfrm flipH="1">
              <a:off x="1979280" y="2786040"/>
              <a:ext cx="234648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3" name="Conector recto 5"/>
            <p:cNvSpPr/>
            <p:nvPr/>
          </p:nvSpPr>
          <p:spPr>
            <a:xfrm>
              <a:off x="7945560" y="2877480"/>
              <a:ext cx="837360" cy="56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4" name="Rectangle 41"/>
          <p:cNvSpPr/>
          <p:nvPr/>
        </p:nvSpPr>
        <p:spPr>
          <a:xfrm>
            <a:off x="2637000" y="5907240"/>
            <a:ext cx="855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000" spc="-1" strike="noStrike">
                <a:solidFill>
                  <a:srgbClr val="004eff"/>
                </a:solidFill>
                <a:latin typeface="Arial"/>
              </a:rPr>
              <a:t>MCPLTW....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5" name="Rectangle 42"/>
          <p:cNvSpPr/>
          <p:nvPr/>
        </p:nvSpPr>
        <p:spPr>
          <a:xfrm>
            <a:off x="6635880" y="5907240"/>
            <a:ext cx="745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000" spc="-1" strike="noStrike">
                <a:solidFill>
                  <a:srgbClr val="004eff"/>
                </a:solidFill>
                <a:latin typeface="Arial"/>
              </a:rPr>
              <a:t>..............GFL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36" name="Grupo 75"/>
          <p:cNvGrpSpPr/>
          <p:nvPr/>
        </p:nvGrpSpPr>
        <p:grpSpPr>
          <a:xfrm>
            <a:off x="2556000" y="5668920"/>
            <a:ext cx="4932360" cy="193680"/>
            <a:chOff x="2556000" y="5668920"/>
            <a:chExt cx="4932360" cy="193680"/>
          </a:xfrm>
        </p:grpSpPr>
        <p:sp>
          <p:nvSpPr>
            <p:cNvPr id="1037" name="Rectangle 43"/>
            <p:cNvSpPr/>
            <p:nvPr/>
          </p:nvSpPr>
          <p:spPr>
            <a:xfrm>
              <a:off x="5796360" y="5668920"/>
              <a:ext cx="1692000" cy="1922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8" name="Rectangle 44"/>
            <p:cNvSpPr/>
            <p:nvPr/>
          </p:nvSpPr>
          <p:spPr>
            <a:xfrm>
              <a:off x="2556000" y="5668920"/>
              <a:ext cx="1404000" cy="1922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9" name="Rectangle 45"/>
            <p:cNvSpPr/>
            <p:nvPr/>
          </p:nvSpPr>
          <p:spPr>
            <a:xfrm>
              <a:off x="3924000" y="5668920"/>
              <a:ext cx="1908000" cy="19368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40" name="Rectangle 58"/>
          <p:cNvSpPr/>
          <p:nvPr/>
        </p:nvSpPr>
        <p:spPr>
          <a:xfrm>
            <a:off x="5364000" y="5548320"/>
            <a:ext cx="76320" cy="15228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1" name="Rectangle 59"/>
          <p:cNvSpPr/>
          <p:nvPr/>
        </p:nvSpPr>
        <p:spPr>
          <a:xfrm>
            <a:off x="5580000" y="5764320"/>
            <a:ext cx="76320" cy="152280"/>
          </a:xfrm>
          <a:prstGeom prst="rect">
            <a:avLst/>
          </a:prstGeom>
          <a:solidFill>
            <a:srgbClr val="99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2" name="Rectangle 40"/>
          <p:cNvSpPr/>
          <p:nvPr/>
        </p:nvSpPr>
        <p:spPr>
          <a:xfrm>
            <a:off x="3703680" y="5516640"/>
            <a:ext cx="16794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3" name="Rectangle 58"/>
          <p:cNvSpPr/>
          <p:nvPr/>
        </p:nvSpPr>
        <p:spPr>
          <a:xfrm>
            <a:off x="3708360" y="5797440"/>
            <a:ext cx="76320" cy="152640"/>
          </a:xfrm>
          <a:prstGeom prst="rect">
            <a:avLst/>
          </a:prstGeom>
          <a:solidFill>
            <a:srgbClr val="00b05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44" name="Grupo 11"/>
          <p:cNvGrpSpPr/>
          <p:nvPr/>
        </p:nvGrpSpPr>
        <p:grpSpPr>
          <a:xfrm>
            <a:off x="2556000" y="3716280"/>
            <a:ext cx="4932360" cy="1161000"/>
            <a:chOff x="2556000" y="3716280"/>
            <a:chExt cx="4932360" cy="1161000"/>
          </a:xfrm>
        </p:grpSpPr>
        <p:sp>
          <p:nvSpPr>
            <p:cNvPr id="1045" name="Rectangle 41"/>
            <p:cNvSpPr/>
            <p:nvPr/>
          </p:nvSpPr>
          <p:spPr>
            <a:xfrm>
              <a:off x="2637720" y="4724640"/>
              <a:ext cx="854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de-DE" sz="1000" spc="-1" strike="noStrike">
                  <a:solidFill>
                    <a:srgbClr val="004eff"/>
                  </a:solidFill>
                  <a:latin typeface="Arial"/>
                </a:rPr>
                <a:t>MCPLTW.....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6" name="Rectangle 42"/>
            <p:cNvSpPr/>
            <p:nvPr/>
          </p:nvSpPr>
          <p:spPr>
            <a:xfrm>
              <a:off x="6636240" y="4724640"/>
              <a:ext cx="745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de-DE" sz="1000" spc="-1" strike="noStrike">
                  <a:solidFill>
                    <a:srgbClr val="004eff"/>
                  </a:solidFill>
                  <a:latin typeface="Arial"/>
                </a:rPr>
                <a:t>..............GFL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47" name="Grupo 10"/>
            <p:cNvGrpSpPr/>
            <p:nvPr/>
          </p:nvGrpSpPr>
          <p:grpSpPr>
            <a:xfrm>
              <a:off x="2556000" y="4485240"/>
              <a:ext cx="4932360" cy="194760"/>
              <a:chOff x="2556000" y="4485240"/>
              <a:chExt cx="4932360" cy="194760"/>
            </a:xfrm>
          </p:grpSpPr>
          <p:sp>
            <p:nvSpPr>
              <p:cNvPr id="1048" name="Rectangle 43"/>
              <p:cNvSpPr/>
              <p:nvPr/>
            </p:nvSpPr>
            <p:spPr>
              <a:xfrm>
                <a:off x="5796360" y="4485240"/>
                <a:ext cx="1692000" cy="193320"/>
              </a:xfrm>
              <a:prstGeom prst="rect">
                <a:avLst/>
              </a:prstGeom>
              <a:blipFill rotWithShape="0">
                <a:blip r:embed="rId5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9" name="Rectangle 44"/>
              <p:cNvSpPr/>
              <p:nvPr/>
            </p:nvSpPr>
            <p:spPr>
              <a:xfrm>
                <a:off x="2556000" y="4485240"/>
                <a:ext cx="1404000" cy="193320"/>
              </a:xfrm>
              <a:prstGeom prst="rect">
                <a:avLst/>
              </a:prstGeom>
              <a:blipFill rotWithShape="0">
                <a:blip r:embed="rId6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0" name="Rectangle 45"/>
              <p:cNvSpPr/>
              <p:nvPr/>
            </p:nvSpPr>
            <p:spPr>
              <a:xfrm>
                <a:off x="3924000" y="4485240"/>
                <a:ext cx="1908000" cy="194760"/>
              </a:xfrm>
              <a:prstGeom prst="rect">
                <a:avLst/>
              </a:prstGeom>
              <a:blipFill rotWithShape="0">
                <a:blip r:embed="rId7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51" name="Rectangle 40"/>
            <p:cNvSpPr/>
            <p:nvPr/>
          </p:nvSpPr>
          <p:spPr>
            <a:xfrm>
              <a:off x="3703680" y="4334040"/>
              <a:ext cx="167940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2" name="Line 46"/>
            <p:cNvSpPr/>
            <p:nvPr/>
          </p:nvSpPr>
          <p:spPr>
            <a:xfrm>
              <a:off x="5220360" y="3716280"/>
              <a:ext cx="0" cy="617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3" name="Rectangle 39"/>
            <p:cNvSpPr/>
            <p:nvPr/>
          </p:nvSpPr>
          <p:spPr>
            <a:xfrm>
              <a:off x="5435640" y="3860280"/>
              <a:ext cx="16419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de-DE" sz="2400" spc="-1" strike="noStrike">
                  <a:solidFill>
                    <a:srgbClr val="ff0000"/>
                  </a:solidFill>
                  <a:latin typeface="Arial"/>
                </a:rPr>
                <a:t>Traducción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54" name="Line 46"/>
          <p:cNvSpPr/>
          <p:nvPr/>
        </p:nvSpPr>
        <p:spPr>
          <a:xfrm>
            <a:off x="5219640" y="4898880"/>
            <a:ext cx="0" cy="6177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9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Desformilación (eliminación de grupo formilo de la fMET inicial por </a:t>
            </a:r>
            <a:r>
              <a:rPr b="1" i="1" lang="en-US" sz="2000" spc="-1" strike="noStrike">
                <a:solidFill>
                  <a:srgbClr val="008000"/>
                </a:solidFill>
                <a:latin typeface="Arial"/>
              </a:rPr>
              <a:t>deformilasas</a:t>
            </a: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 en procariota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Glicosidación (adición de cadenas de oliosacáridos a las proteínas por acción de las </a:t>
            </a:r>
            <a:r>
              <a:rPr b="1" i="1" lang="en-US" sz="2000" spc="-1" strike="noStrike">
                <a:solidFill>
                  <a:srgbClr val="ff3300"/>
                </a:solidFill>
                <a:latin typeface="Arial"/>
              </a:rPr>
              <a:t>glucosil transferasas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Formación de puentes disulfuros -S-S- (entre grupos –SH de cisteínas dentro de la misma cadena o de cadenas diferentes por acción de </a:t>
            </a:r>
            <a:r>
              <a:rPr b="1" i="1" lang="en-US" sz="2000" spc="-1" strike="noStrike">
                <a:solidFill>
                  <a:srgbClr val="3333cc"/>
                </a:solidFill>
                <a:latin typeface="Arial"/>
              </a:rPr>
              <a:t>proteín-disulfuro isomerasa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Fosforil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b0f0"/>
                </a:solidFill>
                <a:latin typeface="Arial"/>
              </a:rPr>
              <a:t>Acetil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92d050"/>
                </a:solidFill>
                <a:latin typeface="Arial"/>
              </a:rPr>
              <a:t>Metil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800" spc="-1" strike="noStrike" u="sng">
                <a:solidFill>
                  <a:srgbClr val="333399"/>
                </a:solidFill>
                <a:uFillTx/>
                <a:latin typeface="Arial"/>
              </a:rPr>
              <a:t>Modificaciones postraduccionales de las proteín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800" spc="-1" strike="noStrike" u="sng">
                <a:solidFill>
                  <a:srgbClr val="333399"/>
                </a:solidFill>
                <a:uFillTx/>
                <a:latin typeface="Arial"/>
              </a:rPr>
              <a:t>Modificaciones postraduccion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8" name="Group 2"/>
          <p:cNvGrpSpPr/>
          <p:nvPr/>
        </p:nvGrpSpPr>
        <p:grpSpPr>
          <a:xfrm>
            <a:off x="852120" y="974880"/>
            <a:ext cx="3358440" cy="2337840"/>
            <a:chOff x="852120" y="974880"/>
            <a:chExt cx="3358440" cy="2337840"/>
          </a:xfrm>
        </p:grpSpPr>
        <p:pic>
          <p:nvPicPr>
            <p:cNvPr id="1059" name="Picture 3" descr=""/>
            <p:cNvPicPr/>
            <p:nvPr/>
          </p:nvPicPr>
          <p:blipFill>
            <a:blip r:embed="rId1"/>
            <a:stretch/>
          </p:blipFill>
          <p:spPr>
            <a:xfrm>
              <a:off x="1076040" y="1412640"/>
              <a:ext cx="2989440" cy="19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0" name="Text Box 4"/>
            <p:cNvSpPr/>
            <p:nvPr/>
          </p:nvSpPr>
          <p:spPr>
            <a:xfrm>
              <a:off x="852120" y="974880"/>
              <a:ext cx="335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8000"/>
                  </a:solidFill>
                  <a:latin typeface="Arial"/>
                </a:rPr>
                <a:t>Fosforilación-Defosforilació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61" name="Group 5"/>
          <p:cNvGrpSpPr/>
          <p:nvPr/>
        </p:nvGrpSpPr>
        <p:grpSpPr>
          <a:xfrm>
            <a:off x="4848120" y="981000"/>
            <a:ext cx="3637080" cy="2373120"/>
            <a:chOff x="4848120" y="981000"/>
            <a:chExt cx="3637080" cy="2373120"/>
          </a:xfrm>
        </p:grpSpPr>
        <p:pic>
          <p:nvPicPr>
            <p:cNvPr id="1062" name="Picture 6" descr=""/>
            <p:cNvPicPr/>
            <p:nvPr/>
          </p:nvPicPr>
          <p:blipFill>
            <a:blip r:embed="rId2"/>
            <a:stretch/>
          </p:blipFill>
          <p:spPr>
            <a:xfrm>
              <a:off x="4848120" y="1412640"/>
              <a:ext cx="3637080" cy="194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3" name="Text Box 7"/>
            <p:cNvSpPr/>
            <p:nvPr/>
          </p:nvSpPr>
          <p:spPr>
            <a:xfrm>
              <a:off x="5906160" y="981000"/>
              <a:ext cx="140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8000"/>
                  </a:solidFill>
                  <a:latin typeface="Arial"/>
                </a:rPr>
                <a:t>Acetilació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64" name="Group 8"/>
          <p:cNvGrpSpPr/>
          <p:nvPr/>
        </p:nvGrpSpPr>
        <p:grpSpPr>
          <a:xfrm>
            <a:off x="465120" y="3573360"/>
            <a:ext cx="4021200" cy="2550960"/>
            <a:chOff x="465120" y="3573360"/>
            <a:chExt cx="4021200" cy="2550960"/>
          </a:xfrm>
        </p:grpSpPr>
        <p:pic>
          <p:nvPicPr>
            <p:cNvPr id="1065" name="Picture 9" descr=""/>
            <p:cNvPicPr/>
            <p:nvPr/>
          </p:nvPicPr>
          <p:blipFill>
            <a:blip r:embed="rId3"/>
            <a:stretch/>
          </p:blipFill>
          <p:spPr>
            <a:xfrm>
              <a:off x="465120" y="3938400"/>
              <a:ext cx="4021200" cy="218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6" name="Text Box 10"/>
            <p:cNvSpPr/>
            <p:nvPr/>
          </p:nvSpPr>
          <p:spPr>
            <a:xfrm>
              <a:off x="1476720" y="3573360"/>
              <a:ext cx="169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8000"/>
                  </a:solidFill>
                  <a:latin typeface="Arial"/>
                </a:rPr>
                <a:t>Carboxilació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67" name="Group 11"/>
          <p:cNvGrpSpPr/>
          <p:nvPr/>
        </p:nvGrpSpPr>
        <p:grpSpPr>
          <a:xfrm>
            <a:off x="4648320" y="3573360"/>
            <a:ext cx="4037040" cy="2517480"/>
            <a:chOff x="4648320" y="3573360"/>
            <a:chExt cx="4037040" cy="2517480"/>
          </a:xfrm>
        </p:grpSpPr>
        <p:pic>
          <p:nvPicPr>
            <p:cNvPr id="1068" name="Picture 12" descr=""/>
            <p:cNvPicPr/>
            <p:nvPr/>
          </p:nvPicPr>
          <p:blipFill>
            <a:blip r:embed="rId4"/>
            <a:stretch/>
          </p:blipFill>
          <p:spPr>
            <a:xfrm>
              <a:off x="4648320" y="3971520"/>
              <a:ext cx="403704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9" name="Text Box 13"/>
            <p:cNvSpPr/>
            <p:nvPr/>
          </p:nvSpPr>
          <p:spPr>
            <a:xfrm>
              <a:off x="6078600" y="3573360"/>
              <a:ext cx="1299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8000"/>
                  </a:solidFill>
                  <a:latin typeface="Arial"/>
                </a:rPr>
                <a:t>Metilació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3" dur="5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8" dur="5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3" dur="20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0" name="Picture 1" descr=""/>
          <p:cNvPicPr/>
          <p:nvPr/>
        </p:nvPicPr>
        <p:blipFill>
          <a:blip r:embed="rId1"/>
          <a:stretch/>
        </p:blipFill>
        <p:spPr>
          <a:xfrm>
            <a:off x="1330200" y="549360"/>
            <a:ext cx="6697800" cy="5621400"/>
          </a:xfrm>
          <a:prstGeom prst="rect">
            <a:avLst/>
          </a:prstGeom>
          <a:ln w="25560">
            <a:solidFill>
              <a:srgbClr val="000080"/>
            </a:solidFill>
            <a:miter/>
          </a:ln>
        </p:spPr>
      </p:pic>
      <p:sp>
        <p:nvSpPr>
          <p:cNvPr id="1071" name="CuadroTexto 1"/>
          <p:cNvSpPr/>
          <p:nvPr/>
        </p:nvSpPr>
        <p:spPr>
          <a:xfrm>
            <a:off x="582840" y="1116000"/>
            <a:ext cx="4564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AR" sz="2800" spc="-1" strike="noStrike">
                <a:solidFill>
                  <a:srgbClr val="ff0000"/>
                </a:solidFill>
                <a:latin typeface="Arial"/>
              </a:rPr>
              <a:t>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AR" sz="2800" spc="-1" strike="noStrike">
                <a:solidFill>
                  <a:srgbClr val="ff0000"/>
                </a:solidFill>
                <a:latin typeface="Arial"/>
              </a:rPr>
              <a:t>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AR" sz="2800" spc="-1" strike="noStrike">
                <a:solidFill>
                  <a:srgbClr val="ff0000"/>
                </a:solidFill>
                <a:latin typeface="Arial"/>
              </a:rPr>
              <a:t>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AR" sz="2800" spc="-1" strike="noStrike">
                <a:solidFill>
                  <a:srgbClr val="ff0000"/>
                </a:solidFill>
                <a:latin typeface="Arial"/>
              </a:rPr>
              <a:t>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AR" sz="2800" spc="-1" strike="noStrike">
                <a:solidFill>
                  <a:srgbClr val="ff0000"/>
                </a:solidFill>
                <a:latin typeface="Arial"/>
              </a:rPr>
              <a:t>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AR" sz="28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AR" sz="28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AR" sz="2800" spc="-1" strike="noStrike">
                <a:solidFill>
                  <a:srgbClr val="ff0000"/>
                </a:solidFill>
                <a:latin typeface="Arial"/>
              </a:rPr>
              <a:t>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AR" sz="2800" spc="-1" strike="noStrike">
                <a:solidFill>
                  <a:srgbClr val="ff0000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AR" sz="2800" spc="-1" strike="noStrike">
                <a:solidFill>
                  <a:srgbClr val="ff0000"/>
                </a:solidFill>
                <a:latin typeface="Arial"/>
              </a:rPr>
              <a:t>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Elipse 1"/>
          <p:cNvSpPr/>
          <p:nvPr/>
        </p:nvSpPr>
        <p:spPr>
          <a:xfrm>
            <a:off x="3276720" y="1413000"/>
            <a:ext cx="3095640" cy="576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Text Box 1"/>
          <p:cNvSpPr/>
          <p:nvPr/>
        </p:nvSpPr>
        <p:spPr>
          <a:xfrm>
            <a:off x="684360" y="333360"/>
            <a:ext cx="777528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82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800" spc="-1" strike="noStrike" u="sng">
                <a:solidFill>
                  <a:srgbClr val="008000"/>
                </a:solidFill>
                <a:uFillTx/>
                <a:latin typeface="Arial"/>
              </a:rPr>
              <a:t>Regulación transcripcional en eucariota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74" name="Group 2"/>
          <p:cNvGrpSpPr/>
          <p:nvPr/>
        </p:nvGrpSpPr>
        <p:grpSpPr>
          <a:xfrm>
            <a:off x="1042920" y="404640"/>
            <a:ext cx="7270560" cy="2263680"/>
            <a:chOff x="1042920" y="404640"/>
            <a:chExt cx="7270560" cy="2263680"/>
          </a:xfrm>
        </p:grpSpPr>
        <p:grpSp>
          <p:nvGrpSpPr>
            <p:cNvPr id="1075" name="Group 3"/>
            <p:cNvGrpSpPr/>
            <p:nvPr/>
          </p:nvGrpSpPr>
          <p:grpSpPr>
            <a:xfrm>
              <a:off x="1042920" y="404640"/>
              <a:ext cx="7269480" cy="2263680"/>
              <a:chOff x="1042920" y="404640"/>
              <a:chExt cx="7269480" cy="2263680"/>
            </a:xfrm>
          </p:grpSpPr>
          <p:grpSp>
            <p:nvGrpSpPr>
              <p:cNvPr id="1076" name="Group 4"/>
              <p:cNvGrpSpPr/>
              <p:nvPr/>
            </p:nvGrpSpPr>
            <p:grpSpPr>
              <a:xfrm>
                <a:off x="1042920" y="811080"/>
                <a:ext cx="7269480" cy="1857240"/>
                <a:chOff x="1042920" y="811080"/>
                <a:chExt cx="7269480" cy="1857240"/>
              </a:xfrm>
            </p:grpSpPr>
            <p:sp>
              <p:nvSpPr>
                <p:cNvPr id="1077" name="Line 5"/>
                <p:cNvSpPr/>
                <p:nvPr/>
              </p:nvSpPr>
              <p:spPr>
                <a:xfrm>
                  <a:off x="1042920" y="1505880"/>
                  <a:ext cx="7269480" cy="10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78" name="Text Box 6"/>
                <p:cNvSpPr/>
                <p:nvPr/>
              </p:nvSpPr>
              <p:spPr>
                <a:xfrm>
                  <a:off x="1595160" y="1332720"/>
                  <a:ext cx="2300760" cy="3488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GC    CAAT          TATA        Inr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79" name="Text Box 7"/>
                <p:cNvSpPr/>
                <p:nvPr/>
              </p:nvSpPr>
              <p:spPr>
                <a:xfrm>
                  <a:off x="4172040" y="1332720"/>
                  <a:ext cx="736200" cy="3488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Exon 1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80" name="Text Box 8"/>
                <p:cNvSpPr/>
                <p:nvPr/>
              </p:nvSpPr>
              <p:spPr>
                <a:xfrm>
                  <a:off x="5459040" y="1332720"/>
                  <a:ext cx="736560" cy="3488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Exon 2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81" name="Text Box 9"/>
                <p:cNvSpPr/>
                <p:nvPr/>
              </p:nvSpPr>
              <p:spPr>
                <a:xfrm>
                  <a:off x="6931800" y="1332720"/>
                  <a:ext cx="736200" cy="3488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Exon 3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82" name="Text Box 10"/>
                <p:cNvSpPr/>
                <p:nvPr/>
              </p:nvSpPr>
              <p:spPr>
                <a:xfrm>
                  <a:off x="2423520" y="811080"/>
                  <a:ext cx="736200" cy="349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Promotor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83" name="Text Box 11"/>
                <p:cNvSpPr/>
                <p:nvPr/>
              </p:nvSpPr>
              <p:spPr>
                <a:xfrm>
                  <a:off x="4078440" y="811080"/>
                  <a:ext cx="367920" cy="349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atg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84" name="Line 12"/>
                <p:cNvSpPr/>
                <p:nvPr/>
              </p:nvSpPr>
              <p:spPr>
                <a:xfrm>
                  <a:off x="4172040" y="985320"/>
                  <a:ext cx="1440" cy="347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85" name="Group 13"/>
                <p:cNvGrpSpPr/>
                <p:nvPr/>
              </p:nvGrpSpPr>
              <p:grpSpPr>
                <a:xfrm>
                  <a:off x="4172040" y="1681920"/>
                  <a:ext cx="274320" cy="345600"/>
                  <a:chOff x="4172040" y="1681920"/>
                  <a:chExt cx="274320" cy="345600"/>
                </a:xfrm>
              </p:grpSpPr>
              <p:sp>
                <p:nvSpPr>
                  <p:cNvPr id="1086" name="Line 14"/>
                  <p:cNvSpPr/>
                  <p:nvPr/>
                </p:nvSpPr>
                <p:spPr>
                  <a:xfrm>
                    <a:off x="4172040" y="1681920"/>
                    <a:ext cx="1440" cy="3445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7" name="Line 15"/>
                  <p:cNvSpPr/>
                  <p:nvPr/>
                </p:nvSpPr>
                <p:spPr>
                  <a:xfrm>
                    <a:off x="4172040" y="2026440"/>
                    <a:ext cx="274320" cy="10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88" name="Text Box 16"/>
                <p:cNvSpPr/>
                <p:nvPr/>
              </p:nvSpPr>
              <p:spPr>
                <a:xfrm>
                  <a:off x="4172040" y="2029320"/>
                  <a:ext cx="367920" cy="348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+1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89" name="Text Box 17"/>
                <p:cNvSpPr/>
                <p:nvPr/>
              </p:nvSpPr>
              <p:spPr>
                <a:xfrm>
                  <a:off x="5551200" y="2029320"/>
                  <a:ext cx="644400" cy="348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Intrones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90" name="Line 18"/>
                <p:cNvSpPr/>
                <p:nvPr/>
              </p:nvSpPr>
              <p:spPr>
                <a:xfrm flipH="1" flipV="1">
                  <a:off x="5181120" y="1505520"/>
                  <a:ext cx="279000" cy="524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91" name="Line 19"/>
                <p:cNvSpPr/>
                <p:nvPr/>
              </p:nvSpPr>
              <p:spPr>
                <a:xfrm flipV="1">
                  <a:off x="6195600" y="1505520"/>
                  <a:ext cx="275760" cy="524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92" name="Text Box 20"/>
                <p:cNvSpPr/>
                <p:nvPr/>
              </p:nvSpPr>
              <p:spPr>
                <a:xfrm>
                  <a:off x="1779120" y="2029320"/>
                  <a:ext cx="1380600" cy="348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Sitios reguladores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93" name="Line 21"/>
                <p:cNvSpPr/>
                <p:nvPr/>
              </p:nvSpPr>
              <p:spPr>
                <a:xfrm flipH="1" flipV="1">
                  <a:off x="1777320" y="1680120"/>
                  <a:ext cx="186840" cy="350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94" name="Line 22"/>
                <p:cNvSpPr/>
                <p:nvPr/>
              </p:nvSpPr>
              <p:spPr>
                <a:xfrm flipV="1">
                  <a:off x="2331360" y="1680120"/>
                  <a:ext cx="1080" cy="350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95" name="Line 23"/>
                <p:cNvSpPr/>
                <p:nvPr/>
              </p:nvSpPr>
              <p:spPr>
                <a:xfrm flipV="1">
                  <a:off x="2975400" y="1680120"/>
                  <a:ext cx="91800" cy="350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96" name="Text Box 24"/>
                <p:cNvSpPr/>
                <p:nvPr/>
              </p:nvSpPr>
              <p:spPr>
                <a:xfrm>
                  <a:off x="3251880" y="2029320"/>
                  <a:ext cx="828000" cy="63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Región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iniciadora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97" name="Line 25"/>
                <p:cNvSpPr/>
                <p:nvPr/>
              </p:nvSpPr>
              <p:spPr>
                <a:xfrm flipV="1">
                  <a:off x="3710520" y="1680120"/>
                  <a:ext cx="1080" cy="350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98" name="AutoShape 26"/>
                <p:cNvSpPr/>
                <p:nvPr/>
              </p:nvSpPr>
              <p:spPr>
                <a:xfrm rot="5400000">
                  <a:off x="2657880" y="96840"/>
                  <a:ext cx="174240" cy="2300760"/>
                </a:xfrm>
                <a:custGeom>
                  <a:avLst/>
                  <a:gdLst>
                    <a:gd name="textAreaLeft" fmla="*/ 111240 w 174240"/>
                    <a:gd name="textAreaRight" fmla="*/ 174600 w 174240"/>
                    <a:gd name="textAreaTop" fmla="*/ 59760 h 2300760"/>
                    <a:gd name="textAreaBottom" fmla="*/ 2241000 h 23007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cubicBezTo>
                        <a:pt x="16200" y="0"/>
                        <a:pt x="10800" y="900"/>
                        <a:pt x="10800" y="1800"/>
                      </a:cubicBezTo>
                      <a:lnTo>
                        <a:pt x="10800" y="9450"/>
                      </a:lnTo>
                      <a:cubicBezTo>
                        <a:pt x="10800" y="10350"/>
                        <a:pt x="5400" y="11250"/>
                        <a:pt x="0" y="11250"/>
                      </a:cubicBezTo>
                      <a:cubicBezTo>
                        <a:pt x="5400" y="11250"/>
                        <a:pt x="10800" y="12150"/>
                        <a:pt x="10800" y="13050"/>
                      </a:cubicBezTo>
                      <a:lnTo>
                        <a:pt x="10800" y="19800"/>
                      </a:lnTo>
                      <a:cubicBezTo>
                        <a:pt x="10800" y="20700"/>
                        <a:pt x="16200" y="21600"/>
                        <a:pt x="21600" y="2160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99" name="Text Box 27"/>
              <p:cNvSpPr/>
              <p:nvPr/>
            </p:nvSpPr>
            <p:spPr>
              <a:xfrm>
                <a:off x="1042920" y="404640"/>
                <a:ext cx="367920" cy="36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00" name="Text Box 28"/>
            <p:cNvSpPr/>
            <p:nvPr/>
          </p:nvSpPr>
          <p:spPr>
            <a:xfrm>
              <a:off x="1042920" y="1641600"/>
              <a:ext cx="27576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5’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1" name="Text Box 29"/>
            <p:cNvSpPr/>
            <p:nvPr/>
          </p:nvSpPr>
          <p:spPr>
            <a:xfrm>
              <a:off x="8037720" y="1641600"/>
              <a:ext cx="27576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3’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02" name="Picture 30" descr=""/>
          <p:cNvPicPr/>
          <p:nvPr/>
        </p:nvPicPr>
        <p:blipFill>
          <a:blip r:embed="rId1"/>
          <a:stretch/>
        </p:blipFill>
        <p:spPr>
          <a:xfrm>
            <a:off x="2000160" y="2481120"/>
            <a:ext cx="5143680" cy="3972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457200" y="117000"/>
            <a:ext cx="82296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Regulación transcripcional en procariotas.</a:t>
            </a:r>
            <a:br>
              <a:rPr sz="2800"/>
            </a:br>
            <a:r>
              <a:rPr b="1" lang="en-US" sz="2800" spc="-1" strike="noStrike">
                <a:solidFill>
                  <a:srgbClr val="262699"/>
                </a:solidFill>
                <a:latin typeface="Arial"/>
              </a:rPr>
              <a:t>Operón La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4" name="Picture 2" descr=""/>
          <p:cNvPicPr/>
          <p:nvPr/>
        </p:nvPicPr>
        <p:blipFill>
          <a:blip r:embed="rId1"/>
          <a:srcRect l="0" t="60445" r="0" b="0"/>
          <a:stretch/>
        </p:blipFill>
        <p:spPr>
          <a:xfrm>
            <a:off x="993600" y="2484360"/>
            <a:ext cx="7201080" cy="1790640"/>
          </a:xfrm>
          <a:prstGeom prst="rect">
            <a:avLst/>
          </a:prstGeom>
          <a:ln w="0">
            <a:noFill/>
          </a:ln>
        </p:spPr>
      </p:pic>
      <p:sp>
        <p:nvSpPr>
          <p:cNvPr id="1105" name="CuadroTexto 1"/>
          <p:cNvSpPr/>
          <p:nvPr/>
        </p:nvSpPr>
        <p:spPr>
          <a:xfrm>
            <a:off x="611280" y="1268280"/>
            <a:ext cx="8229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AR" sz="1800" spc="-1" strike="noStrike">
                <a:solidFill>
                  <a:srgbClr val="262699"/>
                </a:solidFill>
                <a:latin typeface="Arial"/>
              </a:rPr>
              <a:t>El operón lac es una unidad de transcripción que codifica proteínas  (enzimas) requeridas para el </a:t>
            </a:r>
            <a:r>
              <a:rPr b="1" lang="es-AR" sz="1800" spc="-1" strike="noStrike">
                <a:solidFill>
                  <a:srgbClr val="ff0000"/>
                </a:solidFill>
                <a:latin typeface="Arial"/>
              </a:rPr>
              <a:t>transporte y metabolismo de la lactosa </a:t>
            </a:r>
            <a:r>
              <a:rPr b="1" lang="es-AR" sz="1800" spc="-1" strike="noStrike">
                <a:solidFill>
                  <a:srgbClr val="262699"/>
                </a:solidFill>
                <a:latin typeface="Arial"/>
              </a:rPr>
              <a:t>en la bacteria </a:t>
            </a:r>
            <a:r>
              <a:rPr b="1" lang="es-AR" sz="1800" spc="-1" strike="noStrike">
                <a:solidFill>
                  <a:srgbClr val="ff0000"/>
                </a:solidFill>
                <a:latin typeface="Arial"/>
              </a:rPr>
              <a:t>Escherichia coli</a:t>
            </a:r>
            <a:r>
              <a:rPr b="1" lang="es-AR" sz="1800" spc="-1" strike="noStrike">
                <a:solidFill>
                  <a:srgbClr val="262699"/>
                </a:solidFill>
                <a:latin typeface="Arial"/>
              </a:rPr>
              <a:t>, así como en algunas otras bacterias entéricas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6" name="Picture 2" descr=""/>
          <p:cNvPicPr/>
          <p:nvPr/>
        </p:nvPicPr>
        <p:blipFill>
          <a:blip r:embed="rId2"/>
          <a:srcRect l="0" t="14116" r="0" b="42928"/>
          <a:stretch/>
        </p:blipFill>
        <p:spPr>
          <a:xfrm>
            <a:off x="900000" y="4292640"/>
            <a:ext cx="7201080" cy="194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800" spc="-1" strike="noStrike" u="sng">
                <a:solidFill>
                  <a:srgbClr val="008000"/>
                </a:solidFill>
                <a:uFillTx/>
                <a:latin typeface="Arial"/>
              </a:rPr>
              <a:t>Regulación del operón la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8" name="Group 8"/>
          <p:cNvGrpSpPr/>
          <p:nvPr/>
        </p:nvGrpSpPr>
        <p:grpSpPr>
          <a:xfrm>
            <a:off x="461880" y="1647720"/>
            <a:ext cx="4038840" cy="4157640"/>
            <a:chOff x="461880" y="1647720"/>
            <a:chExt cx="4038840" cy="4157640"/>
          </a:xfrm>
        </p:grpSpPr>
        <p:pic>
          <p:nvPicPr>
            <p:cNvPr id="1109" name="Picture 2" descr=""/>
            <p:cNvPicPr/>
            <p:nvPr/>
          </p:nvPicPr>
          <p:blipFill>
            <a:blip r:embed="rId1"/>
            <a:stretch/>
          </p:blipFill>
          <p:spPr>
            <a:xfrm>
              <a:off x="461880" y="2104920"/>
              <a:ext cx="4038840" cy="3700440"/>
            </a:xfrm>
            <a:prstGeom prst="rect">
              <a:avLst/>
            </a:prstGeom>
            <a:ln w="25560">
              <a:solidFill>
                <a:srgbClr val="333399"/>
              </a:solidFill>
              <a:miter/>
            </a:ln>
          </p:spPr>
        </p:pic>
        <p:sp>
          <p:nvSpPr>
            <p:cNvPr id="1110" name="Text Box 4"/>
            <p:cNvSpPr/>
            <p:nvPr/>
          </p:nvSpPr>
          <p:spPr>
            <a:xfrm>
              <a:off x="1117440" y="1647720"/>
              <a:ext cx="277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n ausencia de Lactos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11" name="Group 7"/>
          <p:cNvGrpSpPr/>
          <p:nvPr/>
        </p:nvGrpSpPr>
        <p:grpSpPr>
          <a:xfrm>
            <a:off x="4716360" y="1628640"/>
            <a:ext cx="3899160" cy="4176720"/>
            <a:chOff x="4716360" y="1628640"/>
            <a:chExt cx="3899160" cy="4176720"/>
          </a:xfrm>
        </p:grpSpPr>
        <p:pic>
          <p:nvPicPr>
            <p:cNvPr id="1112" name="Picture 3" descr=""/>
            <p:cNvPicPr/>
            <p:nvPr/>
          </p:nvPicPr>
          <p:blipFill>
            <a:blip r:embed="rId2"/>
            <a:stretch/>
          </p:blipFill>
          <p:spPr>
            <a:xfrm>
              <a:off x="4716360" y="2093760"/>
              <a:ext cx="3899160" cy="3711600"/>
            </a:xfrm>
            <a:prstGeom prst="rect">
              <a:avLst/>
            </a:prstGeom>
            <a:ln w="25560">
              <a:solidFill>
                <a:srgbClr val="333399"/>
              </a:solidFill>
              <a:miter/>
            </a:ln>
          </p:spPr>
        </p:pic>
        <p:sp>
          <p:nvSpPr>
            <p:cNvPr id="1113" name="Text Box 5"/>
            <p:cNvSpPr/>
            <p:nvPr/>
          </p:nvSpPr>
          <p:spPr>
            <a:xfrm>
              <a:off x="5254200" y="1628640"/>
              <a:ext cx="2859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En presencia de Lactos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4"/>
          <p:cNvGrpSpPr/>
          <p:nvPr/>
        </p:nvGrpSpPr>
        <p:grpSpPr>
          <a:xfrm>
            <a:off x="403920" y="1085760"/>
            <a:ext cx="8019360" cy="4648320"/>
            <a:chOff x="403920" y="1085760"/>
            <a:chExt cx="8019360" cy="4648320"/>
          </a:xfrm>
        </p:grpSpPr>
        <p:grpSp>
          <p:nvGrpSpPr>
            <p:cNvPr id="52" name="Group 5"/>
            <p:cNvGrpSpPr/>
            <p:nvPr/>
          </p:nvGrpSpPr>
          <p:grpSpPr>
            <a:xfrm>
              <a:off x="403920" y="1230480"/>
              <a:ext cx="4799520" cy="4031640"/>
              <a:chOff x="403920" y="1230480"/>
              <a:chExt cx="4799520" cy="4031640"/>
            </a:xfrm>
          </p:grpSpPr>
          <p:sp>
            <p:nvSpPr>
              <p:cNvPr id="53" name="Text Box 6"/>
              <p:cNvSpPr/>
              <p:nvPr/>
            </p:nvSpPr>
            <p:spPr>
              <a:xfrm>
                <a:off x="3207240" y="1811160"/>
                <a:ext cx="674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ADN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Text Box 7"/>
              <p:cNvSpPr/>
              <p:nvPr/>
            </p:nvSpPr>
            <p:spPr>
              <a:xfrm>
                <a:off x="3207240" y="3385440"/>
                <a:ext cx="674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ARN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Text Box 8"/>
              <p:cNvSpPr/>
              <p:nvPr/>
            </p:nvSpPr>
            <p:spPr>
              <a:xfrm>
                <a:off x="2628000" y="4662000"/>
                <a:ext cx="2190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éptido o proteína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AutoShape 9"/>
              <p:cNvSpPr/>
              <p:nvPr/>
            </p:nvSpPr>
            <p:spPr>
              <a:xfrm>
                <a:off x="3408120" y="2312280"/>
                <a:ext cx="203760" cy="1081440"/>
              </a:xfrm>
              <a:prstGeom prst="downArrow">
                <a:avLst>
                  <a:gd name="adj1" fmla="val 50000"/>
                  <a:gd name="adj2" fmla="val 132686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AutoShape 10"/>
              <p:cNvSpPr/>
              <p:nvPr/>
            </p:nvSpPr>
            <p:spPr>
              <a:xfrm>
                <a:off x="3408120" y="3885840"/>
                <a:ext cx="203760" cy="786960"/>
              </a:xfrm>
              <a:prstGeom prst="downArrow">
                <a:avLst>
                  <a:gd name="adj1" fmla="val 50000"/>
                  <a:gd name="adj2" fmla="val 96555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AutoShape 11"/>
              <p:cNvSpPr/>
              <p:nvPr/>
            </p:nvSpPr>
            <p:spPr>
              <a:xfrm flipH="1">
                <a:off x="3544920" y="1427760"/>
                <a:ext cx="339840" cy="589320"/>
              </a:xfrm>
              <a:custGeom>
                <a:avLst/>
                <a:gdLst>
                  <a:gd name="textAreaLeft" fmla="*/ 0 w 339840"/>
                  <a:gd name="textAreaRight" fmla="*/ 95760 w 339840"/>
                  <a:gd name="textAreaTop" fmla="*/ 227520 h 589320"/>
                  <a:gd name="textAreaBottom" fmla="*/ 589680 h 589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5662" y="14285"/>
                    </a:moveTo>
                    <a:lnTo>
                      <a:pt x="21600" y="8310"/>
                    </a:lnTo>
                    <a:lnTo>
                      <a:pt x="18630" y="8310"/>
                    </a:lnTo>
                    <a:cubicBezTo>
                      <a:pt x="18630" y="3721"/>
                      <a:pt x="14430" y="0"/>
                      <a:pt x="9250" y="0"/>
                    </a:cubicBezTo>
                    <a:cubicBezTo>
                      <a:pt x="4141" y="0"/>
                      <a:pt x="0" y="3799"/>
                      <a:pt x="0" y="8485"/>
                    </a:cubicBezTo>
                    <a:lnTo>
                      <a:pt x="0" y="21600"/>
                    </a:lnTo>
                    <a:lnTo>
                      <a:pt x="6110" y="21600"/>
                    </a:lnTo>
                    <a:lnTo>
                      <a:pt x="6110" y="8310"/>
                    </a:lnTo>
                    <a:cubicBezTo>
                      <a:pt x="6110" y="6947"/>
                      <a:pt x="7362" y="5842"/>
                      <a:pt x="8907" y="5842"/>
                    </a:cubicBezTo>
                    <a:lnTo>
                      <a:pt x="9725" y="5842"/>
                    </a:lnTo>
                    <a:cubicBezTo>
                      <a:pt x="11269" y="5842"/>
                      <a:pt x="12520" y="6947"/>
                      <a:pt x="12520" y="8310"/>
                    </a:cubicBezTo>
                    <a:lnTo>
                      <a:pt x="9725" y="8310"/>
                    </a:lnTo>
                    <a:lnTo>
                      <a:pt x="15662" y="14285"/>
                    </a:ln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Text Box 12"/>
              <p:cNvSpPr/>
              <p:nvPr/>
            </p:nvSpPr>
            <p:spPr>
              <a:xfrm>
                <a:off x="3885840" y="1360440"/>
                <a:ext cx="1317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i="1" lang="en-US" sz="1600" spc="-1" strike="noStrike">
                    <a:solidFill>
                      <a:srgbClr val="000000"/>
                    </a:solidFill>
                    <a:latin typeface="Arial"/>
                  </a:rPr>
                  <a:t>Replicación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Text Box 13"/>
              <p:cNvSpPr/>
              <p:nvPr/>
            </p:nvSpPr>
            <p:spPr>
              <a:xfrm>
                <a:off x="3548160" y="2806200"/>
                <a:ext cx="1520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i="1" lang="en-US" sz="1600" spc="-1" strike="noStrike">
                    <a:solidFill>
                      <a:srgbClr val="000000"/>
                    </a:solidFill>
                    <a:latin typeface="Arial"/>
                  </a:rPr>
                  <a:t>Transcripción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Text Box 14"/>
              <p:cNvSpPr/>
              <p:nvPr/>
            </p:nvSpPr>
            <p:spPr>
              <a:xfrm>
                <a:off x="3547440" y="3983760"/>
                <a:ext cx="1271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i="1" lang="en-US" sz="1600" spc="-1" strike="noStrike">
                    <a:solidFill>
                      <a:srgbClr val="000000"/>
                    </a:solidFill>
                    <a:latin typeface="Arial"/>
                  </a:rPr>
                  <a:t>Traducción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AutoShape 15"/>
              <p:cNvSpPr/>
              <p:nvPr/>
            </p:nvSpPr>
            <p:spPr>
              <a:xfrm>
                <a:off x="2321280" y="1230480"/>
                <a:ext cx="407160" cy="4031640"/>
              </a:xfrm>
              <a:custGeom>
                <a:avLst/>
                <a:gdLst>
                  <a:gd name="textAreaLeft" fmla="*/ 260280 w 407160"/>
                  <a:gd name="textAreaRight" fmla="*/ 407520 w 407160"/>
                  <a:gd name="textAreaTop" fmla="*/ 105120 h 4031640"/>
                  <a:gd name="textAreaBottom" fmla="*/ 3926520 h 4031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Text Box 16"/>
              <p:cNvSpPr/>
              <p:nvPr/>
            </p:nvSpPr>
            <p:spPr>
              <a:xfrm>
                <a:off x="403920" y="2845440"/>
                <a:ext cx="2036880" cy="5806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DOGMA CENTRAL 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DE LA GENETICA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64" name="Picture 17" descr="trinity"/>
            <p:cNvPicPr/>
            <p:nvPr/>
          </p:nvPicPr>
          <p:blipFill>
            <a:blip r:embed="rId1"/>
            <a:stretch/>
          </p:blipFill>
          <p:spPr>
            <a:xfrm>
              <a:off x="5146560" y="1085760"/>
              <a:ext cx="3276720" cy="4648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17 Rectángulo redondeado"/>
          <p:cNvSpPr/>
          <p:nvPr/>
        </p:nvSpPr>
        <p:spPr>
          <a:xfrm>
            <a:off x="2500200" y="3357720"/>
            <a:ext cx="6500880" cy="242856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77360" y="301320"/>
            <a:ext cx="821844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 u="sng">
                <a:solidFill>
                  <a:srgbClr val="3333cc"/>
                </a:solidFill>
                <a:uFillTx/>
                <a:latin typeface="Arial"/>
              </a:rPr>
              <a:t>Transcripción de un gen eucariota, maduración del ARNm y traduc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6" descr="Gene_Intron_Exon"/>
          <p:cNvPicPr/>
          <p:nvPr/>
        </p:nvPicPr>
        <p:blipFill>
          <a:blip r:embed="rId1"/>
          <a:stretch/>
        </p:blipFill>
        <p:spPr>
          <a:xfrm>
            <a:off x="108000" y="749160"/>
            <a:ext cx="2287440" cy="282420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39"/>
          <p:cNvSpPr/>
          <p:nvPr/>
        </p:nvSpPr>
        <p:spPr>
          <a:xfrm>
            <a:off x="1356840" y="4941720"/>
            <a:ext cx="764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Proteína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9" name="69 Grupo"/>
          <p:cNvGrpSpPr/>
          <p:nvPr/>
        </p:nvGrpSpPr>
        <p:grpSpPr>
          <a:xfrm>
            <a:off x="1836360" y="1763640"/>
            <a:ext cx="6488640" cy="1625760"/>
            <a:chOff x="1836360" y="1763640"/>
            <a:chExt cx="6488640" cy="1625760"/>
          </a:xfrm>
        </p:grpSpPr>
        <p:sp>
          <p:nvSpPr>
            <p:cNvPr id="70" name="Rectangle 7"/>
            <p:cNvSpPr/>
            <p:nvPr/>
          </p:nvSpPr>
          <p:spPr>
            <a:xfrm>
              <a:off x="1836360" y="2132640"/>
              <a:ext cx="1867680" cy="50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de-DE" sz="1500" spc="-1" strike="noStrike">
                  <a:solidFill>
                    <a:srgbClr val="000000"/>
                  </a:solidFill>
                  <a:latin typeface="Arial"/>
                </a:rPr>
                <a:t>preARN o 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de-DE" sz="1500" spc="-1" strike="noStrike">
                  <a:solidFill>
                    <a:srgbClr val="000000"/>
                  </a:solidFill>
                  <a:latin typeface="Arial"/>
                </a:rPr>
                <a:t>Transcripto primario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1" name="Group 8"/>
            <p:cNvGrpSpPr/>
            <p:nvPr/>
          </p:nvGrpSpPr>
          <p:grpSpPr>
            <a:xfrm>
              <a:off x="3354840" y="1763640"/>
              <a:ext cx="4969800" cy="287280"/>
              <a:chOff x="3354840" y="1763640"/>
              <a:chExt cx="4969800" cy="287280"/>
            </a:xfrm>
          </p:grpSpPr>
          <p:sp>
            <p:nvSpPr>
              <p:cNvPr id="72" name="Rectangle 9"/>
              <p:cNvSpPr/>
              <p:nvPr/>
            </p:nvSpPr>
            <p:spPr>
              <a:xfrm>
                <a:off x="7879320" y="1763640"/>
                <a:ext cx="435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Arial"/>
                  </a:rPr>
                  <a:t>3'UTR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Rectangle 10"/>
              <p:cNvSpPr/>
              <p:nvPr/>
            </p:nvSpPr>
            <p:spPr>
              <a:xfrm>
                <a:off x="5518080" y="1763640"/>
                <a:ext cx="9360" cy="191880"/>
              </a:xfrm>
              <a:prstGeom prst="rect">
                <a:avLst/>
              </a:prstGeom>
              <a:noFill/>
              <a:ln w="93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spcBef>
                    <a:spcPts val="3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Rectangle 11"/>
              <p:cNvSpPr/>
              <p:nvPr/>
            </p:nvSpPr>
            <p:spPr>
              <a:xfrm>
                <a:off x="3354840" y="1763640"/>
                <a:ext cx="435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Arial"/>
                  </a:rPr>
                  <a:t>5'UTR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Line 12"/>
              <p:cNvSpPr/>
              <p:nvPr/>
            </p:nvSpPr>
            <p:spPr>
              <a:xfrm flipV="1">
                <a:off x="3439800" y="1977840"/>
                <a:ext cx="0" cy="68400"/>
              </a:xfrm>
              <a:prstGeom prst="line">
                <a:avLst/>
              </a:prstGeom>
              <a:ln w="1260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Line 13"/>
              <p:cNvSpPr/>
              <p:nvPr/>
            </p:nvSpPr>
            <p:spPr>
              <a:xfrm>
                <a:off x="3439800" y="1976400"/>
                <a:ext cx="4884840" cy="0"/>
              </a:xfrm>
              <a:prstGeom prst="line">
                <a:avLst/>
              </a:prstGeom>
              <a:ln w="1260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Line 14"/>
              <p:cNvSpPr/>
              <p:nvPr/>
            </p:nvSpPr>
            <p:spPr>
              <a:xfrm flipV="1">
                <a:off x="3725640" y="1976400"/>
                <a:ext cx="0" cy="71280"/>
              </a:xfrm>
              <a:prstGeom prst="line">
                <a:avLst/>
              </a:prstGeom>
              <a:ln w="1260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Line 15"/>
              <p:cNvSpPr/>
              <p:nvPr/>
            </p:nvSpPr>
            <p:spPr>
              <a:xfrm flipV="1">
                <a:off x="7902360" y="1979640"/>
                <a:ext cx="0" cy="71280"/>
              </a:xfrm>
              <a:prstGeom prst="line">
                <a:avLst/>
              </a:prstGeom>
              <a:ln w="1260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Line 16"/>
              <p:cNvSpPr/>
              <p:nvPr/>
            </p:nvSpPr>
            <p:spPr>
              <a:xfrm flipV="1">
                <a:off x="8316720" y="1973160"/>
                <a:ext cx="0" cy="71280"/>
              </a:xfrm>
              <a:prstGeom prst="line">
                <a:avLst/>
              </a:prstGeom>
              <a:ln w="1260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0" name="Rectangle 17"/>
            <p:cNvSpPr/>
            <p:nvPr/>
          </p:nvSpPr>
          <p:spPr>
            <a:xfrm>
              <a:off x="6923160" y="2286000"/>
              <a:ext cx="985680" cy="188640"/>
            </a:xfrm>
            <a:prstGeom prst="rect">
              <a:avLst/>
            </a:prstGeom>
            <a:solidFill>
              <a:srgbClr val="660033"/>
            </a:solidFill>
            <a:ln w="12600">
              <a:solidFill>
                <a:srgbClr val="66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Rectangle 18"/>
            <p:cNvSpPr/>
            <p:nvPr/>
          </p:nvSpPr>
          <p:spPr>
            <a:xfrm>
              <a:off x="3733560" y="2287440"/>
              <a:ext cx="630000" cy="188640"/>
            </a:xfrm>
            <a:prstGeom prst="rect">
              <a:avLst/>
            </a:prstGeom>
            <a:solidFill>
              <a:srgbClr val="660033"/>
            </a:solidFill>
            <a:ln w="12600">
              <a:solidFill>
                <a:srgbClr val="66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Rectangle 19"/>
            <p:cNvSpPr/>
            <p:nvPr/>
          </p:nvSpPr>
          <p:spPr>
            <a:xfrm>
              <a:off x="4800600" y="2287440"/>
              <a:ext cx="1023840" cy="188640"/>
            </a:xfrm>
            <a:prstGeom prst="rect">
              <a:avLst/>
            </a:prstGeom>
            <a:solidFill>
              <a:srgbClr val="660033"/>
            </a:solidFill>
            <a:ln w="12600">
              <a:solidFill>
                <a:srgbClr val="66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Rectangle 20"/>
            <p:cNvSpPr/>
            <p:nvPr/>
          </p:nvSpPr>
          <p:spPr>
            <a:xfrm>
              <a:off x="3894480" y="2104920"/>
              <a:ext cx="343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de-DE" sz="900" spc="-1" strike="noStrike">
                  <a:solidFill>
                    <a:srgbClr val="000000"/>
                  </a:solidFill>
                  <a:latin typeface="Times New Roman"/>
                </a:rPr>
                <a:t>Exon 1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Rectangle 21"/>
            <p:cNvSpPr/>
            <p:nvPr/>
          </p:nvSpPr>
          <p:spPr>
            <a:xfrm>
              <a:off x="5154840" y="2104920"/>
              <a:ext cx="343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de-DE" sz="900" spc="-1" strike="noStrike">
                  <a:solidFill>
                    <a:srgbClr val="000000"/>
                  </a:solidFill>
                  <a:latin typeface="Times New Roman"/>
                </a:rPr>
                <a:t>Exon 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Rectangle 22"/>
            <p:cNvSpPr/>
            <p:nvPr/>
          </p:nvSpPr>
          <p:spPr>
            <a:xfrm>
              <a:off x="7227000" y="2104920"/>
              <a:ext cx="343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de-DE" sz="900" spc="-1" strike="noStrike">
                  <a:solidFill>
                    <a:srgbClr val="000000"/>
                  </a:solidFill>
                  <a:latin typeface="Times New Roman"/>
                </a:rPr>
                <a:t>Exon 3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Rectangle 23"/>
            <p:cNvSpPr/>
            <p:nvPr/>
          </p:nvSpPr>
          <p:spPr>
            <a:xfrm>
              <a:off x="4390920" y="2170080"/>
              <a:ext cx="4060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de-DE" sz="900" spc="-1" strike="noStrike">
                  <a:solidFill>
                    <a:srgbClr val="000000"/>
                  </a:solidFill>
                  <a:latin typeface="Times New Roman"/>
                </a:rPr>
                <a:t>Intron 1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Rectangle 24"/>
            <p:cNvSpPr/>
            <p:nvPr/>
          </p:nvSpPr>
          <p:spPr>
            <a:xfrm>
              <a:off x="6172200" y="2170080"/>
              <a:ext cx="4060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de-DE" sz="900" spc="-1" strike="noStrike">
                  <a:solidFill>
                    <a:srgbClr val="000000"/>
                  </a:solidFill>
                  <a:latin typeface="Times New Roman"/>
                </a:rPr>
                <a:t>Intron 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Line 25"/>
            <p:cNvSpPr/>
            <p:nvPr/>
          </p:nvSpPr>
          <p:spPr>
            <a:xfrm>
              <a:off x="3439800" y="2394000"/>
              <a:ext cx="4885200" cy="0"/>
            </a:xfrm>
            <a:prstGeom prst="line">
              <a:avLst/>
            </a:prstGeom>
            <a:ln w="38160">
              <a:solidFill>
                <a:srgbClr val="66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Rectangle 26"/>
            <p:cNvSpPr/>
            <p:nvPr/>
          </p:nvSpPr>
          <p:spPr>
            <a:xfrm>
              <a:off x="6853680" y="3144960"/>
              <a:ext cx="8236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Arial"/>
                </a:rPr>
                <a:t>AAAAAAAAA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Rectangle 27"/>
            <p:cNvSpPr/>
            <p:nvPr/>
          </p:nvSpPr>
          <p:spPr>
            <a:xfrm>
              <a:off x="2360520" y="3160800"/>
              <a:ext cx="1396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de-DE" sz="1500" spc="-1" strike="noStrike">
                  <a:solidFill>
                    <a:srgbClr val="000000"/>
                  </a:solidFill>
                  <a:latin typeface="Arial"/>
                </a:rPr>
                <a:t>ARNm maduro: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Rectangle 29"/>
            <p:cNvSpPr/>
            <p:nvPr/>
          </p:nvSpPr>
          <p:spPr>
            <a:xfrm>
              <a:off x="7072200" y="2932200"/>
              <a:ext cx="424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polyA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Rectangle 30"/>
            <p:cNvSpPr/>
            <p:nvPr/>
          </p:nvSpPr>
          <p:spPr>
            <a:xfrm>
              <a:off x="4155840" y="3132360"/>
              <a:ext cx="630000" cy="188640"/>
            </a:xfrm>
            <a:prstGeom prst="rect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Rectangle 31"/>
            <p:cNvSpPr/>
            <p:nvPr/>
          </p:nvSpPr>
          <p:spPr>
            <a:xfrm>
              <a:off x="4794120" y="3132360"/>
              <a:ext cx="1023840" cy="188640"/>
            </a:xfrm>
            <a:prstGeom prst="rect">
              <a:avLst/>
            </a:prstGeom>
            <a:solidFill>
              <a:srgbClr val="92d05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Line 32"/>
            <p:cNvSpPr/>
            <p:nvPr/>
          </p:nvSpPr>
          <p:spPr>
            <a:xfrm>
              <a:off x="3865320" y="3229200"/>
              <a:ext cx="295200" cy="0"/>
            </a:xfrm>
            <a:prstGeom prst="line">
              <a:avLst/>
            </a:prstGeom>
            <a:ln w="38160">
              <a:solidFill>
                <a:srgbClr val="66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Rectangle 33"/>
            <p:cNvSpPr/>
            <p:nvPr/>
          </p:nvSpPr>
          <p:spPr>
            <a:xfrm>
              <a:off x="4179240" y="3160800"/>
              <a:ext cx="282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Arial"/>
                </a:rPr>
                <a:t>AUG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Line 34"/>
            <p:cNvSpPr/>
            <p:nvPr/>
          </p:nvSpPr>
          <p:spPr>
            <a:xfrm>
              <a:off x="4057200" y="2568600"/>
              <a:ext cx="45720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Line 35"/>
            <p:cNvSpPr/>
            <p:nvPr/>
          </p:nvSpPr>
          <p:spPr>
            <a:xfrm>
              <a:off x="5340240" y="2568600"/>
              <a:ext cx="0" cy="444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Line 36"/>
            <p:cNvSpPr/>
            <p:nvPr/>
          </p:nvSpPr>
          <p:spPr>
            <a:xfrm flipH="1">
              <a:off x="6686280" y="2581200"/>
              <a:ext cx="406440" cy="406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Rectangle 37"/>
            <p:cNvSpPr/>
            <p:nvPr/>
          </p:nvSpPr>
          <p:spPr>
            <a:xfrm>
              <a:off x="5835600" y="3132360"/>
              <a:ext cx="1023840" cy="188640"/>
            </a:xfrm>
            <a:prstGeom prst="rect">
              <a:avLst/>
            </a:prstGeom>
            <a:solidFill>
              <a:srgbClr val="cc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Text Box 38"/>
            <p:cNvSpPr/>
            <p:nvPr/>
          </p:nvSpPr>
          <p:spPr>
            <a:xfrm>
              <a:off x="6492960" y="3106800"/>
              <a:ext cx="49824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UAA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Rectangle 60"/>
            <p:cNvSpPr/>
            <p:nvPr/>
          </p:nvSpPr>
          <p:spPr>
            <a:xfrm>
              <a:off x="3735000" y="2286000"/>
              <a:ext cx="630000" cy="188640"/>
            </a:xfrm>
            <a:prstGeom prst="rect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Rectangle 61"/>
            <p:cNvSpPr/>
            <p:nvPr/>
          </p:nvSpPr>
          <p:spPr>
            <a:xfrm>
              <a:off x="3763080" y="2314440"/>
              <a:ext cx="282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de-DE" sz="1000" spc="-1" strike="noStrike">
                  <a:solidFill>
                    <a:srgbClr val="ffffff"/>
                  </a:solidFill>
                  <a:latin typeface="Arial"/>
                </a:rPr>
                <a:t>AUG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Rectangle 62"/>
            <p:cNvSpPr/>
            <p:nvPr/>
          </p:nvSpPr>
          <p:spPr>
            <a:xfrm>
              <a:off x="4802040" y="2286000"/>
              <a:ext cx="1023840" cy="188640"/>
            </a:xfrm>
            <a:prstGeom prst="rect">
              <a:avLst/>
            </a:prstGeom>
            <a:solidFill>
              <a:srgbClr val="92d05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Rectangle 63"/>
            <p:cNvSpPr/>
            <p:nvPr/>
          </p:nvSpPr>
          <p:spPr>
            <a:xfrm>
              <a:off x="6859800" y="2286000"/>
              <a:ext cx="1023840" cy="188640"/>
            </a:xfrm>
            <a:prstGeom prst="rect">
              <a:avLst/>
            </a:prstGeom>
            <a:solidFill>
              <a:srgbClr val="cc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Rectangle 64"/>
            <p:cNvSpPr/>
            <p:nvPr/>
          </p:nvSpPr>
          <p:spPr>
            <a:xfrm>
              <a:off x="7633080" y="2314440"/>
              <a:ext cx="275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Arial"/>
                </a:rPr>
                <a:t>UAA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6" name="Rectangle 28"/>
          <p:cNvSpPr/>
          <p:nvPr/>
        </p:nvSpPr>
        <p:spPr>
          <a:xfrm>
            <a:off x="4409280" y="2633760"/>
            <a:ext cx="2387160" cy="182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de-DE" sz="1200" spc="-1" strike="noStrike">
                <a:solidFill>
                  <a:srgbClr val="660033"/>
                </a:solidFill>
                <a:latin typeface="Arial"/>
              </a:rPr>
              <a:t>5‘CAP / Polyadenylation/Splic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7" name="Grupo 9"/>
          <p:cNvGrpSpPr/>
          <p:nvPr/>
        </p:nvGrpSpPr>
        <p:grpSpPr>
          <a:xfrm>
            <a:off x="1339920" y="3279600"/>
            <a:ext cx="7416720" cy="865440"/>
            <a:chOff x="1339920" y="3279600"/>
            <a:chExt cx="7416720" cy="865440"/>
          </a:xfrm>
        </p:grpSpPr>
        <p:sp>
          <p:nvSpPr>
            <p:cNvPr id="108" name="Rectangle 66"/>
            <p:cNvSpPr/>
            <p:nvPr/>
          </p:nvSpPr>
          <p:spPr>
            <a:xfrm>
              <a:off x="1339920" y="3851280"/>
              <a:ext cx="7416720" cy="293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600" spc="-1" strike="noStrike">
                  <a:solidFill>
                    <a:srgbClr val="002060"/>
                  </a:solidFill>
                  <a:latin typeface="Arial"/>
                </a:rPr>
                <a:t>5’metGG</a:t>
              </a:r>
              <a:r>
                <a:rPr b="1" lang="en-US" sz="1600" spc="-1" strike="noStrike">
                  <a:solidFill>
                    <a:srgbClr val="ff6600"/>
                  </a:solidFill>
                  <a:latin typeface="Arial"/>
                </a:rPr>
                <a:t>AUG…….CAG</a:t>
              </a:r>
              <a:r>
                <a:rPr b="1" lang="en-US" sz="1600" spc="-1" strike="noStrike">
                  <a:solidFill>
                    <a:srgbClr val="00b050"/>
                  </a:solidFill>
                  <a:latin typeface="Arial"/>
                </a:rPr>
                <a:t>UGGAAA……..CUA</a:t>
              </a:r>
              <a:r>
                <a:rPr b="1" lang="en-US" sz="1600" spc="-1" strike="noStrike">
                  <a:solidFill>
                    <a:srgbClr val="cc66ff"/>
                  </a:solidFill>
                  <a:latin typeface="Arial"/>
                </a:rPr>
                <a:t>GUCGCC……..UAA</a:t>
              </a:r>
              <a:r>
                <a:rPr b="1" lang="en-US" sz="1600" spc="-1" strike="noStrike">
                  <a:solidFill>
                    <a:srgbClr val="002060"/>
                  </a:solidFill>
                  <a:latin typeface="Arial"/>
                </a:rPr>
                <a:t>AAAA…AAA-3</a:t>
              </a:r>
              <a:r>
                <a:rPr b="1" lang="en-US" sz="1800" spc="-1" strike="noStrike">
                  <a:solidFill>
                    <a:srgbClr val="262699"/>
                  </a:solidFill>
                  <a:latin typeface="Arial"/>
                </a:rPr>
                <a:t>’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Conector recto 2"/>
            <p:cNvSpPr/>
            <p:nvPr/>
          </p:nvSpPr>
          <p:spPr>
            <a:xfrm flipH="1">
              <a:off x="1699920" y="3279600"/>
              <a:ext cx="234648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Conector recto 5"/>
            <p:cNvSpPr/>
            <p:nvPr/>
          </p:nvSpPr>
          <p:spPr>
            <a:xfrm>
              <a:off x="7666200" y="3371040"/>
              <a:ext cx="837360" cy="56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1" name="Grupo 11"/>
          <p:cNvGrpSpPr/>
          <p:nvPr/>
        </p:nvGrpSpPr>
        <p:grpSpPr>
          <a:xfrm>
            <a:off x="2276640" y="4211640"/>
            <a:ext cx="4932360" cy="1161000"/>
            <a:chOff x="2276640" y="4211640"/>
            <a:chExt cx="4932360" cy="1161000"/>
          </a:xfrm>
        </p:grpSpPr>
        <p:sp>
          <p:nvSpPr>
            <p:cNvPr id="112" name="Rectangle 41"/>
            <p:cNvSpPr/>
            <p:nvPr/>
          </p:nvSpPr>
          <p:spPr>
            <a:xfrm>
              <a:off x="2358360" y="5220000"/>
              <a:ext cx="854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de-DE" sz="1000" spc="-1" strike="noStrike">
                  <a:solidFill>
                    <a:srgbClr val="004eff"/>
                  </a:solidFill>
                  <a:latin typeface="Arial"/>
                </a:rPr>
                <a:t>MCPLTW.....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Rectangle 42"/>
            <p:cNvSpPr/>
            <p:nvPr/>
          </p:nvSpPr>
          <p:spPr>
            <a:xfrm>
              <a:off x="6356880" y="5220000"/>
              <a:ext cx="745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de-DE" sz="1000" spc="-1" strike="noStrike">
                  <a:solidFill>
                    <a:srgbClr val="004eff"/>
                  </a:solidFill>
                  <a:latin typeface="Arial"/>
                </a:rPr>
                <a:t>..............GFL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4" name="Grupo 10"/>
            <p:cNvGrpSpPr/>
            <p:nvPr/>
          </p:nvGrpSpPr>
          <p:grpSpPr>
            <a:xfrm>
              <a:off x="2276640" y="4980600"/>
              <a:ext cx="4932360" cy="194760"/>
              <a:chOff x="2276640" y="4980600"/>
              <a:chExt cx="4932360" cy="194760"/>
            </a:xfrm>
          </p:grpSpPr>
          <p:sp>
            <p:nvSpPr>
              <p:cNvPr id="115" name="Rectangle 43"/>
              <p:cNvSpPr/>
              <p:nvPr/>
            </p:nvSpPr>
            <p:spPr>
              <a:xfrm>
                <a:off x="5517000" y="4980600"/>
                <a:ext cx="1692000" cy="19332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Rectangle 44"/>
              <p:cNvSpPr/>
              <p:nvPr/>
            </p:nvSpPr>
            <p:spPr>
              <a:xfrm>
                <a:off x="2276640" y="4980600"/>
                <a:ext cx="1404000" cy="19332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Rectangle 45"/>
              <p:cNvSpPr/>
              <p:nvPr/>
            </p:nvSpPr>
            <p:spPr>
              <a:xfrm>
                <a:off x="3644640" y="4980600"/>
                <a:ext cx="1908000" cy="19476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8" name="Rectangle 40"/>
            <p:cNvSpPr/>
            <p:nvPr/>
          </p:nvSpPr>
          <p:spPr>
            <a:xfrm>
              <a:off x="3424320" y="4829400"/>
              <a:ext cx="167940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Line 46"/>
            <p:cNvSpPr/>
            <p:nvPr/>
          </p:nvSpPr>
          <p:spPr>
            <a:xfrm>
              <a:off x="4941000" y="4211640"/>
              <a:ext cx="0" cy="617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Rectangle 39"/>
            <p:cNvSpPr/>
            <p:nvPr/>
          </p:nvSpPr>
          <p:spPr>
            <a:xfrm>
              <a:off x="5156280" y="4355640"/>
              <a:ext cx="16419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de-DE" sz="2400" spc="-1" strike="noStrike">
                  <a:solidFill>
                    <a:srgbClr val="ff0000"/>
                  </a:solidFill>
                  <a:latin typeface="Arial"/>
                </a:rPr>
                <a:t>Traducción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1" name="Grupo 2"/>
          <p:cNvGrpSpPr/>
          <p:nvPr/>
        </p:nvGrpSpPr>
        <p:grpSpPr>
          <a:xfrm>
            <a:off x="1187280" y="1341360"/>
            <a:ext cx="3384720" cy="1944720"/>
            <a:chOff x="1187280" y="1341360"/>
            <a:chExt cx="3384720" cy="1944720"/>
          </a:xfrm>
        </p:grpSpPr>
        <p:sp>
          <p:nvSpPr>
            <p:cNvPr id="122" name="Arco 1"/>
            <p:cNvSpPr/>
            <p:nvPr/>
          </p:nvSpPr>
          <p:spPr>
            <a:xfrm rot="20802600">
              <a:off x="1287360" y="1772640"/>
              <a:ext cx="2844720" cy="1202400"/>
            </a:xfrm>
            <a:custGeom>
              <a:avLst/>
              <a:gdLst/>
              <a:ahLst/>
              <a:rect l="l" t="t" r="r" b="b"/>
              <a:pathLst>
                <a:path stroke="0" w="2843734" h="1202231">
                  <a:moveTo>
                    <a:pt x="175215" y="312034"/>
                  </a:moveTo>
                  <a:cubicBezTo>
                    <a:pt x="439503" y="108329"/>
                    <a:pt x="957799" y="-12749"/>
                    <a:pt x="1506388" y="1062"/>
                  </a:cubicBezTo>
                  <a:cubicBezTo>
                    <a:pt x="2325449" y="21682"/>
                    <a:pt x="2933351" y="330294"/>
                    <a:pt x="2833077" y="674577"/>
                  </a:cubicBezTo>
                  <a:lnTo>
                    <a:pt x="1421867" y="601116"/>
                  </a:lnTo>
                  <a:lnTo>
                    <a:pt x="175215" y="312034"/>
                  </a:lnTo>
                  <a:close/>
                </a:path>
                <a:path fill="none" w="2843734" h="1202231">
                  <a:moveTo>
                    <a:pt x="175215" y="312034"/>
                  </a:moveTo>
                  <a:cubicBezTo>
                    <a:pt x="439503" y="108329"/>
                    <a:pt x="957799" y="-12749"/>
                    <a:pt x="1506388" y="1062"/>
                  </a:cubicBezTo>
                  <a:cubicBezTo>
                    <a:pt x="2325449" y="21682"/>
                    <a:pt x="2933351" y="330294"/>
                    <a:pt x="2833077" y="674577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Rectangle 39"/>
            <p:cNvSpPr/>
            <p:nvPr/>
          </p:nvSpPr>
          <p:spPr>
            <a:xfrm>
              <a:off x="2556720" y="1341360"/>
              <a:ext cx="20152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de-DE" sz="2400" spc="-1" strike="noStrike">
                  <a:solidFill>
                    <a:srgbClr val="ff0000"/>
                  </a:solidFill>
                  <a:latin typeface="Arial"/>
                </a:rPr>
                <a:t>Transcripción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Grupo 4"/>
          <p:cNvGrpSpPr/>
          <p:nvPr/>
        </p:nvGrpSpPr>
        <p:grpSpPr>
          <a:xfrm>
            <a:off x="2700360" y="5732640"/>
            <a:ext cx="3586320" cy="288720"/>
            <a:chOff x="2700360" y="5732640"/>
            <a:chExt cx="3586320" cy="288720"/>
          </a:xfrm>
        </p:grpSpPr>
        <p:sp>
          <p:nvSpPr>
            <p:cNvPr id="125" name="Rectangle 43"/>
            <p:cNvSpPr/>
            <p:nvPr/>
          </p:nvSpPr>
          <p:spPr>
            <a:xfrm>
              <a:off x="5422680" y="5732640"/>
              <a:ext cx="864000" cy="288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Rectangle 44"/>
            <p:cNvSpPr/>
            <p:nvPr/>
          </p:nvSpPr>
          <p:spPr>
            <a:xfrm>
              <a:off x="2700360" y="5732640"/>
              <a:ext cx="1234440" cy="2887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Rectangle 45"/>
            <p:cNvSpPr/>
            <p:nvPr/>
          </p:nvSpPr>
          <p:spPr>
            <a:xfrm>
              <a:off x="3934800" y="5732640"/>
              <a:ext cx="1512000" cy="28872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5688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800" spc="-1" strike="noStrike" u="sng">
                <a:solidFill>
                  <a:srgbClr val="333399"/>
                </a:solidFill>
                <a:uFillTx/>
                <a:latin typeface="Arial"/>
              </a:rPr>
              <a:t>Código genét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4"/>
          <a:stretch/>
        </p:blipFill>
        <p:spPr>
          <a:xfrm>
            <a:off x="436680" y="744480"/>
            <a:ext cx="3328920" cy="3692520"/>
          </a:xfrm>
          <a:prstGeom prst="rect">
            <a:avLst/>
          </a:prstGeom>
          <a:ln w="0">
            <a:noFill/>
          </a:ln>
        </p:spPr>
      </p:pic>
      <p:grpSp>
        <p:nvGrpSpPr>
          <p:cNvPr id="130" name="Group 3"/>
          <p:cNvGrpSpPr/>
          <p:nvPr/>
        </p:nvGrpSpPr>
        <p:grpSpPr>
          <a:xfrm>
            <a:off x="2866320" y="4905360"/>
            <a:ext cx="5274000" cy="382680"/>
            <a:chOff x="2866320" y="4905360"/>
            <a:chExt cx="5274000" cy="382680"/>
          </a:xfrm>
        </p:grpSpPr>
        <p:sp>
          <p:nvSpPr>
            <p:cNvPr id="131" name="Text Box 4"/>
            <p:cNvSpPr/>
            <p:nvPr/>
          </p:nvSpPr>
          <p:spPr>
            <a:xfrm>
              <a:off x="2866320" y="4919760"/>
              <a:ext cx="4213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ff6600"/>
                  </a:solidFill>
                  <a:latin typeface="Arial"/>
                </a:rPr>
                <a:t>AUGCAG</a:t>
              </a:r>
              <a:r>
                <a:rPr b="1" lang="en-US" sz="1800" spc="-1" strike="noStrike">
                  <a:solidFill>
                    <a:srgbClr val="00b050"/>
                  </a:solidFill>
                  <a:latin typeface="Arial"/>
                </a:rPr>
                <a:t>UGGAAACUA</a:t>
              </a:r>
              <a:r>
                <a:rPr b="1" lang="en-US" sz="1800" spc="-1" strike="noStrike">
                  <a:solidFill>
                    <a:srgbClr val="cc66ff"/>
                  </a:solidFill>
                  <a:latin typeface="Arial"/>
                </a:rPr>
                <a:t>GUCGCC</a:t>
              </a: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UA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Text Box 5"/>
            <p:cNvSpPr/>
            <p:nvPr/>
          </p:nvSpPr>
          <p:spPr>
            <a:xfrm>
              <a:off x="7263000" y="4905360"/>
              <a:ext cx="877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s-ES" sz="1800" spc="-1" strike="noStrike">
                  <a:solidFill>
                    <a:srgbClr val="333399"/>
                  </a:solidFill>
                  <a:latin typeface="Arial"/>
                </a:rPr>
                <a:t>ARN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3" name="Group 6"/>
          <p:cNvGrpSpPr/>
          <p:nvPr/>
        </p:nvGrpSpPr>
        <p:grpSpPr>
          <a:xfrm>
            <a:off x="2746080" y="4437000"/>
            <a:ext cx="867960" cy="553680"/>
            <a:chOff x="2746080" y="4437000"/>
            <a:chExt cx="867960" cy="553680"/>
          </a:xfrm>
        </p:grpSpPr>
        <p:sp>
          <p:nvSpPr>
            <p:cNvPr id="134" name="AutoShape 7"/>
            <p:cNvSpPr/>
            <p:nvPr/>
          </p:nvSpPr>
          <p:spPr>
            <a:xfrm flipH="1" rot="16200000">
              <a:off x="3033720" y="4631400"/>
              <a:ext cx="214560" cy="503640"/>
            </a:xfrm>
            <a:custGeom>
              <a:avLst/>
              <a:gdLst>
                <a:gd name="textAreaLeft" fmla="*/ 137160 w 214560"/>
                <a:gd name="textAreaRight" fmla="*/ 214920 w 214560"/>
                <a:gd name="textAreaTop" fmla="*/ 12960 h 503640"/>
                <a:gd name="textAreaBottom" fmla="*/ 490680 h 503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Text Box 8"/>
            <p:cNvSpPr/>
            <p:nvPr/>
          </p:nvSpPr>
          <p:spPr>
            <a:xfrm>
              <a:off x="2746080" y="4437000"/>
              <a:ext cx="867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codó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6" name="AutoShape 9"/>
          <p:cNvSpPr/>
          <p:nvPr/>
        </p:nvSpPr>
        <p:spPr>
          <a:xfrm flipH="1" rot="5400000">
            <a:off x="3030480" y="5280120"/>
            <a:ext cx="216000" cy="504720"/>
          </a:xfrm>
          <a:custGeom>
            <a:avLst/>
            <a:gdLst>
              <a:gd name="textAreaLeft" fmla="*/ 137880 w 216000"/>
              <a:gd name="textAreaRight" fmla="*/ 216360 w 21600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AutoShape 10"/>
          <p:cNvSpPr/>
          <p:nvPr/>
        </p:nvSpPr>
        <p:spPr>
          <a:xfrm flipH="1" rot="5400000">
            <a:off x="3533760" y="5280120"/>
            <a:ext cx="216000" cy="504720"/>
          </a:xfrm>
          <a:custGeom>
            <a:avLst/>
            <a:gdLst>
              <a:gd name="textAreaLeft" fmla="*/ 137880 w 216000"/>
              <a:gd name="textAreaRight" fmla="*/ 216360 w 21600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AutoShape 11"/>
          <p:cNvSpPr/>
          <p:nvPr/>
        </p:nvSpPr>
        <p:spPr>
          <a:xfrm flipH="1" rot="5400000">
            <a:off x="4038480" y="5280120"/>
            <a:ext cx="216000" cy="504720"/>
          </a:xfrm>
          <a:custGeom>
            <a:avLst/>
            <a:gdLst>
              <a:gd name="textAreaLeft" fmla="*/ 137880 w 216000"/>
              <a:gd name="textAreaRight" fmla="*/ 216360 w 21600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AutoShape 12"/>
          <p:cNvSpPr/>
          <p:nvPr/>
        </p:nvSpPr>
        <p:spPr>
          <a:xfrm flipH="1" rot="5400000">
            <a:off x="4541760" y="5280120"/>
            <a:ext cx="216000" cy="504720"/>
          </a:xfrm>
          <a:custGeom>
            <a:avLst/>
            <a:gdLst>
              <a:gd name="textAreaLeft" fmla="*/ 137880 w 216000"/>
              <a:gd name="textAreaRight" fmla="*/ 216360 w 21600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AutoShape 13"/>
          <p:cNvSpPr/>
          <p:nvPr/>
        </p:nvSpPr>
        <p:spPr>
          <a:xfrm flipH="1" rot="5400000">
            <a:off x="5045760" y="5279760"/>
            <a:ext cx="216000" cy="505080"/>
          </a:xfrm>
          <a:custGeom>
            <a:avLst/>
            <a:gdLst>
              <a:gd name="textAreaLeft" fmla="*/ 137880 w 216000"/>
              <a:gd name="textAreaRight" fmla="*/ 216360 w 216000"/>
              <a:gd name="textAreaTop" fmla="*/ 12960 h 505080"/>
              <a:gd name="textAreaBottom" fmla="*/ 492120 h 505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AutoShape 14"/>
          <p:cNvSpPr/>
          <p:nvPr/>
        </p:nvSpPr>
        <p:spPr>
          <a:xfrm flipH="1" rot="5400000">
            <a:off x="5551560" y="5280120"/>
            <a:ext cx="216000" cy="504720"/>
          </a:xfrm>
          <a:custGeom>
            <a:avLst/>
            <a:gdLst>
              <a:gd name="textAreaLeft" fmla="*/ 137880 w 216000"/>
              <a:gd name="textAreaRight" fmla="*/ 216360 w 21600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15"/>
          <p:cNvSpPr/>
          <p:nvPr/>
        </p:nvSpPr>
        <p:spPr>
          <a:xfrm>
            <a:off x="2822400" y="5640480"/>
            <a:ext cx="71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Me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16"/>
          <p:cNvSpPr/>
          <p:nvPr/>
        </p:nvSpPr>
        <p:spPr>
          <a:xfrm>
            <a:off x="4572000" y="1555920"/>
            <a:ext cx="4203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s-ES" sz="2400" spc="-1" strike="noStrike" u="sng">
                <a:solidFill>
                  <a:srgbClr val="ff0000"/>
                </a:solidFill>
                <a:uFillTx/>
                <a:latin typeface="Arial"/>
              </a:rPr>
              <a:t>Universal</a:t>
            </a:r>
            <a:r>
              <a:rPr b="1" lang="es-ES" sz="2400" spc="-1" strike="noStrike">
                <a:solidFill>
                  <a:srgbClr val="ff0000"/>
                </a:solidFill>
                <a:latin typeface="Arial"/>
              </a:rPr>
              <a:t>: es idéntico para todas las especies anim. y vege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s-ES" sz="2400" spc="-1" strike="noStrike" u="sng">
                <a:solidFill>
                  <a:srgbClr val="ff0000"/>
                </a:solidFill>
                <a:uFillTx/>
                <a:latin typeface="Arial"/>
              </a:rPr>
              <a:t>Degenerado</a:t>
            </a:r>
            <a:r>
              <a:rPr b="1" lang="es-ES" sz="2400" spc="-1" strike="noStrike">
                <a:solidFill>
                  <a:srgbClr val="ff0000"/>
                </a:solidFill>
                <a:latin typeface="Arial"/>
              </a:rPr>
              <a:t>: más de un codón codifican para el mismo a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17"/>
          <p:cNvSpPr/>
          <p:nvPr/>
        </p:nvSpPr>
        <p:spPr>
          <a:xfrm>
            <a:off x="3398760" y="5661000"/>
            <a:ext cx="71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Gl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18"/>
          <p:cNvSpPr/>
          <p:nvPr/>
        </p:nvSpPr>
        <p:spPr>
          <a:xfrm>
            <a:off x="3903840" y="5654520"/>
            <a:ext cx="71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r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19"/>
          <p:cNvSpPr/>
          <p:nvPr/>
        </p:nvSpPr>
        <p:spPr>
          <a:xfrm>
            <a:off x="4406760" y="5661000"/>
            <a:ext cx="71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Ly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0"/>
          <p:cNvSpPr/>
          <p:nvPr/>
        </p:nvSpPr>
        <p:spPr>
          <a:xfrm>
            <a:off x="4911840" y="5661000"/>
            <a:ext cx="71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Le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21"/>
          <p:cNvSpPr/>
          <p:nvPr/>
        </p:nvSpPr>
        <p:spPr>
          <a:xfrm>
            <a:off x="6423120" y="5381640"/>
            <a:ext cx="71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Text Box 22" descr=""/>
          <p:cNvPicPr/>
          <p:nvPr/>
        </p:nvPicPr>
        <p:blipFill>
          <a:blip r:embed="rId5"/>
          <a:stretch/>
        </p:blipFill>
        <p:spPr>
          <a:xfrm>
            <a:off x="6229440" y="5846760"/>
            <a:ext cx="1182600" cy="493560"/>
          </a:xfrm>
          <a:prstGeom prst="rect">
            <a:avLst/>
          </a:prstGeom>
          <a:ln w="0">
            <a:noFill/>
          </a:ln>
        </p:spPr>
      </p:pic>
      <p:sp>
        <p:nvSpPr>
          <p:cNvPr id="150" name="AutoShape 14"/>
          <p:cNvSpPr/>
          <p:nvPr/>
        </p:nvSpPr>
        <p:spPr>
          <a:xfrm flipH="1" rot="5400000">
            <a:off x="6053760" y="5300280"/>
            <a:ext cx="216000" cy="505080"/>
          </a:xfrm>
          <a:custGeom>
            <a:avLst/>
            <a:gdLst>
              <a:gd name="textAreaLeft" fmla="*/ 137880 w 216000"/>
              <a:gd name="textAreaRight" fmla="*/ 216360 w 216000"/>
              <a:gd name="textAreaTop" fmla="*/ 12960 h 505080"/>
              <a:gd name="textAreaBottom" fmla="*/ 492120 h 505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AutoShape 14"/>
          <p:cNvSpPr/>
          <p:nvPr/>
        </p:nvSpPr>
        <p:spPr>
          <a:xfrm flipH="1" rot="5400000">
            <a:off x="6562800" y="5021280"/>
            <a:ext cx="216000" cy="504720"/>
          </a:xfrm>
          <a:custGeom>
            <a:avLst/>
            <a:gdLst>
              <a:gd name="textAreaLeft" fmla="*/ 137880 w 216000"/>
              <a:gd name="textAreaRight" fmla="*/ 216360 w 21600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0"/>
          <p:cNvSpPr/>
          <p:nvPr/>
        </p:nvSpPr>
        <p:spPr>
          <a:xfrm>
            <a:off x="5411880" y="5661000"/>
            <a:ext cx="71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V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Text Box 20"/>
          <p:cNvSpPr/>
          <p:nvPr/>
        </p:nvSpPr>
        <p:spPr>
          <a:xfrm>
            <a:off x="5843520" y="5661000"/>
            <a:ext cx="71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l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 Box 22"/>
          <p:cNvSpPr/>
          <p:nvPr/>
        </p:nvSpPr>
        <p:spPr>
          <a:xfrm>
            <a:off x="504720" y="5268960"/>
            <a:ext cx="130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RNt(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Text Box 4"/>
          <p:cNvSpPr/>
          <p:nvPr/>
        </p:nvSpPr>
        <p:spPr>
          <a:xfrm>
            <a:off x="2822400" y="515448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ff6600"/>
                </a:solidFill>
                <a:latin typeface="Arial"/>
              </a:rPr>
              <a:t>UA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3327480" y="515772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ff6600"/>
                </a:solidFill>
                <a:latin typeface="Arial"/>
              </a:rPr>
              <a:t>GU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4"/>
          <p:cNvSpPr/>
          <p:nvPr/>
        </p:nvSpPr>
        <p:spPr>
          <a:xfrm>
            <a:off x="3819600" y="515772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b050"/>
                </a:solidFill>
                <a:latin typeface="Arial"/>
              </a:rPr>
              <a:t>AC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4"/>
          <p:cNvSpPr/>
          <p:nvPr/>
        </p:nvSpPr>
        <p:spPr>
          <a:xfrm>
            <a:off x="4298040" y="515772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b050"/>
                </a:solidFill>
                <a:latin typeface="Arial"/>
              </a:rPr>
              <a:t>UU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Text Box 4"/>
          <p:cNvSpPr/>
          <p:nvPr/>
        </p:nvSpPr>
        <p:spPr>
          <a:xfrm>
            <a:off x="4802400" y="515772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b050"/>
                </a:solidFill>
                <a:latin typeface="Arial"/>
              </a:rPr>
              <a:t>GA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4"/>
          <p:cNvSpPr/>
          <p:nvPr/>
        </p:nvSpPr>
        <p:spPr>
          <a:xfrm>
            <a:off x="5330880" y="515772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cc66ff"/>
                </a:solidFill>
                <a:latin typeface="Arial"/>
              </a:rPr>
              <a:t>CA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5816160" y="5157720"/>
            <a:ext cx="70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cc66ff"/>
                </a:solidFill>
                <a:latin typeface="Arial"/>
              </a:rPr>
              <a:t>CG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Text Box 22"/>
          <p:cNvSpPr/>
          <p:nvPr/>
        </p:nvSpPr>
        <p:spPr>
          <a:xfrm>
            <a:off x="1692360" y="511668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nticod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800" spc="-1" strike="noStrike" u="sng">
                <a:solidFill>
                  <a:srgbClr val="0066ff"/>
                </a:solidFill>
                <a:uFillTx/>
                <a:latin typeface="Arial"/>
              </a:rPr>
              <a:t>Tipos de ARN: ribosomal, transferencial y mensaje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5" descr=""/>
          <p:cNvPicPr/>
          <p:nvPr/>
        </p:nvPicPr>
        <p:blipFill>
          <a:blip r:embed="rId1"/>
          <a:stretch/>
        </p:blipFill>
        <p:spPr>
          <a:xfrm>
            <a:off x="3000240" y="1916280"/>
            <a:ext cx="2579760" cy="3600360"/>
          </a:xfrm>
          <a:prstGeom prst="rect">
            <a:avLst/>
          </a:prstGeom>
          <a:ln w="25560">
            <a:solidFill>
              <a:srgbClr val="0000ff"/>
            </a:solidFill>
            <a:miter/>
          </a:ln>
        </p:spPr>
      </p:pic>
      <p:pic>
        <p:nvPicPr>
          <p:cNvPr id="165" name="Picture 6" descr=""/>
          <p:cNvPicPr/>
          <p:nvPr/>
        </p:nvPicPr>
        <p:blipFill>
          <a:blip r:embed="rId2"/>
          <a:stretch/>
        </p:blipFill>
        <p:spPr>
          <a:xfrm>
            <a:off x="5796000" y="2054160"/>
            <a:ext cx="3241800" cy="2432160"/>
          </a:xfrm>
          <a:prstGeom prst="rect">
            <a:avLst/>
          </a:prstGeom>
          <a:ln w="25560">
            <a:solidFill>
              <a:srgbClr val="0000ff"/>
            </a:solidFill>
            <a:miter/>
          </a:ln>
        </p:spPr>
      </p:pic>
      <p:pic>
        <p:nvPicPr>
          <p:cNvPr id="166" name="Picture 7" descr=""/>
          <p:cNvPicPr/>
          <p:nvPr/>
        </p:nvPicPr>
        <p:blipFill>
          <a:blip r:embed="rId3"/>
          <a:stretch/>
        </p:blipFill>
        <p:spPr>
          <a:xfrm>
            <a:off x="179280" y="1959120"/>
            <a:ext cx="2506680" cy="3600360"/>
          </a:xfrm>
          <a:prstGeom prst="rect">
            <a:avLst/>
          </a:prstGeom>
          <a:ln w="25560">
            <a:solidFill>
              <a:srgbClr val="0000ff"/>
            </a:solidFill>
            <a:miter/>
          </a:ln>
        </p:spPr>
      </p:pic>
      <p:sp>
        <p:nvSpPr>
          <p:cNvPr id="167" name="Elipse 5"/>
          <p:cNvSpPr/>
          <p:nvPr/>
        </p:nvSpPr>
        <p:spPr>
          <a:xfrm>
            <a:off x="3505320" y="4724280"/>
            <a:ext cx="1726920" cy="64944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71640" y="995040"/>
            <a:ext cx="741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Activación de aminoácidos en procariotas (síntesis de los AA-ARN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Group 2"/>
          <p:cNvGrpSpPr/>
          <p:nvPr/>
        </p:nvGrpSpPr>
        <p:grpSpPr>
          <a:xfrm>
            <a:off x="711360" y="1900080"/>
            <a:ext cx="8254440" cy="1026360"/>
            <a:chOff x="711360" y="1900080"/>
            <a:chExt cx="8254440" cy="1026360"/>
          </a:xfrm>
        </p:grpSpPr>
        <p:sp>
          <p:nvSpPr>
            <p:cNvPr id="170" name="Text Box 3"/>
            <p:cNvSpPr/>
            <p:nvPr/>
          </p:nvSpPr>
          <p:spPr>
            <a:xfrm>
              <a:off x="3140640" y="2114640"/>
              <a:ext cx="240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i="1" lang="es-ES" sz="1400" spc="-1" strike="noStrike">
                  <a:solidFill>
                    <a:srgbClr val="ff3300"/>
                  </a:solidFill>
                  <a:latin typeface="Arial"/>
                </a:rPr>
                <a:t>Aminoacil-ARNt sintetasa</a:t>
              </a:r>
              <a:r>
                <a:rPr b="0" i="1" lang="es-E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71" name="Group 4"/>
            <p:cNvGrpSpPr/>
            <p:nvPr/>
          </p:nvGrpSpPr>
          <p:grpSpPr>
            <a:xfrm>
              <a:off x="711360" y="1919160"/>
              <a:ext cx="2518560" cy="766080"/>
              <a:chOff x="711360" y="1919160"/>
              <a:chExt cx="2518560" cy="766080"/>
            </a:xfrm>
          </p:grpSpPr>
          <p:grpSp>
            <p:nvGrpSpPr>
              <p:cNvPr id="172" name="Group 5"/>
              <p:cNvGrpSpPr/>
              <p:nvPr/>
            </p:nvGrpSpPr>
            <p:grpSpPr>
              <a:xfrm>
                <a:off x="711360" y="1919160"/>
                <a:ext cx="2518560" cy="766080"/>
                <a:chOff x="711360" y="1919160"/>
                <a:chExt cx="2518560" cy="766080"/>
              </a:xfrm>
            </p:grpSpPr>
            <p:sp>
              <p:nvSpPr>
                <p:cNvPr id="173" name="Text Box 6"/>
                <p:cNvSpPr/>
                <p:nvPr/>
              </p:nvSpPr>
              <p:spPr>
                <a:xfrm>
                  <a:off x="711360" y="2279520"/>
                  <a:ext cx="251856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lang="en-US" sz="1800" spc="-1" strike="noStrike" baseline="30000">
                      <a:solidFill>
                        <a:srgbClr val="000000"/>
                      </a:solidFill>
                      <a:latin typeface="Arial"/>
                    </a:rPr>
                    <a:t>+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NH</a:t>
                  </a:r>
                  <a:r>
                    <a:rPr b="1" lang="en-US" sz="1800" spc="-1" strike="noStrike" baseline="-25000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-C-COO</a:t>
                  </a:r>
                  <a:r>
                    <a:rPr b="1" lang="en-US" sz="1800" spc="-1" strike="noStrike" baseline="30000">
                      <a:solidFill>
                        <a:srgbClr val="000000"/>
                      </a:solidFill>
                      <a:latin typeface="Arial"/>
                    </a:rPr>
                    <a:t>-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  +  </a:t>
                  </a:r>
                  <a:r>
                    <a:rPr b="1" lang="en-US" sz="1800" spc="-1" strike="noStrike">
                      <a:solidFill>
                        <a:srgbClr val="3333cc"/>
                      </a:solidFill>
                      <a:latin typeface="Arial"/>
                    </a:rPr>
                    <a:t>ATP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  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4" name="Text Box 7"/>
                <p:cNvSpPr/>
                <p:nvPr/>
              </p:nvSpPr>
              <p:spPr>
                <a:xfrm>
                  <a:off x="1292040" y="1919160"/>
                  <a:ext cx="3452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R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8"/>
              <p:cNvSpPr/>
              <p:nvPr/>
            </p:nvSpPr>
            <p:spPr>
              <a:xfrm>
                <a:off x="1424160" y="2187720"/>
                <a:ext cx="144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6" name="Group 9"/>
            <p:cNvGrpSpPr/>
            <p:nvPr/>
          </p:nvGrpSpPr>
          <p:grpSpPr>
            <a:xfrm>
              <a:off x="5577120" y="1900080"/>
              <a:ext cx="3388680" cy="766080"/>
              <a:chOff x="5577120" y="1900080"/>
              <a:chExt cx="3388680" cy="766080"/>
            </a:xfrm>
          </p:grpSpPr>
          <p:sp>
            <p:nvSpPr>
              <p:cNvPr id="177" name="Text Box 10"/>
              <p:cNvSpPr/>
              <p:nvPr/>
            </p:nvSpPr>
            <p:spPr>
              <a:xfrm>
                <a:off x="5577120" y="2260440"/>
                <a:ext cx="338868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s-ES" sz="1800" spc="-1" strike="noStrike">
                    <a:solidFill>
                      <a:srgbClr val="ff0000"/>
                    </a:solidFill>
                    <a:latin typeface="Arial"/>
                  </a:rPr>
                  <a:t>Enz</a:t>
                </a:r>
                <a:r>
                  <a:rPr b="1" lang="es-ES" sz="18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r>
                  <a:rPr b="1" lang="es-ES" sz="1800" spc="-1" strike="noStrike" baseline="30000">
                    <a:solidFill>
                      <a:srgbClr val="000000"/>
                    </a:solidFill>
                    <a:latin typeface="Arial"/>
                  </a:rPr>
                  <a:t>+</a:t>
                </a:r>
                <a:r>
                  <a:rPr b="1" lang="es-ES" sz="1800" spc="-1" strike="noStrike">
                    <a:solidFill>
                      <a:srgbClr val="000000"/>
                    </a:solidFill>
                    <a:latin typeface="Arial"/>
                  </a:rPr>
                  <a:t>NH</a:t>
                </a:r>
                <a:r>
                  <a:rPr b="1" lang="es-ES" sz="18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1" lang="es-ES" sz="1800" spc="-1" strike="noStrike">
                    <a:solidFill>
                      <a:srgbClr val="000000"/>
                    </a:solidFill>
                    <a:latin typeface="Arial"/>
                  </a:rPr>
                  <a:t>-C-COO-</a:t>
                </a:r>
                <a:r>
                  <a:rPr b="1" lang="es-ES" sz="1800" spc="-1" strike="noStrike">
                    <a:solidFill>
                      <a:srgbClr val="3333cc"/>
                    </a:solidFill>
                    <a:latin typeface="Arial"/>
                  </a:rPr>
                  <a:t>AMP</a:t>
                </a:r>
                <a:r>
                  <a:rPr b="1" lang="es-ES" sz="1800" spc="-1" strike="noStrike">
                    <a:solidFill>
                      <a:srgbClr val="000000"/>
                    </a:solidFill>
                    <a:latin typeface="Arial"/>
                  </a:rPr>
                  <a:t> +  </a:t>
                </a:r>
                <a:r>
                  <a:rPr b="1" lang="es-ES" sz="1800" spc="-1" strike="noStrike">
                    <a:solidFill>
                      <a:srgbClr val="3333cc"/>
                    </a:solidFill>
                    <a:latin typeface="Arial"/>
                  </a:rPr>
                  <a:t>PPi </a:t>
                </a:r>
                <a:r>
                  <a:rPr b="1" lang="es-ES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" name="Text Box 11"/>
              <p:cNvSpPr/>
              <p:nvPr/>
            </p:nvSpPr>
            <p:spPr>
              <a:xfrm>
                <a:off x="6556320" y="1900080"/>
                <a:ext cx="409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" name="Line 12"/>
              <p:cNvSpPr/>
              <p:nvPr/>
            </p:nvSpPr>
            <p:spPr>
              <a:xfrm>
                <a:off x="6761160" y="2187720"/>
                <a:ext cx="144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0" name="Line 13"/>
            <p:cNvSpPr/>
            <p:nvPr/>
          </p:nvSpPr>
          <p:spPr>
            <a:xfrm>
              <a:off x="3160800" y="2476440"/>
              <a:ext cx="223200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Text Box 14"/>
            <p:cNvSpPr/>
            <p:nvPr/>
          </p:nvSpPr>
          <p:spPr>
            <a:xfrm>
              <a:off x="5172840" y="2619360"/>
              <a:ext cx="313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i="1" lang="es-ES" sz="1400" spc="-1" strike="noStrike">
                  <a:solidFill>
                    <a:srgbClr val="000000"/>
                  </a:solidFill>
                  <a:latin typeface="Arial"/>
                </a:rPr>
                <a:t>Complejo Aminoaciladenilato-Enzi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2" name="Group 16"/>
          <p:cNvGrpSpPr/>
          <p:nvPr/>
        </p:nvGrpSpPr>
        <p:grpSpPr>
          <a:xfrm>
            <a:off x="587160" y="3078000"/>
            <a:ext cx="8560440" cy="766080"/>
            <a:chOff x="587160" y="3078000"/>
            <a:chExt cx="8560440" cy="766080"/>
          </a:xfrm>
        </p:grpSpPr>
        <p:grpSp>
          <p:nvGrpSpPr>
            <p:cNvPr id="183" name="Group 17"/>
            <p:cNvGrpSpPr/>
            <p:nvPr/>
          </p:nvGrpSpPr>
          <p:grpSpPr>
            <a:xfrm>
              <a:off x="5500080" y="3078000"/>
              <a:ext cx="3647520" cy="766080"/>
              <a:chOff x="5500080" y="3078000"/>
              <a:chExt cx="3647520" cy="766080"/>
            </a:xfrm>
          </p:grpSpPr>
          <p:sp>
            <p:nvSpPr>
              <p:cNvPr id="184" name="Text Box 18"/>
              <p:cNvSpPr/>
              <p:nvPr/>
            </p:nvSpPr>
            <p:spPr>
              <a:xfrm>
                <a:off x="5500080" y="3438360"/>
                <a:ext cx="364752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s-ES" sz="1800" spc="-1" strike="noStrike" baseline="30000">
                    <a:solidFill>
                      <a:srgbClr val="000000"/>
                    </a:solidFill>
                    <a:latin typeface="Arial"/>
                  </a:rPr>
                  <a:t>+</a:t>
                </a:r>
                <a:r>
                  <a:rPr b="1" lang="es-ES" sz="1800" spc="-1" strike="noStrike">
                    <a:solidFill>
                      <a:srgbClr val="000000"/>
                    </a:solidFill>
                    <a:latin typeface="Arial"/>
                  </a:rPr>
                  <a:t>NH</a:t>
                </a:r>
                <a:r>
                  <a:rPr b="1" lang="es-ES" sz="1800" spc="-1" strike="noStrike" baseline="-25000">
                    <a:solidFill>
                      <a:srgbClr val="000000"/>
                    </a:solidFill>
                    <a:latin typeface="Arial"/>
                  </a:rPr>
                  <a:t>3</a:t>
                </a:r>
                <a:r>
                  <a:rPr b="1" lang="es-ES" sz="1800" spc="-1" strike="noStrike">
                    <a:solidFill>
                      <a:srgbClr val="000000"/>
                    </a:solidFill>
                    <a:latin typeface="Arial"/>
                  </a:rPr>
                  <a:t>-C-COO-ARNt + </a:t>
                </a:r>
                <a:r>
                  <a:rPr b="1" lang="es-ES" sz="1800" spc="-1" strike="noStrike">
                    <a:solidFill>
                      <a:srgbClr val="3333cc"/>
                    </a:solidFill>
                    <a:latin typeface="Arial"/>
                  </a:rPr>
                  <a:t>AMP</a:t>
                </a:r>
                <a:r>
                  <a:rPr b="1" lang="es-ES" sz="1800" spc="-1" strike="noStrike">
                    <a:solidFill>
                      <a:srgbClr val="000000"/>
                    </a:solidFill>
                    <a:latin typeface="Arial"/>
                  </a:rPr>
                  <a:t> + </a:t>
                </a:r>
                <a:r>
                  <a:rPr b="1" lang="es-ES" sz="1800" spc="-1" strike="noStrike">
                    <a:solidFill>
                      <a:srgbClr val="ff0000"/>
                    </a:solidFill>
                    <a:latin typeface="Arial"/>
                  </a:rPr>
                  <a:t>Enz</a:t>
                </a:r>
                <a:r>
                  <a:rPr b="1" lang="es-ES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" name="Text Box 19"/>
              <p:cNvSpPr/>
              <p:nvPr/>
            </p:nvSpPr>
            <p:spPr>
              <a:xfrm>
                <a:off x="6024240" y="307800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" name="Line 20"/>
              <p:cNvSpPr/>
              <p:nvPr/>
            </p:nvSpPr>
            <p:spPr>
              <a:xfrm>
                <a:off x="6156360" y="3365640"/>
                <a:ext cx="144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87" name="Group 21"/>
            <p:cNvGrpSpPr/>
            <p:nvPr/>
          </p:nvGrpSpPr>
          <p:grpSpPr>
            <a:xfrm>
              <a:off x="587160" y="3078000"/>
              <a:ext cx="3589560" cy="759960"/>
              <a:chOff x="587160" y="3078000"/>
              <a:chExt cx="3589560" cy="759960"/>
            </a:xfrm>
          </p:grpSpPr>
          <p:sp>
            <p:nvSpPr>
              <p:cNvPr id="188" name="Text Box 22"/>
              <p:cNvSpPr/>
              <p:nvPr/>
            </p:nvSpPr>
            <p:spPr>
              <a:xfrm>
                <a:off x="587160" y="3432240"/>
                <a:ext cx="358956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s-ES" sz="1800" spc="-1" strike="noStrike">
                    <a:solidFill>
                      <a:srgbClr val="ff0000"/>
                    </a:solidFill>
                    <a:latin typeface="Arial"/>
                  </a:rPr>
                  <a:t>Enz-</a:t>
                </a:r>
                <a:r>
                  <a:rPr b="1" lang="es-ES" sz="1800" spc="-1" strike="noStrike" baseline="30000">
                    <a:solidFill>
                      <a:srgbClr val="000000"/>
                    </a:solidFill>
                    <a:latin typeface="Arial"/>
                  </a:rPr>
                  <a:t>+</a:t>
                </a:r>
                <a:r>
                  <a:rPr b="1" lang="es-ES" sz="1800" spc="-1" strike="noStrike">
                    <a:solidFill>
                      <a:srgbClr val="000000"/>
                    </a:solidFill>
                    <a:latin typeface="Arial"/>
                  </a:rPr>
                  <a:t>NH</a:t>
                </a:r>
                <a:r>
                  <a:rPr b="1" lang="es-ES" sz="18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1" lang="es-ES" sz="1800" spc="-1" strike="noStrike">
                    <a:solidFill>
                      <a:srgbClr val="000000"/>
                    </a:solidFill>
                    <a:latin typeface="Arial"/>
                  </a:rPr>
                  <a:t>-C-COO-</a:t>
                </a:r>
                <a:r>
                  <a:rPr b="1" lang="es-ES" sz="1800" spc="-1" strike="noStrike">
                    <a:solidFill>
                      <a:srgbClr val="3333cc"/>
                    </a:solidFill>
                    <a:latin typeface="Arial"/>
                  </a:rPr>
                  <a:t>AMP  </a:t>
                </a:r>
                <a:r>
                  <a:rPr b="1" lang="es-ES" sz="1800" spc="-1" strike="noStrike">
                    <a:solidFill>
                      <a:srgbClr val="000000"/>
                    </a:solidFill>
                    <a:latin typeface="Arial"/>
                  </a:rPr>
                  <a:t>+  ARNt 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" name="Text Box 23"/>
              <p:cNvSpPr/>
              <p:nvPr/>
            </p:nvSpPr>
            <p:spPr>
              <a:xfrm>
                <a:off x="1560600" y="3078000"/>
                <a:ext cx="409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" name="Line 24"/>
              <p:cNvSpPr/>
              <p:nvPr/>
            </p:nvSpPr>
            <p:spPr>
              <a:xfrm>
                <a:off x="1763640" y="3367080"/>
                <a:ext cx="180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91" name="Line 25"/>
            <p:cNvSpPr/>
            <p:nvPr/>
          </p:nvSpPr>
          <p:spPr>
            <a:xfrm>
              <a:off x="4140360" y="3654360"/>
              <a:ext cx="122364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92" name="Group 26"/>
          <p:cNvGrpSpPr/>
          <p:nvPr/>
        </p:nvGrpSpPr>
        <p:grpSpPr>
          <a:xfrm>
            <a:off x="3142800" y="3660120"/>
            <a:ext cx="1171440" cy="1567080"/>
            <a:chOff x="3142800" y="3660120"/>
            <a:chExt cx="1171440" cy="1567080"/>
          </a:xfrm>
        </p:grpSpPr>
        <p:sp>
          <p:nvSpPr>
            <p:cNvPr id="193" name="Text Box 27"/>
            <p:cNvSpPr/>
            <p:nvPr/>
          </p:nvSpPr>
          <p:spPr>
            <a:xfrm>
              <a:off x="3347640" y="4949640"/>
              <a:ext cx="857160" cy="27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nticodó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AutoShape 28"/>
            <p:cNvSpPr/>
            <p:nvPr/>
          </p:nvSpPr>
          <p:spPr>
            <a:xfrm rot="5340000">
              <a:off x="3700080" y="4695480"/>
              <a:ext cx="113760" cy="334080"/>
            </a:xfrm>
            <a:custGeom>
              <a:avLst/>
              <a:gdLst>
                <a:gd name="textAreaLeft" fmla="*/ 0 w 113760"/>
                <a:gd name="textAreaRight" fmla="*/ 79920 w 113760"/>
                <a:gd name="textAreaTop" fmla="*/ 20880 h 334080"/>
                <a:gd name="textAreaBottom" fmla="*/ 313200 h 334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1350"/>
                    <a:pt x="21600" y="2700"/>
                  </a:cubicBezTo>
                  <a:lnTo>
                    <a:pt x="21600" y="18900"/>
                  </a:lnTo>
                  <a:cubicBezTo>
                    <a:pt x="21600" y="20250"/>
                    <a:pt x="108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95" name="Group 29"/>
            <p:cNvGrpSpPr/>
            <p:nvPr/>
          </p:nvGrpSpPr>
          <p:grpSpPr>
            <a:xfrm>
              <a:off x="3142800" y="3660120"/>
              <a:ext cx="1171440" cy="1176840"/>
              <a:chOff x="3142800" y="3660120"/>
              <a:chExt cx="1171440" cy="1176840"/>
            </a:xfrm>
          </p:grpSpPr>
          <p:grpSp>
            <p:nvGrpSpPr>
              <p:cNvPr id="196" name="Group 30"/>
              <p:cNvGrpSpPr/>
              <p:nvPr/>
            </p:nvGrpSpPr>
            <p:grpSpPr>
              <a:xfrm>
                <a:off x="3142800" y="3660120"/>
                <a:ext cx="1171440" cy="1176840"/>
                <a:chOff x="3142800" y="3660120"/>
                <a:chExt cx="1171440" cy="1176840"/>
              </a:xfrm>
            </p:grpSpPr>
            <p:grpSp>
              <p:nvGrpSpPr>
                <p:cNvPr id="197" name="Group 31"/>
                <p:cNvGrpSpPr/>
                <p:nvPr/>
              </p:nvGrpSpPr>
              <p:grpSpPr>
                <a:xfrm>
                  <a:off x="3600360" y="4659480"/>
                  <a:ext cx="348480" cy="174960"/>
                  <a:chOff x="3600360" y="4659480"/>
                  <a:chExt cx="348480" cy="174960"/>
                </a:xfrm>
              </p:grpSpPr>
              <p:sp>
                <p:nvSpPr>
                  <p:cNvPr id="198" name="Line 32"/>
                  <p:cNvSpPr/>
                  <p:nvPr/>
                </p:nvSpPr>
                <p:spPr>
                  <a:xfrm flipH="1">
                    <a:off x="3600360" y="4664160"/>
                    <a:ext cx="10080" cy="16704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9" name="Line 33"/>
                  <p:cNvSpPr/>
                  <p:nvPr/>
                </p:nvSpPr>
                <p:spPr>
                  <a:xfrm flipH="1">
                    <a:off x="3763440" y="4667760"/>
                    <a:ext cx="10080" cy="16668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0" name="Line 34"/>
                  <p:cNvSpPr/>
                  <p:nvPr/>
                </p:nvSpPr>
                <p:spPr>
                  <a:xfrm flipH="1">
                    <a:off x="3938760" y="4659480"/>
                    <a:ext cx="10080" cy="16668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01" name="Freeform 35"/>
                <p:cNvSpPr/>
                <p:nvPr/>
              </p:nvSpPr>
              <p:spPr>
                <a:xfrm rot="3660000">
                  <a:off x="3292920" y="3820320"/>
                  <a:ext cx="870840" cy="856440"/>
                </a:xfrm>
                <a:custGeom>
                  <a:avLst/>
                  <a:gdLst>
                    <a:gd name="textAreaLeft" fmla="*/ 0 w 870840"/>
                    <a:gd name="textAreaRight" fmla="*/ 871200 w 870840"/>
                    <a:gd name="textAreaTop" fmla="*/ 0 h 856440"/>
                    <a:gd name="textAreaBottom" fmla="*/ 856800 h 856440"/>
                  </a:gdLst>
                  <a:ahLst/>
                  <a:rect l="textAreaLeft" t="textAreaTop" r="textAreaRight" b="textAreaBottom"/>
                  <a:pathLst>
                    <a:path w="1400" h="1110">
                      <a:moveTo>
                        <a:pt x="140" y="390"/>
                      </a:moveTo>
                      <a:cubicBezTo>
                        <a:pt x="210" y="480"/>
                        <a:pt x="280" y="570"/>
                        <a:pt x="380" y="570"/>
                      </a:cubicBezTo>
                      <a:cubicBezTo>
                        <a:pt x="480" y="570"/>
                        <a:pt x="620" y="420"/>
                        <a:pt x="740" y="390"/>
                      </a:cubicBezTo>
                      <a:cubicBezTo>
                        <a:pt x="860" y="360"/>
                        <a:pt x="1000" y="360"/>
                        <a:pt x="1100" y="390"/>
                      </a:cubicBezTo>
                      <a:cubicBezTo>
                        <a:pt x="1200" y="420"/>
                        <a:pt x="1300" y="480"/>
                        <a:pt x="1340" y="570"/>
                      </a:cubicBezTo>
                      <a:cubicBezTo>
                        <a:pt x="1380" y="660"/>
                        <a:pt x="1400" y="840"/>
                        <a:pt x="1340" y="930"/>
                      </a:cubicBezTo>
                      <a:cubicBezTo>
                        <a:pt x="1280" y="1020"/>
                        <a:pt x="1100" y="1110"/>
                        <a:pt x="980" y="1110"/>
                      </a:cubicBezTo>
                      <a:cubicBezTo>
                        <a:pt x="860" y="1110"/>
                        <a:pt x="700" y="990"/>
                        <a:pt x="620" y="930"/>
                      </a:cubicBezTo>
                      <a:cubicBezTo>
                        <a:pt x="540" y="870"/>
                        <a:pt x="540" y="840"/>
                        <a:pt x="500" y="750"/>
                      </a:cubicBezTo>
                      <a:cubicBezTo>
                        <a:pt x="460" y="660"/>
                        <a:pt x="400" y="480"/>
                        <a:pt x="380" y="390"/>
                      </a:cubicBezTo>
                      <a:cubicBezTo>
                        <a:pt x="360" y="300"/>
                        <a:pt x="400" y="270"/>
                        <a:pt x="380" y="210"/>
                      </a:cubicBezTo>
                      <a:cubicBezTo>
                        <a:pt x="360" y="150"/>
                        <a:pt x="320" y="60"/>
                        <a:pt x="260" y="30"/>
                      </a:cubicBezTo>
                      <a:cubicBezTo>
                        <a:pt x="200" y="0"/>
                        <a:pt x="40" y="30"/>
                        <a:pt x="20" y="30"/>
                      </a:cubicBezTo>
                      <a:cubicBezTo>
                        <a:pt x="0" y="30"/>
                        <a:pt x="70" y="30"/>
                        <a:pt x="140" y="30"/>
                      </a:cubicBezTo>
                    </a:path>
                  </a:pathLst>
                </a:custGeom>
                <a:noFill/>
                <a:ln w="507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2" name="Text Box 36"/>
              <p:cNvSpPr/>
              <p:nvPr/>
            </p:nvSpPr>
            <p:spPr>
              <a:xfrm>
                <a:off x="3590280" y="4408920"/>
                <a:ext cx="337320" cy="118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rmAutofit fontScale="65000"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UAC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203" name="Group 37"/>
          <p:cNvGrpSpPr/>
          <p:nvPr/>
        </p:nvGrpSpPr>
        <p:grpSpPr>
          <a:xfrm>
            <a:off x="6054840" y="3685320"/>
            <a:ext cx="1360440" cy="1565280"/>
            <a:chOff x="6054840" y="3685320"/>
            <a:chExt cx="1360440" cy="1565280"/>
          </a:xfrm>
        </p:grpSpPr>
        <p:grpSp>
          <p:nvGrpSpPr>
            <p:cNvPr id="204" name="Group 38"/>
            <p:cNvGrpSpPr/>
            <p:nvPr/>
          </p:nvGrpSpPr>
          <p:grpSpPr>
            <a:xfrm>
              <a:off x="6054840" y="3685320"/>
              <a:ext cx="1360440" cy="1565280"/>
              <a:chOff x="6054840" y="3685320"/>
              <a:chExt cx="1360440" cy="1565280"/>
            </a:xfrm>
          </p:grpSpPr>
          <p:grpSp>
            <p:nvGrpSpPr>
              <p:cNvPr id="205" name="Group 39"/>
              <p:cNvGrpSpPr/>
              <p:nvPr/>
            </p:nvGrpSpPr>
            <p:grpSpPr>
              <a:xfrm>
                <a:off x="6054840" y="3843360"/>
                <a:ext cx="1360440" cy="1407240"/>
                <a:chOff x="6054840" y="3843360"/>
                <a:chExt cx="1360440" cy="1407240"/>
              </a:xfrm>
            </p:grpSpPr>
            <p:grpSp>
              <p:nvGrpSpPr>
                <p:cNvPr id="206" name="Group 40"/>
                <p:cNvGrpSpPr/>
                <p:nvPr/>
              </p:nvGrpSpPr>
              <p:grpSpPr>
                <a:xfrm>
                  <a:off x="6616080" y="5007600"/>
                  <a:ext cx="422640" cy="204480"/>
                  <a:chOff x="6616080" y="5007600"/>
                  <a:chExt cx="422640" cy="204480"/>
                </a:xfrm>
              </p:grpSpPr>
              <p:sp>
                <p:nvSpPr>
                  <p:cNvPr id="207" name="Line 41"/>
                  <p:cNvSpPr/>
                  <p:nvPr/>
                </p:nvSpPr>
                <p:spPr>
                  <a:xfrm>
                    <a:off x="6616080" y="5007600"/>
                    <a:ext cx="7560" cy="19188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" name="Line 42"/>
                  <p:cNvSpPr/>
                  <p:nvPr/>
                </p:nvSpPr>
                <p:spPr>
                  <a:xfrm>
                    <a:off x="6815160" y="5020200"/>
                    <a:ext cx="8280" cy="19188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9" name="Line 43"/>
                  <p:cNvSpPr/>
                  <p:nvPr/>
                </p:nvSpPr>
                <p:spPr>
                  <a:xfrm>
                    <a:off x="7031160" y="5018400"/>
                    <a:ext cx="7560" cy="19188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0" name="Freeform 44"/>
                <p:cNvSpPr/>
                <p:nvPr/>
              </p:nvSpPr>
              <p:spPr>
                <a:xfrm rot="3660000">
                  <a:off x="6195960" y="4067640"/>
                  <a:ext cx="1077840" cy="957960"/>
                </a:xfrm>
                <a:custGeom>
                  <a:avLst/>
                  <a:gdLst>
                    <a:gd name="textAreaLeft" fmla="*/ 0 w 1077840"/>
                    <a:gd name="textAreaRight" fmla="*/ 1078200 w 1077840"/>
                    <a:gd name="textAreaTop" fmla="*/ 0 h 957960"/>
                    <a:gd name="textAreaBottom" fmla="*/ 958320 h 957960"/>
                  </a:gdLst>
                  <a:ahLst/>
                  <a:rect l="textAreaLeft" t="textAreaTop" r="textAreaRight" b="textAreaBottom"/>
                  <a:pathLst>
                    <a:path w="1400" h="1110">
                      <a:moveTo>
                        <a:pt x="140" y="390"/>
                      </a:moveTo>
                      <a:cubicBezTo>
                        <a:pt x="210" y="480"/>
                        <a:pt x="280" y="570"/>
                        <a:pt x="380" y="570"/>
                      </a:cubicBezTo>
                      <a:cubicBezTo>
                        <a:pt x="480" y="570"/>
                        <a:pt x="620" y="420"/>
                        <a:pt x="740" y="390"/>
                      </a:cubicBezTo>
                      <a:cubicBezTo>
                        <a:pt x="860" y="360"/>
                        <a:pt x="1000" y="360"/>
                        <a:pt x="1100" y="390"/>
                      </a:cubicBezTo>
                      <a:cubicBezTo>
                        <a:pt x="1200" y="420"/>
                        <a:pt x="1300" y="480"/>
                        <a:pt x="1340" y="570"/>
                      </a:cubicBezTo>
                      <a:cubicBezTo>
                        <a:pt x="1380" y="660"/>
                        <a:pt x="1400" y="840"/>
                        <a:pt x="1340" y="930"/>
                      </a:cubicBezTo>
                      <a:cubicBezTo>
                        <a:pt x="1280" y="1020"/>
                        <a:pt x="1100" y="1110"/>
                        <a:pt x="980" y="1110"/>
                      </a:cubicBezTo>
                      <a:cubicBezTo>
                        <a:pt x="860" y="1110"/>
                        <a:pt x="700" y="990"/>
                        <a:pt x="620" y="930"/>
                      </a:cubicBezTo>
                      <a:cubicBezTo>
                        <a:pt x="540" y="870"/>
                        <a:pt x="540" y="840"/>
                        <a:pt x="500" y="750"/>
                      </a:cubicBezTo>
                      <a:cubicBezTo>
                        <a:pt x="460" y="660"/>
                        <a:pt x="400" y="480"/>
                        <a:pt x="380" y="390"/>
                      </a:cubicBezTo>
                      <a:cubicBezTo>
                        <a:pt x="360" y="300"/>
                        <a:pt x="400" y="270"/>
                        <a:pt x="380" y="210"/>
                      </a:cubicBezTo>
                      <a:cubicBezTo>
                        <a:pt x="360" y="150"/>
                        <a:pt x="320" y="60"/>
                        <a:pt x="260" y="30"/>
                      </a:cubicBezTo>
                      <a:cubicBezTo>
                        <a:pt x="200" y="0"/>
                        <a:pt x="40" y="30"/>
                        <a:pt x="20" y="30"/>
                      </a:cubicBezTo>
                      <a:cubicBezTo>
                        <a:pt x="0" y="30"/>
                        <a:pt x="70" y="30"/>
                        <a:pt x="140" y="30"/>
                      </a:cubicBezTo>
                    </a:path>
                  </a:pathLst>
                </a:custGeom>
                <a:noFill/>
                <a:ln w="507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1" name="Oval 45"/>
              <p:cNvSpPr/>
              <p:nvPr/>
            </p:nvSpPr>
            <p:spPr>
              <a:xfrm rot="1320000">
                <a:off x="6281640" y="3771720"/>
                <a:ext cx="519120" cy="288360"/>
              </a:xfrm>
              <a:prstGeom prst="ellipse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12" name="Text Box 46"/>
            <p:cNvSpPr/>
            <p:nvPr/>
          </p:nvSpPr>
          <p:spPr>
            <a:xfrm>
              <a:off x="6394320" y="3943440"/>
              <a:ext cx="412920" cy="13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 fontScale="63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Me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Text Box 47"/>
            <p:cNvSpPr/>
            <p:nvPr/>
          </p:nvSpPr>
          <p:spPr>
            <a:xfrm>
              <a:off x="6539040" y="4759200"/>
              <a:ext cx="412560" cy="13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 fontScale="74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UAC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4" name="Group 48"/>
          <p:cNvGrpSpPr/>
          <p:nvPr/>
        </p:nvGrpSpPr>
        <p:grpSpPr>
          <a:xfrm>
            <a:off x="1188720" y="3740400"/>
            <a:ext cx="1866960" cy="690120"/>
            <a:chOff x="1188720" y="3740400"/>
            <a:chExt cx="1866960" cy="690120"/>
          </a:xfrm>
        </p:grpSpPr>
        <p:grpSp>
          <p:nvGrpSpPr>
            <p:cNvPr id="215" name="Group 49"/>
            <p:cNvGrpSpPr/>
            <p:nvPr/>
          </p:nvGrpSpPr>
          <p:grpSpPr>
            <a:xfrm>
              <a:off x="1662840" y="3740400"/>
              <a:ext cx="779040" cy="690120"/>
              <a:chOff x="1662840" y="3740400"/>
              <a:chExt cx="779040" cy="690120"/>
            </a:xfrm>
          </p:grpSpPr>
          <p:sp>
            <p:nvSpPr>
              <p:cNvPr id="216" name="Oval 50"/>
              <p:cNvSpPr/>
              <p:nvPr/>
            </p:nvSpPr>
            <p:spPr>
              <a:xfrm rot="1320000">
                <a:off x="1729800" y="3843360"/>
                <a:ext cx="644760" cy="483840"/>
              </a:xfrm>
              <a:prstGeom prst="ellipse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Text Box 51"/>
              <p:cNvSpPr/>
              <p:nvPr/>
            </p:nvSpPr>
            <p:spPr>
              <a:xfrm>
                <a:off x="1831320" y="3982320"/>
                <a:ext cx="416520" cy="216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fMet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18" name="Text Box 52"/>
            <p:cNvSpPr/>
            <p:nvPr/>
          </p:nvSpPr>
          <p:spPr>
            <a:xfrm>
              <a:off x="1188720" y="3890880"/>
              <a:ext cx="663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Enz-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Text Box 53"/>
            <p:cNvSpPr/>
            <p:nvPr/>
          </p:nvSpPr>
          <p:spPr>
            <a:xfrm>
              <a:off x="2291400" y="3935520"/>
              <a:ext cx="764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-AM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0" name="Text Box 55"/>
          <p:cNvSpPr/>
          <p:nvPr/>
        </p:nvSpPr>
        <p:spPr>
          <a:xfrm>
            <a:off x="3488400" y="3213000"/>
            <a:ext cx="240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s-ES" sz="1400" spc="-1" strike="noStrike">
                <a:solidFill>
                  <a:srgbClr val="ff3300"/>
                </a:solidFill>
                <a:latin typeface="Arial"/>
              </a:rPr>
              <a:t>Aminoacil-ARNt sintetasa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Elipse 1"/>
          <p:cNvSpPr/>
          <p:nvPr/>
        </p:nvSpPr>
        <p:spPr>
          <a:xfrm>
            <a:off x="5553000" y="2925720"/>
            <a:ext cx="2114640" cy="259092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564000" y="333360"/>
            <a:ext cx="518472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 u="sng">
                <a:solidFill>
                  <a:srgbClr val="3333cc"/>
                </a:solidFill>
                <a:uFillTx/>
                <a:latin typeface="Arial"/>
              </a:rPr>
              <a:t>Traducción de Proteínas en procariotas. Iniciació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"/>
          <p:cNvGrpSpPr/>
          <p:nvPr/>
        </p:nvGrpSpPr>
        <p:grpSpPr>
          <a:xfrm>
            <a:off x="863640" y="468360"/>
            <a:ext cx="3132000" cy="5979240"/>
            <a:chOff x="863640" y="468360"/>
            <a:chExt cx="3132000" cy="5979240"/>
          </a:xfrm>
        </p:grpSpPr>
        <p:grpSp>
          <p:nvGrpSpPr>
            <p:cNvPr id="224" name="Group 4"/>
            <p:cNvGrpSpPr/>
            <p:nvPr/>
          </p:nvGrpSpPr>
          <p:grpSpPr>
            <a:xfrm>
              <a:off x="863640" y="468360"/>
              <a:ext cx="3132000" cy="5979240"/>
              <a:chOff x="863640" y="468360"/>
              <a:chExt cx="3132000" cy="5979240"/>
            </a:xfrm>
          </p:grpSpPr>
          <p:grpSp>
            <p:nvGrpSpPr>
              <p:cNvPr id="225" name="Group 5"/>
              <p:cNvGrpSpPr/>
              <p:nvPr/>
            </p:nvGrpSpPr>
            <p:grpSpPr>
              <a:xfrm>
                <a:off x="863640" y="468360"/>
                <a:ext cx="3132000" cy="5979240"/>
                <a:chOff x="863640" y="468360"/>
                <a:chExt cx="3132000" cy="5979240"/>
              </a:xfrm>
            </p:grpSpPr>
            <p:grpSp>
              <p:nvGrpSpPr>
                <p:cNvPr id="226" name="Group 6"/>
                <p:cNvGrpSpPr/>
                <p:nvPr/>
              </p:nvGrpSpPr>
              <p:grpSpPr>
                <a:xfrm>
                  <a:off x="1709640" y="1733400"/>
                  <a:ext cx="849600" cy="693360"/>
                  <a:chOff x="1709640" y="1733400"/>
                  <a:chExt cx="849600" cy="693360"/>
                </a:xfrm>
              </p:grpSpPr>
              <p:sp>
                <p:nvSpPr>
                  <p:cNvPr id="227" name="Text Box 7"/>
                  <p:cNvSpPr/>
                  <p:nvPr/>
                </p:nvSpPr>
                <p:spPr>
                  <a:xfrm>
                    <a:off x="1709640" y="1733400"/>
                    <a:ext cx="609840" cy="255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mARN</a:t>
                    </a:r>
                    <a:endParaRPr b="0" lang="en-US" sz="12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28" name="Group 8"/>
                  <p:cNvGrpSpPr/>
                  <p:nvPr/>
                </p:nvGrpSpPr>
                <p:grpSpPr>
                  <a:xfrm>
                    <a:off x="2230200" y="1733400"/>
                    <a:ext cx="329040" cy="693360"/>
                    <a:chOff x="2230200" y="1733400"/>
                    <a:chExt cx="329040" cy="693360"/>
                  </a:xfrm>
                </p:grpSpPr>
                <p:sp>
                  <p:nvSpPr>
                    <p:cNvPr id="229" name="Arc 9"/>
                    <p:cNvSpPr/>
                    <p:nvPr/>
                  </p:nvSpPr>
                  <p:spPr>
                    <a:xfrm flipV="1" rot="16349400">
                      <a:off x="2114640" y="1987920"/>
                      <a:ext cx="559440" cy="304920"/>
                    </a:xfrm>
                    <a:custGeom>
                      <a:avLst/>
                      <a:gdLst>
                        <a:gd name="textAreaLeft" fmla="*/ 0 w 559440"/>
                        <a:gd name="textAreaRight" fmla="*/ 559800 w 559440"/>
                        <a:gd name="textAreaTop" fmla="*/ -360 h 304920"/>
                        <a:gd name="textAreaBottom" fmla="*/ 304920 h 304920"/>
                      </a:gdLst>
                      <a:ahLst/>
                      <a:rect l="textAreaLeft" t="textAreaTop" r="textAreaRight" b="textAreaBottom"/>
                      <a:pathLst>
                        <a:path fill="none" w="21600" h="17104">
                          <a:moveTo>
                            <a:pt x="13191" y="0"/>
                          </a:moveTo>
                          <a:cubicBezTo>
                            <a:pt x="18494" y="4089"/>
                            <a:pt x="21600" y="10407"/>
                            <a:pt x="21600" y="17104"/>
                          </a:cubicBezTo>
                        </a:path>
                        <a:path stroke="0" w="21600" h="17104">
                          <a:moveTo>
                            <a:pt x="13191" y="0"/>
                          </a:moveTo>
                          <a:cubicBezTo>
                            <a:pt x="18494" y="4089"/>
                            <a:pt x="21600" y="10407"/>
                            <a:pt x="21600" y="17104"/>
                          </a:cubicBezTo>
                          <a:lnTo>
                            <a:pt x="0" y="17104"/>
                          </a:lnTo>
                          <a:lnTo>
                            <a:pt x="13191" y="0"/>
                          </a:lnTo>
                          <a:close/>
                        </a:path>
                      </a:pathLst>
                    </a:custGeom>
                    <a:noFill/>
                    <a:ln w="158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Line 10"/>
                    <p:cNvSpPr/>
                    <p:nvPr/>
                  </p:nvSpPr>
                  <p:spPr>
                    <a:xfrm>
                      <a:off x="2547720" y="1733400"/>
                      <a:ext cx="0" cy="57132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31" name="Group 11"/>
                <p:cNvGrpSpPr/>
                <p:nvPr/>
              </p:nvGrpSpPr>
              <p:grpSpPr>
                <a:xfrm>
                  <a:off x="863640" y="468360"/>
                  <a:ext cx="2378880" cy="1169640"/>
                  <a:chOff x="863640" y="468360"/>
                  <a:chExt cx="2378880" cy="1169640"/>
                </a:xfrm>
              </p:grpSpPr>
              <p:sp>
                <p:nvSpPr>
                  <p:cNvPr id="232" name="Line 12"/>
                  <p:cNvSpPr/>
                  <p:nvPr/>
                </p:nvSpPr>
                <p:spPr>
                  <a:xfrm>
                    <a:off x="2319120" y="810720"/>
                    <a:ext cx="75960" cy="34236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  <a:tailEnd len="sm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33" name="Group 13"/>
                  <p:cNvGrpSpPr/>
                  <p:nvPr/>
                </p:nvGrpSpPr>
                <p:grpSpPr>
                  <a:xfrm>
                    <a:off x="863640" y="1131840"/>
                    <a:ext cx="2378880" cy="506160"/>
                    <a:chOff x="863640" y="1131840"/>
                    <a:chExt cx="2378880" cy="506160"/>
                  </a:xfrm>
                </p:grpSpPr>
                <p:grpSp>
                  <p:nvGrpSpPr>
                    <p:cNvPr id="234" name="Group 14"/>
                    <p:cNvGrpSpPr/>
                    <p:nvPr/>
                  </p:nvGrpSpPr>
                  <p:grpSpPr>
                    <a:xfrm>
                      <a:off x="1853280" y="1131840"/>
                      <a:ext cx="1389240" cy="506160"/>
                      <a:chOff x="1853280" y="1131840"/>
                      <a:chExt cx="1389240" cy="506160"/>
                    </a:xfrm>
                  </p:grpSpPr>
                  <p:sp>
                    <p:nvSpPr>
                      <p:cNvPr id="235" name="Oval 15"/>
                      <p:cNvSpPr/>
                      <p:nvPr/>
                    </p:nvSpPr>
                    <p:spPr>
                      <a:xfrm rot="21459600">
                        <a:off x="1861560" y="1159560"/>
                        <a:ext cx="1371960" cy="450360"/>
                      </a:xfrm>
                      <a:prstGeom prst="ellipse">
                        <a:avLst/>
                      </a:prstGeom>
                      <a:gradFill rotWithShape="0">
                        <a:gsLst>
                          <a:gs pos="0">
                            <a:srgbClr val="ffffff"/>
                          </a:gs>
                          <a:gs pos="100000">
                            <a:srgbClr val="767676"/>
                          </a:gs>
                        </a:gsLst>
                        <a:lin ang="5538000"/>
                      </a:gradFill>
                      <a:ln w="9360">
                        <a:solidFill>
                          <a:srgbClr val="80808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236" name="Group 16"/>
                      <p:cNvGrpSpPr/>
                      <p:nvPr/>
                    </p:nvGrpSpPr>
                    <p:grpSpPr>
                      <a:xfrm>
                        <a:off x="2242800" y="1186920"/>
                        <a:ext cx="380880" cy="342360"/>
                        <a:chOff x="2242800" y="1186920"/>
                        <a:chExt cx="380880" cy="342360"/>
                      </a:xfrm>
                    </p:grpSpPr>
                    <p:sp>
                      <p:nvSpPr>
                        <p:cNvPr id="237" name="AutoShape 17"/>
                        <p:cNvSpPr/>
                        <p:nvPr/>
                      </p:nvSpPr>
                      <p:spPr>
                        <a:xfrm>
                          <a:off x="2242800" y="1186920"/>
                          <a:ext cx="380880" cy="342360"/>
                        </a:xfrm>
                        <a:prstGeom prst="roundRect">
                          <a:avLst>
                            <a:gd name="adj" fmla="val 16667"/>
                          </a:avLst>
                        </a:prstGeom>
                        <a:noFill/>
                        <a:ln w="12600">
                          <a:solidFill>
                            <a:srgbClr val="000000"/>
                          </a:solidFill>
                          <a:prstDash val="dash"/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457200"/>
                              <a:tab algn="l" pos="914400"/>
                              <a:tab algn="l" pos="1371600"/>
                              <a:tab algn="l" pos="1828800"/>
                              <a:tab algn="l" pos="2286000"/>
                              <a:tab algn="l" pos="2743200"/>
                              <a:tab algn="l" pos="3200400"/>
                              <a:tab algn="l" pos="3657600"/>
                              <a:tab algn="l" pos="4114800"/>
                              <a:tab algn="l" pos="4572000"/>
                              <a:tab algn="l" pos="5029200"/>
                              <a:tab algn="l" pos="5486400"/>
                              <a:tab algn="l" pos="5943600"/>
                              <a:tab algn="l" pos="6400800"/>
                              <a:tab algn="l" pos="6858000"/>
                              <a:tab algn="l" pos="7315200"/>
                              <a:tab algn="l" pos="7772400"/>
                              <a:tab algn="l" pos="8229600"/>
                              <a:tab algn="l" pos="8686800"/>
                              <a:tab algn="l" pos="91440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" name="Text Box 18"/>
                        <p:cNvSpPr/>
                        <p:nvPr/>
                      </p:nvSpPr>
                      <p:spPr>
                        <a:xfrm>
                          <a:off x="2280960" y="1301040"/>
                          <a:ext cx="342720" cy="20340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0" rIns="0" tIns="0" bIns="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457200"/>
                              <a:tab algn="l" pos="914400"/>
                              <a:tab algn="l" pos="1371600"/>
                              <a:tab algn="l" pos="1828800"/>
                              <a:tab algn="l" pos="2286000"/>
                              <a:tab algn="l" pos="2743200"/>
                              <a:tab algn="l" pos="3200400"/>
                              <a:tab algn="l" pos="3657600"/>
                              <a:tab algn="l" pos="4114800"/>
                              <a:tab algn="l" pos="4572000"/>
                              <a:tab algn="l" pos="5029200"/>
                              <a:tab algn="l" pos="5486400"/>
                              <a:tab algn="l" pos="5943600"/>
                              <a:tab algn="l" pos="6400800"/>
                              <a:tab algn="l" pos="6858000"/>
                              <a:tab algn="l" pos="7315200"/>
                              <a:tab algn="l" pos="7772400"/>
                              <a:tab algn="l" pos="8229600"/>
                              <a:tab algn="l" pos="8686800"/>
                              <a:tab algn="l" pos="9144000"/>
                            </a:tabLst>
                          </a:pPr>
                          <a:r>
                            <a:rPr b="1" lang="en-US" sz="1200" spc="-1" strike="noStrike">
                              <a:solidFill>
                                <a:srgbClr val="000000"/>
                              </a:solidFill>
                              <a:latin typeface="Arial"/>
                            </a:rPr>
                            <a:t>P</a:t>
                          </a:r>
                          <a:endParaRPr b="0" lang="en-US" sz="12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239" name="Group 19"/>
                      <p:cNvGrpSpPr/>
                      <p:nvPr/>
                    </p:nvGrpSpPr>
                    <p:grpSpPr>
                      <a:xfrm>
                        <a:off x="2700000" y="1267560"/>
                        <a:ext cx="304920" cy="228240"/>
                        <a:chOff x="2700000" y="1267560"/>
                        <a:chExt cx="304920" cy="228240"/>
                      </a:xfrm>
                    </p:grpSpPr>
                    <p:sp>
                      <p:nvSpPr>
                        <p:cNvPr id="240" name="AutoShape 20"/>
                        <p:cNvSpPr/>
                        <p:nvPr/>
                      </p:nvSpPr>
                      <p:spPr>
                        <a:xfrm>
                          <a:off x="2700000" y="1267560"/>
                          <a:ext cx="304920" cy="228240"/>
                        </a:xfrm>
                        <a:prstGeom prst="roundRect">
                          <a:avLst>
                            <a:gd name="adj" fmla="val 16667"/>
                          </a:avLst>
                        </a:prstGeom>
                        <a:noFill/>
                        <a:ln w="12600">
                          <a:solidFill>
                            <a:srgbClr val="000000"/>
                          </a:solidFill>
                          <a:prstDash val="dash"/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457200"/>
                              <a:tab algn="l" pos="914400"/>
                              <a:tab algn="l" pos="1371600"/>
                              <a:tab algn="l" pos="1828800"/>
                              <a:tab algn="l" pos="2286000"/>
                              <a:tab algn="l" pos="2743200"/>
                              <a:tab algn="l" pos="3200400"/>
                              <a:tab algn="l" pos="3657600"/>
                              <a:tab algn="l" pos="4114800"/>
                              <a:tab algn="l" pos="4572000"/>
                              <a:tab algn="l" pos="5029200"/>
                              <a:tab algn="l" pos="5486400"/>
                              <a:tab algn="l" pos="5943600"/>
                              <a:tab algn="l" pos="6400800"/>
                              <a:tab algn="l" pos="6858000"/>
                              <a:tab algn="l" pos="7315200"/>
                              <a:tab algn="l" pos="7772400"/>
                              <a:tab algn="l" pos="8229600"/>
                              <a:tab algn="l" pos="8686800"/>
                              <a:tab algn="l" pos="91440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1" name="Text Box 21"/>
                        <p:cNvSpPr/>
                        <p:nvPr/>
                      </p:nvSpPr>
                      <p:spPr>
                        <a:xfrm>
                          <a:off x="2730240" y="1343520"/>
                          <a:ext cx="274320" cy="13572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0" rIns="0" tIns="0" bIns="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457200"/>
                              <a:tab algn="l" pos="914400"/>
                              <a:tab algn="l" pos="1371600"/>
                              <a:tab algn="l" pos="1828800"/>
                              <a:tab algn="l" pos="2286000"/>
                              <a:tab algn="l" pos="2743200"/>
                              <a:tab algn="l" pos="3200400"/>
                              <a:tab algn="l" pos="3657600"/>
                              <a:tab algn="l" pos="4114800"/>
                              <a:tab algn="l" pos="4572000"/>
                              <a:tab algn="l" pos="5029200"/>
                              <a:tab algn="l" pos="5486400"/>
                              <a:tab algn="l" pos="5943600"/>
                              <a:tab algn="l" pos="6400800"/>
                              <a:tab algn="l" pos="6858000"/>
                              <a:tab algn="l" pos="7315200"/>
                              <a:tab algn="l" pos="7772400"/>
                              <a:tab algn="l" pos="8229600"/>
                              <a:tab algn="l" pos="8686800"/>
                              <a:tab algn="l" pos="9144000"/>
                            </a:tabLst>
                          </a:pPr>
                          <a:r>
                            <a:rPr b="1" lang="en-US" sz="1200" spc="-1" strike="noStrike">
                              <a:solidFill>
                                <a:srgbClr val="000000"/>
                              </a:solidFill>
                              <a:latin typeface="Arial"/>
                            </a:rPr>
                            <a:t>A</a:t>
                          </a:r>
                          <a:endParaRPr b="0" lang="en-US" sz="12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242" name="Text Box 22"/>
                    <p:cNvSpPr/>
                    <p:nvPr/>
                  </p:nvSpPr>
                  <p:spPr>
                    <a:xfrm>
                      <a:off x="863640" y="1236600"/>
                      <a:ext cx="982440" cy="3938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bunidad 30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Group 23"/>
                  <p:cNvGrpSpPr/>
                  <p:nvPr/>
                </p:nvGrpSpPr>
                <p:grpSpPr>
                  <a:xfrm>
                    <a:off x="2090520" y="468360"/>
                    <a:ext cx="380880" cy="342360"/>
                    <a:chOff x="2090520" y="468360"/>
                    <a:chExt cx="380880" cy="342360"/>
                  </a:xfrm>
                </p:grpSpPr>
                <p:sp>
                  <p:nvSpPr>
                    <p:cNvPr id="244" name="Oval 24"/>
                    <p:cNvSpPr/>
                    <p:nvPr/>
                  </p:nvSpPr>
                  <p:spPr>
                    <a:xfrm>
                      <a:off x="2090520" y="468360"/>
                      <a:ext cx="380880" cy="342360"/>
                    </a:xfrm>
                    <a:prstGeom prst="ellipse">
                      <a:avLst/>
                    </a:prstGeom>
                    <a:solidFill>
                      <a:srgbClr val="c0c0c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Text Box 25"/>
                    <p:cNvSpPr/>
                    <p:nvPr/>
                  </p:nvSpPr>
                  <p:spPr>
                    <a:xfrm>
                      <a:off x="2166480" y="582480"/>
                      <a:ext cx="304560" cy="1137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F-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Group 26"/>
                  <p:cNvGrpSpPr/>
                  <p:nvPr/>
                </p:nvGrpSpPr>
                <p:grpSpPr>
                  <a:xfrm>
                    <a:off x="2548080" y="468360"/>
                    <a:ext cx="380880" cy="342360"/>
                    <a:chOff x="2548080" y="468360"/>
                    <a:chExt cx="380880" cy="342360"/>
                  </a:xfrm>
                </p:grpSpPr>
                <p:sp>
                  <p:nvSpPr>
                    <p:cNvPr id="247" name="Oval 27"/>
                    <p:cNvSpPr/>
                    <p:nvPr/>
                  </p:nvSpPr>
                  <p:spPr>
                    <a:xfrm>
                      <a:off x="2548080" y="468360"/>
                      <a:ext cx="380880" cy="342360"/>
                    </a:xfrm>
                    <a:prstGeom prst="ellipse">
                      <a:avLst/>
                    </a:prstGeom>
                    <a:solidFill>
                      <a:srgbClr val="c0c0c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Text Box 28"/>
                    <p:cNvSpPr/>
                    <p:nvPr/>
                  </p:nvSpPr>
                  <p:spPr>
                    <a:xfrm>
                      <a:off x="2624040" y="582480"/>
                      <a:ext cx="304560" cy="1137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F-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Line 29"/>
                  <p:cNvSpPr/>
                  <p:nvPr/>
                </p:nvSpPr>
                <p:spPr>
                  <a:xfrm flipH="1">
                    <a:off x="2471760" y="810720"/>
                    <a:ext cx="228240" cy="34236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  <a:tailEnd len="sm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0" name="Group 30"/>
                <p:cNvGrpSpPr/>
                <p:nvPr/>
              </p:nvGrpSpPr>
              <p:grpSpPr>
                <a:xfrm>
                  <a:off x="1252440" y="2332080"/>
                  <a:ext cx="2667240" cy="1087920"/>
                  <a:chOff x="1252440" y="2332080"/>
                  <a:chExt cx="2667240" cy="1087920"/>
                </a:xfrm>
              </p:grpSpPr>
              <p:grpSp>
                <p:nvGrpSpPr>
                  <p:cNvPr id="251" name="Group 31"/>
                  <p:cNvGrpSpPr/>
                  <p:nvPr/>
                </p:nvGrpSpPr>
                <p:grpSpPr>
                  <a:xfrm>
                    <a:off x="2005920" y="2913480"/>
                    <a:ext cx="1388880" cy="506520"/>
                    <a:chOff x="2005920" y="2913480"/>
                    <a:chExt cx="1388880" cy="506520"/>
                  </a:xfrm>
                </p:grpSpPr>
                <p:sp>
                  <p:nvSpPr>
                    <p:cNvPr id="252" name="Oval 32"/>
                    <p:cNvSpPr/>
                    <p:nvPr/>
                  </p:nvSpPr>
                  <p:spPr>
                    <a:xfrm rot="21459600">
                      <a:off x="2014200" y="2941200"/>
                      <a:ext cx="1371600" cy="45072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767676"/>
                        </a:gs>
                      </a:gsLst>
                      <a:lin ang="5538000"/>
                    </a:gradFill>
                    <a:ln w="9360">
                      <a:solidFill>
                        <a:srgbClr val="80808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253" name="Group 33"/>
                    <p:cNvGrpSpPr/>
                    <p:nvPr/>
                  </p:nvGrpSpPr>
                  <p:grpSpPr>
                    <a:xfrm>
                      <a:off x="2395440" y="2968560"/>
                      <a:ext cx="380880" cy="342720"/>
                      <a:chOff x="2395440" y="2968560"/>
                      <a:chExt cx="380880" cy="342720"/>
                    </a:xfrm>
                  </p:grpSpPr>
                  <p:sp>
                    <p:nvSpPr>
                      <p:cNvPr id="254" name="AutoShape 34"/>
                      <p:cNvSpPr/>
                      <p:nvPr/>
                    </p:nvSpPr>
                    <p:spPr>
                      <a:xfrm>
                        <a:off x="2395440" y="2968560"/>
                        <a:ext cx="380880" cy="342720"/>
                      </a:xfrm>
                      <a:prstGeom prst="roundRect">
                        <a:avLst>
                          <a:gd name="adj" fmla="val 16667"/>
                        </a:avLst>
                      </a:prstGeom>
                      <a:noFill/>
                      <a:ln w="12600">
                        <a:solidFill>
                          <a:srgbClr val="000000"/>
                        </a:solidFill>
                        <a:prstDash val="dash"/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55" name="Text Box 35"/>
                      <p:cNvSpPr/>
                      <p:nvPr/>
                    </p:nvSpPr>
                    <p:spPr>
                      <a:xfrm>
                        <a:off x="2433600" y="3082680"/>
                        <a:ext cx="342720" cy="2037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r>
                          <a:rPr b="1" lang="en-US" sz="12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P</a:t>
                        </a:r>
                        <a:endParaRPr b="0" lang="en-US" sz="12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256" name="Group 36"/>
                    <p:cNvGrpSpPr/>
                    <p:nvPr/>
                  </p:nvGrpSpPr>
                  <p:grpSpPr>
                    <a:xfrm>
                      <a:off x="2852640" y="3049200"/>
                      <a:ext cx="304560" cy="228600"/>
                      <a:chOff x="2852640" y="3049200"/>
                      <a:chExt cx="304560" cy="228600"/>
                    </a:xfrm>
                  </p:grpSpPr>
                  <p:sp>
                    <p:nvSpPr>
                      <p:cNvPr id="257" name="AutoShape 37"/>
                      <p:cNvSpPr/>
                      <p:nvPr/>
                    </p:nvSpPr>
                    <p:spPr>
                      <a:xfrm>
                        <a:off x="2852640" y="3049200"/>
                        <a:ext cx="304560" cy="228600"/>
                      </a:xfrm>
                      <a:prstGeom prst="roundRect">
                        <a:avLst>
                          <a:gd name="adj" fmla="val 16667"/>
                        </a:avLst>
                      </a:prstGeom>
                      <a:noFill/>
                      <a:ln w="12600">
                        <a:solidFill>
                          <a:srgbClr val="000000"/>
                        </a:solidFill>
                        <a:prstDash val="dash"/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58" name="Text Box 38"/>
                      <p:cNvSpPr/>
                      <p:nvPr/>
                    </p:nvSpPr>
                    <p:spPr>
                      <a:xfrm>
                        <a:off x="2882880" y="3125160"/>
                        <a:ext cx="273960" cy="1357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r>
                          <a:rPr b="1" lang="en-US" sz="12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A</a:t>
                        </a:r>
                        <a:endParaRPr b="0" lang="en-US" sz="12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259" name="Group 39"/>
                  <p:cNvGrpSpPr/>
                  <p:nvPr/>
                </p:nvGrpSpPr>
                <p:grpSpPr>
                  <a:xfrm>
                    <a:off x="1938240" y="3049560"/>
                    <a:ext cx="380880" cy="342720"/>
                    <a:chOff x="1938240" y="3049560"/>
                    <a:chExt cx="380880" cy="342720"/>
                  </a:xfrm>
                </p:grpSpPr>
                <p:sp>
                  <p:nvSpPr>
                    <p:cNvPr id="260" name="Oval 40"/>
                    <p:cNvSpPr/>
                    <p:nvPr/>
                  </p:nvSpPr>
                  <p:spPr>
                    <a:xfrm>
                      <a:off x="1938240" y="3049560"/>
                      <a:ext cx="380880" cy="342720"/>
                    </a:xfrm>
                    <a:prstGeom prst="ellipse">
                      <a:avLst/>
                    </a:prstGeom>
                    <a:solidFill>
                      <a:srgbClr val="c0c0c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1" name="Text Box 41"/>
                    <p:cNvSpPr/>
                    <p:nvPr/>
                  </p:nvSpPr>
                  <p:spPr>
                    <a:xfrm>
                      <a:off x="2014200" y="3163680"/>
                      <a:ext cx="304560" cy="1141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F-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2" name="Group 42"/>
                  <p:cNvGrpSpPr/>
                  <p:nvPr/>
                </p:nvGrpSpPr>
                <p:grpSpPr>
                  <a:xfrm>
                    <a:off x="2852640" y="2935440"/>
                    <a:ext cx="380880" cy="342720"/>
                    <a:chOff x="2852640" y="2935440"/>
                    <a:chExt cx="380880" cy="342720"/>
                  </a:xfrm>
                </p:grpSpPr>
                <p:sp>
                  <p:nvSpPr>
                    <p:cNvPr id="263" name="Oval 43"/>
                    <p:cNvSpPr/>
                    <p:nvPr/>
                  </p:nvSpPr>
                  <p:spPr>
                    <a:xfrm>
                      <a:off x="2852640" y="2935440"/>
                      <a:ext cx="380880" cy="342720"/>
                    </a:xfrm>
                    <a:prstGeom prst="ellipse">
                      <a:avLst/>
                    </a:prstGeom>
                    <a:solidFill>
                      <a:srgbClr val="c0c0c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4" name="Text Box 44"/>
                    <p:cNvSpPr/>
                    <p:nvPr/>
                  </p:nvSpPr>
                  <p:spPr>
                    <a:xfrm>
                      <a:off x="2928600" y="3049560"/>
                      <a:ext cx="304560" cy="1141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F-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5" name="Group 45"/>
                  <p:cNvGrpSpPr/>
                  <p:nvPr/>
                </p:nvGrpSpPr>
                <p:grpSpPr>
                  <a:xfrm>
                    <a:off x="1252440" y="2332080"/>
                    <a:ext cx="2667240" cy="768600"/>
                    <a:chOff x="1252440" y="2332080"/>
                    <a:chExt cx="2667240" cy="768600"/>
                  </a:xfrm>
                </p:grpSpPr>
                <p:sp>
                  <p:nvSpPr>
                    <p:cNvPr id="266" name="Text Box 46"/>
                    <p:cNvSpPr/>
                    <p:nvPr/>
                  </p:nvSpPr>
                  <p:spPr>
                    <a:xfrm>
                      <a:off x="1945800" y="2332080"/>
                      <a:ext cx="609480" cy="325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Codón de inicio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7" name="Text Box 47"/>
                    <p:cNvSpPr/>
                    <p:nvPr/>
                  </p:nvSpPr>
                  <p:spPr>
                    <a:xfrm>
                      <a:off x="3615120" y="2872440"/>
                      <a:ext cx="304560" cy="118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’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268" name="Group 48"/>
                    <p:cNvGrpSpPr/>
                    <p:nvPr/>
                  </p:nvGrpSpPr>
                  <p:grpSpPr>
                    <a:xfrm>
                      <a:off x="1252440" y="2872440"/>
                      <a:ext cx="609480" cy="228240"/>
                      <a:chOff x="1252440" y="2872440"/>
                      <a:chExt cx="609480" cy="228240"/>
                    </a:xfrm>
                  </p:grpSpPr>
                  <p:sp>
                    <p:nvSpPr>
                      <p:cNvPr id="269" name="Text Box 49"/>
                      <p:cNvSpPr/>
                      <p:nvPr/>
                    </p:nvSpPr>
                    <p:spPr>
                      <a:xfrm>
                        <a:off x="1404720" y="2872440"/>
                        <a:ext cx="304560" cy="1180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r>
                          <a:rPr b="1" lang="en-US" sz="9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5’</a:t>
                        </a:r>
                        <a:endParaRPr b="0" lang="en-US" sz="9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70" name="Text Box 50"/>
                      <p:cNvSpPr/>
                      <p:nvPr/>
                    </p:nvSpPr>
                    <p:spPr>
                      <a:xfrm>
                        <a:off x="1252440" y="2986560"/>
                        <a:ext cx="609480" cy="1141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r>
                          <a:rPr b="1" lang="en-US" sz="10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mARN</a:t>
                        </a:r>
                        <a:endParaRPr b="0" lang="en-US" sz="1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271" name="Line 51"/>
                    <p:cNvSpPr/>
                    <p:nvPr/>
                  </p:nvSpPr>
                  <p:spPr>
                    <a:xfrm>
                      <a:off x="2471760" y="2529360"/>
                      <a:ext cx="75960" cy="2286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sm" type="triangle" w="sm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2" name="Text Box 52"/>
                    <p:cNvSpPr/>
                    <p:nvPr/>
                  </p:nvSpPr>
                  <p:spPr>
                    <a:xfrm>
                      <a:off x="2380320" y="2986560"/>
                      <a:ext cx="457200" cy="1141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G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3" name="AutoShape 53"/>
                    <p:cNvSpPr/>
                    <p:nvPr/>
                  </p:nvSpPr>
                  <p:spPr>
                    <a:xfrm rot="16200000">
                      <a:off x="2528640" y="2662200"/>
                      <a:ext cx="114120" cy="304560"/>
                    </a:xfrm>
                    <a:custGeom>
                      <a:avLst/>
                      <a:gdLst>
                        <a:gd name="textAreaLeft" fmla="*/ 0 w 114120"/>
                        <a:gd name="textAreaRight" fmla="*/ 80280 w 114120"/>
                        <a:gd name="textAreaTop" fmla="*/ 18720 h 304560"/>
                        <a:gd name="textAreaBottom" fmla="*/ 285840 h 30456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cubicBezTo>
                            <a:pt x="10800" y="0"/>
                            <a:pt x="21600" y="1350"/>
                            <a:pt x="21600" y="2700"/>
                          </a:cubicBezTo>
                          <a:lnTo>
                            <a:pt x="21600" y="18900"/>
                          </a:lnTo>
                          <a:cubicBezTo>
                            <a:pt x="21600" y="20250"/>
                            <a:pt x="10800" y="21600"/>
                            <a:pt x="0" y="21600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274" name="Group 54"/>
                    <p:cNvGrpSpPr/>
                    <p:nvPr/>
                  </p:nvGrpSpPr>
                  <p:grpSpPr>
                    <a:xfrm>
                      <a:off x="1633320" y="2797920"/>
                      <a:ext cx="2057760" cy="153360"/>
                      <a:chOff x="1633320" y="2797920"/>
                      <a:chExt cx="2057760" cy="153360"/>
                    </a:xfrm>
                  </p:grpSpPr>
                  <p:grpSp>
                    <p:nvGrpSpPr>
                      <p:cNvPr id="275" name="Group 55"/>
                      <p:cNvGrpSpPr/>
                      <p:nvPr/>
                    </p:nvGrpSpPr>
                    <p:grpSpPr>
                      <a:xfrm>
                        <a:off x="1728360" y="2799000"/>
                        <a:ext cx="190800" cy="146880"/>
                        <a:chOff x="1728360" y="2799000"/>
                        <a:chExt cx="190800" cy="146880"/>
                      </a:xfrm>
                    </p:grpSpPr>
                    <p:sp>
                      <p:nvSpPr>
                        <p:cNvPr id="276" name="Line 56"/>
                        <p:cNvSpPr/>
                        <p:nvPr/>
                      </p:nvSpPr>
                      <p:spPr>
                        <a:xfrm flipH="1">
                          <a:off x="1728360" y="2808000"/>
                          <a:ext cx="1080" cy="137160"/>
                        </a:xfrm>
                        <a:prstGeom prst="line">
                          <a:avLst/>
                        </a:prstGeom>
                        <a:ln w="507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7" name="Line 57"/>
                        <p:cNvSpPr/>
                        <p:nvPr/>
                      </p:nvSpPr>
                      <p:spPr>
                        <a:xfrm flipH="1">
                          <a:off x="1819440" y="2808720"/>
                          <a:ext cx="1080" cy="137160"/>
                        </a:xfrm>
                        <a:prstGeom prst="line">
                          <a:avLst/>
                        </a:prstGeom>
                        <a:ln w="507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8" name="Line 58"/>
                        <p:cNvSpPr/>
                        <p:nvPr/>
                      </p:nvSpPr>
                      <p:spPr>
                        <a:xfrm flipH="1">
                          <a:off x="1918080" y="2799000"/>
                          <a:ext cx="1080" cy="137160"/>
                        </a:xfrm>
                        <a:prstGeom prst="line">
                          <a:avLst/>
                        </a:prstGeom>
                        <a:ln w="507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279" name="Group 59"/>
                      <p:cNvGrpSpPr/>
                      <p:nvPr/>
                    </p:nvGrpSpPr>
                    <p:grpSpPr>
                      <a:xfrm>
                        <a:off x="2109600" y="2797920"/>
                        <a:ext cx="190080" cy="148320"/>
                        <a:chOff x="2109600" y="2797920"/>
                        <a:chExt cx="190080" cy="148320"/>
                      </a:xfrm>
                    </p:grpSpPr>
                    <p:sp>
                      <p:nvSpPr>
                        <p:cNvPr id="280" name="Line 60"/>
                        <p:cNvSpPr/>
                        <p:nvPr/>
                      </p:nvSpPr>
                      <p:spPr>
                        <a:xfrm>
                          <a:off x="2109600" y="2809080"/>
                          <a:ext cx="0" cy="137160"/>
                        </a:xfrm>
                        <a:prstGeom prst="line">
                          <a:avLst/>
                        </a:prstGeom>
                        <a:ln w="507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1" name="Line 61"/>
                        <p:cNvSpPr/>
                        <p:nvPr/>
                      </p:nvSpPr>
                      <p:spPr>
                        <a:xfrm>
                          <a:off x="2201040" y="2808720"/>
                          <a:ext cx="360" cy="137160"/>
                        </a:xfrm>
                        <a:prstGeom prst="line">
                          <a:avLst/>
                        </a:prstGeom>
                        <a:ln w="507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2" name="Line 62"/>
                        <p:cNvSpPr/>
                        <p:nvPr/>
                      </p:nvSpPr>
                      <p:spPr>
                        <a:xfrm>
                          <a:off x="2299680" y="2797920"/>
                          <a:ext cx="0" cy="137160"/>
                        </a:xfrm>
                        <a:prstGeom prst="line">
                          <a:avLst/>
                        </a:prstGeom>
                        <a:ln w="507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283" name="Group 63"/>
                      <p:cNvGrpSpPr/>
                      <p:nvPr/>
                    </p:nvGrpSpPr>
                    <p:grpSpPr>
                      <a:xfrm>
                        <a:off x="2489760" y="2799360"/>
                        <a:ext cx="191520" cy="146520"/>
                        <a:chOff x="2489760" y="2799360"/>
                        <a:chExt cx="191520" cy="146520"/>
                      </a:xfrm>
                    </p:grpSpPr>
                    <p:sp>
                      <p:nvSpPr>
                        <p:cNvPr id="284" name="Line 64"/>
                        <p:cNvSpPr/>
                        <p:nvPr/>
                      </p:nvSpPr>
                      <p:spPr>
                        <a:xfrm flipH="1">
                          <a:off x="2489760" y="2807640"/>
                          <a:ext cx="1440" cy="137160"/>
                        </a:xfrm>
                        <a:prstGeom prst="line">
                          <a:avLst/>
                        </a:prstGeom>
                        <a:ln w="507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5" name="Line 65"/>
                        <p:cNvSpPr/>
                        <p:nvPr/>
                      </p:nvSpPr>
                      <p:spPr>
                        <a:xfrm flipH="1">
                          <a:off x="2581200" y="2808720"/>
                          <a:ext cx="1440" cy="137160"/>
                        </a:xfrm>
                        <a:prstGeom prst="line">
                          <a:avLst/>
                        </a:prstGeom>
                        <a:ln w="507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6" name="Line 66"/>
                        <p:cNvSpPr/>
                        <p:nvPr/>
                      </p:nvSpPr>
                      <p:spPr>
                        <a:xfrm flipH="1">
                          <a:off x="2679840" y="2799360"/>
                          <a:ext cx="1440" cy="137160"/>
                        </a:xfrm>
                        <a:prstGeom prst="line">
                          <a:avLst/>
                        </a:prstGeom>
                        <a:ln w="507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287" name="Group 67"/>
                      <p:cNvGrpSpPr/>
                      <p:nvPr/>
                    </p:nvGrpSpPr>
                    <p:grpSpPr>
                      <a:xfrm>
                        <a:off x="2869920" y="2800800"/>
                        <a:ext cx="193680" cy="145080"/>
                        <a:chOff x="2869920" y="2800800"/>
                        <a:chExt cx="193680" cy="145080"/>
                      </a:xfrm>
                    </p:grpSpPr>
                    <p:sp>
                      <p:nvSpPr>
                        <p:cNvPr id="288" name="Line 68"/>
                        <p:cNvSpPr/>
                        <p:nvPr/>
                      </p:nvSpPr>
                      <p:spPr>
                        <a:xfrm flipH="1">
                          <a:off x="2869920" y="2806200"/>
                          <a:ext cx="3600" cy="137160"/>
                        </a:xfrm>
                        <a:prstGeom prst="line">
                          <a:avLst/>
                        </a:prstGeom>
                        <a:ln w="507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9" name="Line 69"/>
                        <p:cNvSpPr/>
                        <p:nvPr/>
                      </p:nvSpPr>
                      <p:spPr>
                        <a:xfrm flipH="1">
                          <a:off x="2961360" y="2808720"/>
                          <a:ext cx="3600" cy="137160"/>
                        </a:xfrm>
                        <a:prstGeom prst="line">
                          <a:avLst/>
                        </a:prstGeom>
                        <a:ln w="507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0" name="Line 70"/>
                        <p:cNvSpPr/>
                        <p:nvPr/>
                      </p:nvSpPr>
                      <p:spPr>
                        <a:xfrm flipH="1">
                          <a:off x="3060000" y="2800800"/>
                          <a:ext cx="3600" cy="137160"/>
                        </a:xfrm>
                        <a:prstGeom prst="line">
                          <a:avLst/>
                        </a:prstGeom>
                        <a:ln w="507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291" name="Line 71"/>
                      <p:cNvSpPr/>
                      <p:nvPr/>
                    </p:nvSpPr>
                    <p:spPr>
                      <a:xfrm>
                        <a:off x="1633320" y="2951280"/>
                        <a:ext cx="2057760" cy="0"/>
                      </a:xfrm>
                      <a:prstGeom prst="line">
                        <a:avLst/>
                      </a:prstGeom>
                      <a:ln w="4752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292" name="Group 72"/>
                      <p:cNvGrpSpPr/>
                      <p:nvPr/>
                    </p:nvGrpSpPr>
                    <p:grpSpPr>
                      <a:xfrm>
                        <a:off x="3251160" y="2800800"/>
                        <a:ext cx="193680" cy="144720"/>
                        <a:chOff x="3251160" y="2800800"/>
                        <a:chExt cx="193680" cy="144720"/>
                      </a:xfrm>
                    </p:grpSpPr>
                    <p:sp>
                      <p:nvSpPr>
                        <p:cNvPr id="293" name="Line 73"/>
                        <p:cNvSpPr/>
                        <p:nvPr/>
                      </p:nvSpPr>
                      <p:spPr>
                        <a:xfrm flipH="1">
                          <a:off x="3251160" y="2806200"/>
                          <a:ext cx="3600" cy="137160"/>
                        </a:xfrm>
                        <a:prstGeom prst="line">
                          <a:avLst/>
                        </a:prstGeom>
                        <a:ln w="507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4" name="Line 74"/>
                        <p:cNvSpPr/>
                        <p:nvPr/>
                      </p:nvSpPr>
                      <p:spPr>
                        <a:xfrm flipH="1">
                          <a:off x="3342240" y="2808720"/>
                          <a:ext cx="3960" cy="136800"/>
                        </a:xfrm>
                        <a:prstGeom prst="line">
                          <a:avLst/>
                        </a:prstGeom>
                        <a:ln w="507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5" name="Line 75"/>
                        <p:cNvSpPr/>
                        <p:nvPr/>
                      </p:nvSpPr>
                      <p:spPr>
                        <a:xfrm flipH="1">
                          <a:off x="3441240" y="2800800"/>
                          <a:ext cx="3600" cy="137160"/>
                        </a:xfrm>
                        <a:prstGeom prst="line">
                          <a:avLst/>
                        </a:prstGeom>
                        <a:ln w="507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  <p:grpSp>
              <p:nvGrpSpPr>
                <p:cNvPr id="296" name="Group 76"/>
                <p:cNvGrpSpPr/>
                <p:nvPr/>
              </p:nvGrpSpPr>
              <p:grpSpPr>
                <a:xfrm>
                  <a:off x="1239840" y="3322080"/>
                  <a:ext cx="1171440" cy="1415160"/>
                  <a:chOff x="1239840" y="3322080"/>
                  <a:chExt cx="1171440" cy="1415160"/>
                </a:xfrm>
              </p:grpSpPr>
              <p:sp>
                <p:nvSpPr>
                  <p:cNvPr id="297" name="Text Box 77"/>
                  <p:cNvSpPr/>
                  <p:nvPr/>
                </p:nvSpPr>
                <p:spPr>
                  <a:xfrm>
                    <a:off x="1239840" y="3901680"/>
                    <a:ext cx="609480" cy="114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r>
                      <a:rPr b="1" lang="en-US" sz="1400" spc="-1" strike="noStrike">
                        <a:solidFill>
                          <a:srgbClr val="000000"/>
                        </a:solidFill>
                        <a:latin typeface="Arial"/>
                      </a:rPr>
                      <a:t>tARN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Text Box 78"/>
                  <p:cNvSpPr/>
                  <p:nvPr/>
                </p:nvSpPr>
                <p:spPr>
                  <a:xfrm>
                    <a:off x="1420560" y="4505760"/>
                    <a:ext cx="990720" cy="231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r>
                      <a:rPr b="1" lang="en-US" sz="1400" spc="-1" strike="noStrike">
                        <a:solidFill>
                          <a:srgbClr val="ff3300"/>
                        </a:solidFill>
                        <a:latin typeface="Arial"/>
                      </a:rPr>
                      <a:t>Anticodón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AutoShape 79"/>
                  <p:cNvSpPr/>
                  <p:nvPr/>
                </p:nvSpPr>
                <p:spPr>
                  <a:xfrm rot="5340000">
                    <a:off x="1920600" y="4307760"/>
                    <a:ext cx="114120" cy="335880"/>
                  </a:xfrm>
                  <a:custGeom>
                    <a:avLst/>
                    <a:gdLst>
                      <a:gd name="textAreaLeft" fmla="*/ 0 w 114120"/>
                      <a:gd name="textAreaRight" fmla="*/ 80280 w 114120"/>
                      <a:gd name="textAreaTop" fmla="*/ 20880 h 335880"/>
                      <a:gd name="textAreaBottom" fmla="*/ 315000 h 3358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cubicBezTo>
                          <a:pt x="10800" y="0"/>
                          <a:pt x="21600" y="1350"/>
                          <a:pt x="21600" y="2700"/>
                        </a:cubicBezTo>
                        <a:lnTo>
                          <a:pt x="21600" y="18900"/>
                        </a:lnTo>
                        <a:cubicBezTo>
                          <a:pt x="21600" y="20250"/>
                          <a:pt x="10800" y="21600"/>
                          <a:pt x="0" y="21600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00" name="Group 80"/>
                  <p:cNvGrpSpPr/>
                  <p:nvPr/>
                </p:nvGrpSpPr>
                <p:grpSpPr>
                  <a:xfrm>
                    <a:off x="1573200" y="3322080"/>
                    <a:ext cx="755280" cy="1176120"/>
                    <a:chOff x="1573200" y="3322080"/>
                    <a:chExt cx="755280" cy="1176120"/>
                  </a:xfrm>
                </p:grpSpPr>
                <p:grpSp>
                  <p:nvGrpSpPr>
                    <p:cNvPr id="301" name="Group 81"/>
                    <p:cNvGrpSpPr/>
                    <p:nvPr/>
                  </p:nvGrpSpPr>
                  <p:grpSpPr>
                    <a:xfrm>
                      <a:off x="1573200" y="3322080"/>
                      <a:ext cx="755280" cy="1176120"/>
                      <a:chOff x="1573200" y="3322080"/>
                      <a:chExt cx="755280" cy="1176120"/>
                    </a:xfrm>
                  </p:grpSpPr>
                  <p:grpSp>
                    <p:nvGrpSpPr>
                      <p:cNvPr id="302" name="Group 82"/>
                      <p:cNvGrpSpPr/>
                      <p:nvPr/>
                    </p:nvGrpSpPr>
                    <p:grpSpPr>
                      <a:xfrm>
                        <a:off x="1573200" y="3598560"/>
                        <a:ext cx="755280" cy="899640"/>
                        <a:chOff x="1573200" y="3598560"/>
                        <a:chExt cx="755280" cy="899640"/>
                      </a:xfrm>
                    </p:grpSpPr>
                    <p:grpSp>
                      <p:nvGrpSpPr>
                        <p:cNvPr id="303" name="Group 83"/>
                        <p:cNvGrpSpPr/>
                        <p:nvPr/>
                      </p:nvGrpSpPr>
                      <p:grpSpPr>
                        <a:xfrm>
                          <a:off x="1878840" y="4353480"/>
                          <a:ext cx="194400" cy="144720"/>
                          <a:chOff x="1878840" y="4353480"/>
                          <a:chExt cx="194400" cy="144720"/>
                        </a:xfrm>
                      </p:grpSpPr>
                      <p:sp>
                        <p:nvSpPr>
                          <p:cNvPr id="304" name="Line 84"/>
                          <p:cNvSpPr/>
                          <p:nvPr/>
                        </p:nvSpPr>
                        <p:spPr>
                          <a:xfrm flipH="1">
                            <a:off x="1878840" y="4358520"/>
                            <a:ext cx="4320" cy="137520"/>
                          </a:xfrm>
                          <a:prstGeom prst="line">
                            <a:avLst/>
                          </a:prstGeom>
                          <a:ln w="507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05" name="Line 85"/>
                          <p:cNvSpPr/>
                          <p:nvPr/>
                        </p:nvSpPr>
                        <p:spPr>
                          <a:xfrm flipH="1">
                            <a:off x="1970640" y="4361040"/>
                            <a:ext cx="3600" cy="137160"/>
                          </a:xfrm>
                          <a:prstGeom prst="line">
                            <a:avLst/>
                          </a:prstGeom>
                          <a:ln w="507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06" name="Line 86"/>
                          <p:cNvSpPr/>
                          <p:nvPr/>
                        </p:nvSpPr>
                        <p:spPr>
                          <a:xfrm flipH="1">
                            <a:off x="2069280" y="4353480"/>
                            <a:ext cx="3960" cy="137160"/>
                          </a:xfrm>
                          <a:prstGeom prst="line">
                            <a:avLst/>
                          </a:prstGeom>
                          <a:ln w="507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307" name="Freeform 87"/>
                        <p:cNvSpPr/>
                        <p:nvPr/>
                      </p:nvSpPr>
                      <p:spPr>
                        <a:xfrm rot="3659400">
                          <a:off x="1601280" y="3781440"/>
                          <a:ext cx="698760" cy="476280"/>
                        </a:xfrm>
                        <a:custGeom>
                          <a:avLst/>
                          <a:gdLst>
                            <a:gd name="textAreaLeft" fmla="*/ 0 w 698760"/>
                            <a:gd name="textAreaRight" fmla="*/ 699120 w 698760"/>
                            <a:gd name="textAreaTop" fmla="*/ 0 h 476280"/>
                            <a:gd name="textAreaBottom" fmla="*/ 476640 h 476280"/>
                          </a:gdLst>
                          <a:ahLst/>
                          <a:rect l="textAreaLeft" t="textAreaTop" r="textAreaRight" b="textAreaBottom"/>
                          <a:pathLst>
                            <a:path w="1400" h="1110">
                              <a:moveTo>
                                <a:pt x="140" y="390"/>
                              </a:moveTo>
                              <a:cubicBezTo>
                                <a:pt x="210" y="480"/>
                                <a:pt x="280" y="570"/>
                                <a:pt x="380" y="570"/>
                              </a:cubicBezTo>
                              <a:cubicBezTo>
                                <a:pt x="480" y="570"/>
                                <a:pt x="620" y="420"/>
                                <a:pt x="740" y="390"/>
                              </a:cubicBezTo>
                              <a:cubicBezTo>
                                <a:pt x="860" y="360"/>
                                <a:pt x="1000" y="360"/>
                                <a:pt x="1100" y="390"/>
                              </a:cubicBezTo>
                              <a:cubicBezTo>
                                <a:pt x="1200" y="420"/>
                                <a:pt x="1300" y="480"/>
                                <a:pt x="1340" y="570"/>
                              </a:cubicBezTo>
                              <a:cubicBezTo>
                                <a:pt x="1380" y="660"/>
                                <a:pt x="1400" y="840"/>
                                <a:pt x="1340" y="930"/>
                              </a:cubicBezTo>
                              <a:cubicBezTo>
                                <a:pt x="1280" y="1020"/>
                                <a:pt x="1100" y="1110"/>
                                <a:pt x="980" y="1110"/>
                              </a:cubicBezTo>
                              <a:cubicBezTo>
                                <a:pt x="860" y="1110"/>
                                <a:pt x="700" y="990"/>
                                <a:pt x="620" y="930"/>
                              </a:cubicBezTo>
                              <a:cubicBezTo>
                                <a:pt x="540" y="870"/>
                                <a:pt x="540" y="840"/>
                                <a:pt x="500" y="750"/>
                              </a:cubicBezTo>
                              <a:cubicBezTo>
                                <a:pt x="460" y="660"/>
                                <a:pt x="400" y="480"/>
                                <a:pt x="380" y="390"/>
                              </a:cubicBezTo>
                              <a:cubicBezTo>
                                <a:pt x="360" y="300"/>
                                <a:pt x="400" y="270"/>
                                <a:pt x="380" y="210"/>
                              </a:cubicBezTo>
                              <a:cubicBezTo>
                                <a:pt x="360" y="150"/>
                                <a:pt x="320" y="60"/>
                                <a:pt x="260" y="30"/>
                              </a:cubicBezTo>
                              <a:cubicBezTo>
                                <a:pt x="200" y="0"/>
                                <a:pt x="40" y="30"/>
                                <a:pt x="20" y="30"/>
                              </a:cubicBezTo>
                              <a:cubicBezTo>
                                <a:pt x="0" y="30"/>
                                <a:pt x="70" y="30"/>
                                <a:pt x="140" y="30"/>
                              </a:cubicBezTo>
                            </a:path>
                          </a:pathLst>
                        </a:custGeom>
                        <a:noFill/>
                        <a:ln w="507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308" name="Oval 88"/>
                      <p:cNvSpPr/>
                      <p:nvPr/>
                    </p:nvSpPr>
                    <p:spPr>
                      <a:xfrm rot="1331400">
                        <a:off x="1636560" y="3385440"/>
                        <a:ext cx="380880" cy="228240"/>
                      </a:xfrm>
                      <a:prstGeom prst="ellipse">
                        <a:avLst/>
                      </a:prstGeom>
                      <a:solidFill>
                        <a:srgbClr val="c0c0c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309" name="Text Box 89"/>
                    <p:cNvSpPr/>
                    <p:nvPr/>
                  </p:nvSpPr>
                  <p:spPr>
                    <a:xfrm>
                      <a:off x="1696680" y="3444840"/>
                      <a:ext cx="304920" cy="1141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Met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0" name="Text Box 90"/>
                    <p:cNvSpPr/>
                    <p:nvPr/>
                  </p:nvSpPr>
                  <p:spPr>
                    <a:xfrm>
                      <a:off x="1803240" y="4130640"/>
                      <a:ext cx="339120" cy="2239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AC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311" name="Group 91"/>
                <p:cNvGrpSpPr/>
                <p:nvPr/>
              </p:nvGrpSpPr>
              <p:grpSpPr>
                <a:xfrm>
                  <a:off x="2852640" y="3562200"/>
                  <a:ext cx="457200" cy="571320"/>
                  <a:chOff x="2852640" y="3562200"/>
                  <a:chExt cx="457200" cy="571320"/>
                </a:xfrm>
              </p:grpSpPr>
              <p:grpSp>
                <p:nvGrpSpPr>
                  <p:cNvPr id="312" name="Group 92"/>
                  <p:cNvGrpSpPr/>
                  <p:nvPr/>
                </p:nvGrpSpPr>
                <p:grpSpPr>
                  <a:xfrm>
                    <a:off x="2852640" y="3562200"/>
                    <a:ext cx="380880" cy="342720"/>
                    <a:chOff x="2852640" y="3562200"/>
                    <a:chExt cx="380880" cy="342720"/>
                  </a:xfrm>
                </p:grpSpPr>
                <p:sp>
                  <p:nvSpPr>
                    <p:cNvPr id="313" name="Oval 93"/>
                    <p:cNvSpPr/>
                    <p:nvPr/>
                  </p:nvSpPr>
                  <p:spPr>
                    <a:xfrm>
                      <a:off x="2852640" y="3562200"/>
                      <a:ext cx="380880" cy="342720"/>
                    </a:xfrm>
                    <a:prstGeom prst="ellipse">
                      <a:avLst/>
                    </a:prstGeom>
                    <a:solidFill>
                      <a:srgbClr val="c0c0c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4" name="Text Box 94"/>
                    <p:cNvSpPr/>
                    <p:nvPr/>
                  </p:nvSpPr>
                  <p:spPr>
                    <a:xfrm>
                      <a:off x="2928600" y="3676320"/>
                      <a:ext cx="304560" cy="1141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F-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15" name="Line 95"/>
                  <p:cNvSpPr/>
                  <p:nvPr/>
                </p:nvSpPr>
                <p:spPr>
                  <a:xfrm>
                    <a:off x="3081240" y="3904920"/>
                    <a:ext cx="0" cy="114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6" name="Text Box 96"/>
                  <p:cNvSpPr/>
                  <p:nvPr/>
                </p:nvSpPr>
                <p:spPr>
                  <a:xfrm>
                    <a:off x="2852640" y="4019400"/>
                    <a:ext cx="457200" cy="114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r>
                      <a:rPr b="1" lang="en-US" sz="1400" spc="-1" strike="noStrike">
                        <a:solidFill>
                          <a:srgbClr val="000000"/>
                        </a:solidFill>
                        <a:latin typeface="Arial"/>
                      </a:rPr>
                      <a:t>GTP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7" name="Group 97"/>
                <p:cNvGrpSpPr/>
                <p:nvPr/>
              </p:nvGrpSpPr>
              <p:grpSpPr>
                <a:xfrm>
                  <a:off x="2223000" y="3676680"/>
                  <a:ext cx="721800" cy="1148760"/>
                  <a:chOff x="2223000" y="3676680"/>
                  <a:chExt cx="721800" cy="1148760"/>
                </a:xfrm>
              </p:grpSpPr>
              <p:grpSp>
                <p:nvGrpSpPr>
                  <p:cNvPr id="318" name="Group 98"/>
                  <p:cNvGrpSpPr/>
                  <p:nvPr/>
                </p:nvGrpSpPr>
                <p:grpSpPr>
                  <a:xfrm>
                    <a:off x="2223000" y="3676680"/>
                    <a:ext cx="344160" cy="1148760"/>
                    <a:chOff x="2223000" y="3676680"/>
                    <a:chExt cx="344160" cy="1148760"/>
                  </a:xfrm>
                </p:grpSpPr>
                <p:sp>
                  <p:nvSpPr>
                    <p:cNvPr id="319" name="Arc 99"/>
                    <p:cNvSpPr/>
                    <p:nvPr/>
                  </p:nvSpPr>
                  <p:spPr>
                    <a:xfrm flipV="1" rot="16349400">
                      <a:off x="1929960" y="4201560"/>
                      <a:ext cx="929520" cy="304200"/>
                    </a:xfrm>
                    <a:custGeom>
                      <a:avLst/>
                      <a:gdLst>
                        <a:gd name="textAreaLeft" fmla="*/ 0 w 929520"/>
                        <a:gd name="textAreaRight" fmla="*/ 929880 w 929520"/>
                        <a:gd name="textAreaTop" fmla="*/ -360 h 304200"/>
                        <a:gd name="textAreaBottom" fmla="*/ 304200 h 304200"/>
                      </a:gdLst>
                      <a:ahLst/>
                      <a:rect l="textAreaLeft" t="textAreaTop" r="textAreaRight" b="textAreaBottom"/>
                      <a:pathLst>
                        <a:path fill="none" w="21600" h="17104">
                          <a:moveTo>
                            <a:pt x="13191" y="0"/>
                          </a:moveTo>
                          <a:cubicBezTo>
                            <a:pt x="18494" y="4089"/>
                            <a:pt x="21600" y="10407"/>
                            <a:pt x="21600" y="17104"/>
                          </a:cubicBezTo>
                        </a:path>
                        <a:path stroke="0" w="21600" h="17104">
                          <a:moveTo>
                            <a:pt x="13191" y="0"/>
                          </a:moveTo>
                          <a:cubicBezTo>
                            <a:pt x="18494" y="4089"/>
                            <a:pt x="21600" y="10407"/>
                            <a:pt x="21600" y="17104"/>
                          </a:cubicBezTo>
                          <a:lnTo>
                            <a:pt x="0" y="17104"/>
                          </a:lnTo>
                          <a:lnTo>
                            <a:pt x="13191" y="0"/>
                          </a:lnTo>
                          <a:close/>
                        </a:path>
                      </a:pathLst>
                    </a:custGeom>
                    <a:noFill/>
                    <a:ln w="158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0" name="Line 100"/>
                    <p:cNvSpPr/>
                    <p:nvPr/>
                  </p:nvSpPr>
                  <p:spPr>
                    <a:xfrm>
                      <a:off x="2548080" y="3676680"/>
                      <a:ext cx="0" cy="9496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21" name="Arc 101"/>
                  <p:cNvSpPr/>
                  <p:nvPr/>
                </p:nvSpPr>
                <p:spPr>
                  <a:xfrm flipH="1" flipV="1" rot="4257600">
                    <a:off x="2388600" y="4216320"/>
                    <a:ext cx="621360" cy="304200"/>
                  </a:xfrm>
                  <a:custGeom>
                    <a:avLst/>
                    <a:gdLst>
                      <a:gd name="textAreaLeft" fmla="*/ 360 w 621360"/>
                      <a:gd name="textAreaRight" fmla="*/ 622080 w 621360"/>
                      <a:gd name="textAreaTop" fmla="*/ -360 h 304200"/>
                      <a:gd name="textAreaBottom" fmla="*/ 304200 h 304200"/>
                    </a:gdLst>
                    <a:ahLst/>
                    <a:rect l="textAreaLeft" t="textAreaTop" r="textAreaRight" b="textAreaBottom"/>
                    <a:pathLst>
                      <a:path fill="none" w="21600" h="17104">
                        <a:moveTo>
                          <a:pt x="13191" y="0"/>
                        </a:moveTo>
                        <a:cubicBezTo>
                          <a:pt x="18494" y="4089"/>
                          <a:pt x="21600" y="10407"/>
                          <a:pt x="21600" y="17104"/>
                        </a:cubicBezTo>
                      </a:path>
                      <a:path stroke="0" w="21600" h="17104">
                        <a:moveTo>
                          <a:pt x="13191" y="0"/>
                        </a:moveTo>
                        <a:cubicBezTo>
                          <a:pt x="18494" y="4089"/>
                          <a:pt x="21600" y="10407"/>
                          <a:pt x="21600" y="17104"/>
                        </a:cubicBezTo>
                        <a:lnTo>
                          <a:pt x="0" y="17104"/>
                        </a:lnTo>
                        <a:lnTo>
                          <a:pt x="13191" y="0"/>
                        </a:lnTo>
                        <a:close/>
                      </a:path>
                    </a:pathLst>
                  </a:custGeom>
                  <a:noFill/>
                  <a:ln w="158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2" name="Group 102"/>
                <p:cNvGrpSpPr/>
                <p:nvPr/>
              </p:nvGrpSpPr>
              <p:grpSpPr>
                <a:xfrm>
                  <a:off x="1481040" y="4633920"/>
                  <a:ext cx="2514600" cy="1813680"/>
                  <a:chOff x="1481040" y="4633920"/>
                  <a:chExt cx="2514600" cy="1813680"/>
                </a:xfrm>
              </p:grpSpPr>
              <p:grpSp>
                <p:nvGrpSpPr>
                  <p:cNvPr id="323" name="Group 103"/>
                  <p:cNvGrpSpPr/>
                  <p:nvPr/>
                </p:nvGrpSpPr>
                <p:grpSpPr>
                  <a:xfrm>
                    <a:off x="1481040" y="4633920"/>
                    <a:ext cx="2514600" cy="1813680"/>
                    <a:chOff x="1481040" y="4633920"/>
                    <a:chExt cx="2514600" cy="1813680"/>
                  </a:xfrm>
                </p:grpSpPr>
                <p:grpSp>
                  <p:nvGrpSpPr>
                    <p:cNvPr id="324" name="Group 104"/>
                    <p:cNvGrpSpPr/>
                    <p:nvPr/>
                  </p:nvGrpSpPr>
                  <p:grpSpPr>
                    <a:xfrm>
                      <a:off x="1481040" y="5825160"/>
                      <a:ext cx="2514600" cy="622440"/>
                      <a:chOff x="1481040" y="5825160"/>
                      <a:chExt cx="2514600" cy="622440"/>
                    </a:xfrm>
                  </p:grpSpPr>
                  <p:sp>
                    <p:nvSpPr>
                      <p:cNvPr id="325" name="Oval 105"/>
                      <p:cNvSpPr/>
                      <p:nvPr/>
                    </p:nvSpPr>
                    <p:spPr>
                      <a:xfrm rot="21459600">
                        <a:off x="2090160" y="5968440"/>
                        <a:ext cx="1371600" cy="451080"/>
                      </a:xfrm>
                      <a:prstGeom prst="ellipse">
                        <a:avLst/>
                      </a:prstGeom>
                      <a:gradFill rotWithShape="0">
                        <a:gsLst>
                          <a:gs pos="0">
                            <a:srgbClr val="ffffff"/>
                          </a:gs>
                          <a:gs pos="100000">
                            <a:srgbClr val="767676"/>
                          </a:gs>
                        </a:gsLst>
                        <a:lin ang="5538000"/>
                      </a:gradFill>
                      <a:ln w="9360">
                        <a:solidFill>
                          <a:srgbClr val="80808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326" name="Group 106"/>
                      <p:cNvGrpSpPr/>
                      <p:nvPr/>
                    </p:nvGrpSpPr>
                    <p:grpSpPr>
                      <a:xfrm>
                        <a:off x="2471400" y="5995800"/>
                        <a:ext cx="380880" cy="343080"/>
                        <a:chOff x="2471400" y="5995800"/>
                        <a:chExt cx="380880" cy="343080"/>
                      </a:xfrm>
                    </p:grpSpPr>
                    <p:sp>
                      <p:nvSpPr>
                        <p:cNvPr id="327" name="AutoShape 107"/>
                        <p:cNvSpPr/>
                        <p:nvPr/>
                      </p:nvSpPr>
                      <p:spPr>
                        <a:xfrm>
                          <a:off x="2471400" y="5995800"/>
                          <a:ext cx="380880" cy="343080"/>
                        </a:xfrm>
                        <a:prstGeom prst="roundRect">
                          <a:avLst>
                            <a:gd name="adj" fmla="val 16667"/>
                          </a:avLst>
                        </a:prstGeom>
                        <a:noFill/>
                        <a:ln w="12600">
                          <a:solidFill>
                            <a:srgbClr val="000000"/>
                          </a:solidFill>
                          <a:prstDash val="dash"/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457200"/>
                              <a:tab algn="l" pos="914400"/>
                              <a:tab algn="l" pos="1371600"/>
                              <a:tab algn="l" pos="1828800"/>
                              <a:tab algn="l" pos="2286000"/>
                              <a:tab algn="l" pos="2743200"/>
                              <a:tab algn="l" pos="3200400"/>
                              <a:tab algn="l" pos="3657600"/>
                              <a:tab algn="l" pos="4114800"/>
                              <a:tab algn="l" pos="4572000"/>
                              <a:tab algn="l" pos="5029200"/>
                              <a:tab algn="l" pos="5486400"/>
                              <a:tab algn="l" pos="5943600"/>
                              <a:tab algn="l" pos="6400800"/>
                              <a:tab algn="l" pos="6858000"/>
                              <a:tab algn="l" pos="7315200"/>
                              <a:tab algn="l" pos="7772400"/>
                              <a:tab algn="l" pos="8229600"/>
                              <a:tab algn="l" pos="8686800"/>
                              <a:tab algn="l" pos="91440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8" name="Text Box 108"/>
                        <p:cNvSpPr/>
                        <p:nvPr/>
                      </p:nvSpPr>
                      <p:spPr>
                        <a:xfrm>
                          <a:off x="2509560" y="6109920"/>
                          <a:ext cx="342720" cy="20376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0" rIns="0" tIns="0" bIns="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457200"/>
                              <a:tab algn="l" pos="914400"/>
                              <a:tab algn="l" pos="1371600"/>
                              <a:tab algn="l" pos="1828800"/>
                              <a:tab algn="l" pos="2286000"/>
                              <a:tab algn="l" pos="2743200"/>
                              <a:tab algn="l" pos="3200400"/>
                              <a:tab algn="l" pos="3657600"/>
                              <a:tab algn="l" pos="4114800"/>
                              <a:tab algn="l" pos="4572000"/>
                              <a:tab algn="l" pos="5029200"/>
                              <a:tab algn="l" pos="5486400"/>
                              <a:tab algn="l" pos="5943600"/>
                              <a:tab algn="l" pos="6400800"/>
                              <a:tab algn="l" pos="6858000"/>
                              <a:tab algn="l" pos="7315200"/>
                              <a:tab algn="l" pos="7772400"/>
                              <a:tab algn="l" pos="8229600"/>
                              <a:tab algn="l" pos="8686800"/>
                              <a:tab algn="l" pos="9144000"/>
                            </a:tabLst>
                          </a:pPr>
                          <a:r>
                            <a:rPr b="1" lang="en-US" sz="1200" spc="-1" strike="noStrike">
                              <a:solidFill>
                                <a:srgbClr val="000000"/>
                              </a:solidFill>
                              <a:latin typeface="Arial"/>
                            </a:rPr>
                            <a:t>P</a:t>
                          </a:r>
                          <a:endParaRPr b="0" lang="en-US" sz="12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329" name="Group 109"/>
                      <p:cNvGrpSpPr/>
                      <p:nvPr/>
                    </p:nvGrpSpPr>
                    <p:grpSpPr>
                      <a:xfrm>
                        <a:off x="2928960" y="6076800"/>
                        <a:ext cx="304560" cy="228600"/>
                        <a:chOff x="2928960" y="6076800"/>
                        <a:chExt cx="304560" cy="228600"/>
                      </a:xfrm>
                    </p:grpSpPr>
                    <p:sp>
                      <p:nvSpPr>
                        <p:cNvPr id="330" name="AutoShape 110"/>
                        <p:cNvSpPr/>
                        <p:nvPr/>
                      </p:nvSpPr>
                      <p:spPr>
                        <a:xfrm>
                          <a:off x="2928960" y="6076800"/>
                          <a:ext cx="304560" cy="228600"/>
                        </a:xfrm>
                        <a:prstGeom prst="roundRect">
                          <a:avLst>
                            <a:gd name="adj" fmla="val 16667"/>
                          </a:avLst>
                        </a:prstGeom>
                        <a:noFill/>
                        <a:ln w="12600">
                          <a:solidFill>
                            <a:srgbClr val="000000"/>
                          </a:solidFill>
                          <a:prstDash val="dash"/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457200"/>
                              <a:tab algn="l" pos="914400"/>
                              <a:tab algn="l" pos="1371600"/>
                              <a:tab algn="l" pos="1828800"/>
                              <a:tab algn="l" pos="2286000"/>
                              <a:tab algn="l" pos="2743200"/>
                              <a:tab algn="l" pos="3200400"/>
                              <a:tab algn="l" pos="3657600"/>
                              <a:tab algn="l" pos="4114800"/>
                              <a:tab algn="l" pos="4572000"/>
                              <a:tab algn="l" pos="5029200"/>
                              <a:tab algn="l" pos="5486400"/>
                              <a:tab algn="l" pos="5943600"/>
                              <a:tab algn="l" pos="6400800"/>
                              <a:tab algn="l" pos="6858000"/>
                              <a:tab algn="l" pos="7315200"/>
                              <a:tab algn="l" pos="7772400"/>
                              <a:tab algn="l" pos="8229600"/>
                              <a:tab algn="l" pos="8686800"/>
                              <a:tab algn="l" pos="91440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1" name="Text Box 111"/>
                        <p:cNvSpPr/>
                        <p:nvPr/>
                      </p:nvSpPr>
                      <p:spPr>
                        <a:xfrm>
                          <a:off x="2959200" y="6152760"/>
                          <a:ext cx="273960" cy="13572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0" rIns="0" tIns="0" bIns="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457200"/>
                              <a:tab algn="l" pos="914400"/>
                              <a:tab algn="l" pos="1371600"/>
                              <a:tab algn="l" pos="1828800"/>
                              <a:tab algn="l" pos="2286000"/>
                              <a:tab algn="l" pos="2743200"/>
                              <a:tab algn="l" pos="3200400"/>
                              <a:tab algn="l" pos="3657600"/>
                              <a:tab algn="l" pos="4114800"/>
                              <a:tab algn="l" pos="4572000"/>
                              <a:tab algn="l" pos="5029200"/>
                              <a:tab algn="l" pos="5486400"/>
                              <a:tab algn="l" pos="5943600"/>
                              <a:tab algn="l" pos="6400800"/>
                              <a:tab algn="l" pos="6858000"/>
                              <a:tab algn="l" pos="7315200"/>
                              <a:tab algn="l" pos="7772400"/>
                              <a:tab algn="l" pos="8229600"/>
                              <a:tab algn="l" pos="8686800"/>
                              <a:tab algn="l" pos="9144000"/>
                            </a:tabLst>
                          </a:pPr>
                          <a:r>
                            <a:rPr b="1" lang="en-US" sz="1200" spc="-1" strike="noStrike">
                              <a:solidFill>
                                <a:srgbClr val="000000"/>
                              </a:solidFill>
                              <a:latin typeface="Arial"/>
                            </a:rPr>
                            <a:t>A</a:t>
                          </a:r>
                          <a:endParaRPr b="0" lang="en-US" sz="12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332" name="Oval 112"/>
                      <p:cNvSpPr/>
                      <p:nvPr/>
                    </p:nvSpPr>
                    <p:spPr>
                      <a:xfrm>
                        <a:off x="2014200" y="6076800"/>
                        <a:ext cx="380880" cy="343080"/>
                      </a:xfrm>
                      <a:prstGeom prst="ellipse">
                        <a:avLst/>
                      </a:prstGeom>
                      <a:solidFill>
                        <a:srgbClr val="c0c0c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33" name="Text Box 113"/>
                      <p:cNvSpPr/>
                      <p:nvPr/>
                    </p:nvSpPr>
                    <p:spPr>
                      <a:xfrm>
                        <a:off x="2090520" y="6190920"/>
                        <a:ext cx="304560" cy="1141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r>
                          <a:rPr b="1" lang="en-US" sz="12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IF-3</a:t>
                        </a:r>
                        <a:endParaRPr b="0" lang="en-US" sz="12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34" name="Oval 114"/>
                      <p:cNvSpPr/>
                      <p:nvPr/>
                    </p:nvSpPr>
                    <p:spPr>
                      <a:xfrm>
                        <a:off x="2928960" y="5962320"/>
                        <a:ext cx="380880" cy="343080"/>
                      </a:xfrm>
                      <a:prstGeom prst="ellipse">
                        <a:avLst/>
                      </a:prstGeom>
                      <a:solidFill>
                        <a:srgbClr val="c0c0c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35" name="Text Box 115"/>
                      <p:cNvSpPr/>
                      <p:nvPr/>
                    </p:nvSpPr>
                    <p:spPr>
                      <a:xfrm>
                        <a:off x="3004920" y="6076800"/>
                        <a:ext cx="304560" cy="1141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r>
                          <a:rPr b="1" lang="en-US" sz="12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IF-1</a:t>
                        </a:r>
                        <a:endParaRPr b="0" lang="en-US" sz="12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36" name="Text Box 116"/>
                      <p:cNvSpPr/>
                      <p:nvPr/>
                    </p:nvSpPr>
                    <p:spPr>
                      <a:xfrm>
                        <a:off x="3691080" y="5899320"/>
                        <a:ext cx="304560" cy="1180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r>
                          <a:rPr b="1" lang="en-US" sz="9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3’</a:t>
                        </a:r>
                        <a:endParaRPr b="0" lang="en-US" sz="9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37" name="Text Box 117"/>
                      <p:cNvSpPr/>
                      <p:nvPr/>
                    </p:nvSpPr>
                    <p:spPr>
                      <a:xfrm>
                        <a:off x="1481040" y="5899320"/>
                        <a:ext cx="304560" cy="1180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r>
                          <a:rPr b="1" lang="en-US" sz="9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5’</a:t>
                        </a:r>
                        <a:endParaRPr b="0" lang="en-US" sz="9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38" name="Text Box 118"/>
                      <p:cNvSpPr/>
                      <p:nvPr/>
                    </p:nvSpPr>
                    <p:spPr>
                      <a:xfrm>
                        <a:off x="2456280" y="6013800"/>
                        <a:ext cx="457200" cy="1141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r>
                          <a:rPr b="1" lang="en-US" sz="12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AUG</a:t>
                        </a:r>
                        <a:endParaRPr b="0" lang="en-US" sz="12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339" name="Group 119"/>
                      <p:cNvGrpSpPr/>
                      <p:nvPr/>
                    </p:nvGrpSpPr>
                    <p:grpSpPr>
                      <a:xfrm>
                        <a:off x="1709280" y="5825160"/>
                        <a:ext cx="2057400" cy="153720"/>
                        <a:chOff x="1709280" y="5825160"/>
                        <a:chExt cx="2057400" cy="153720"/>
                      </a:xfrm>
                    </p:grpSpPr>
                    <p:grpSp>
                      <p:nvGrpSpPr>
                        <p:cNvPr id="340" name="Group 120"/>
                        <p:cNvGrpSpPr/>
                        <p:nvPr/>
                      </p:nvGrpSpPr>
                      <p:grpSpPr>
                        <a:xfrm>
                          <a:off x="1803960" y="5826240"/>
                          <a:ext cx="191160" cy="146880"/>
                          <a:chOff x="1803960" y="5826240"/>
                          <a:chExt cx="191160" cy="146880"/>
                        </a:xfrm>
                      </p:grpSpPr>
                      <p:sp>
                        <p:nvSpPr>
                          <p:cNvPr id="341" name="Line 121"/>
                          <p:cNvSpPr/>
                          <p:nvPr/>
                        </p:nvSpPr>
                        <p:spPr>
                          <a:xfrm flipH="1">
                            <a:off x="1803960" y="5835240"/>
                            <a:ext cx="1440" cy="137520"/>
                          </a:xfrm>
                          <a:prstGeom prst="line">
                            <a:avLst/>
                          </a:prstGeom>
                          <a:ln w="507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42" name="Line 122"/>
                          <p:cNvSpPr/>
                          <p:nvPr/>
                        </p:nvSpPr>
                        <p:spPr>
                          <a:xfrm flipH="1">
                            <a:off x="1895400" y="5835960"/>
                            <a:ext cx="1080" cy="137160"/>
                          </a:xfrm>
                          <a:prstGeom prst="line">
                            <a:avLst/>
                          </a:prstGeom>
                          <a:ln w="507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43" name="Line 123"/>
                          <p:cNvSpPr/>
                          <p:nvPr/>
                        </p:nvSpPr>
                        <p:spPr>
                          <a:xfrm flipH="1">
                            <a:off x="1994040" y="5826240"/>
                            <a:ext cx="1080" cy="137160"/>
                          </a:xfrm>
                          <a:prstGeom prst="line">
                            <a:avLst/>
                          </a:prstGeom>
                          <a:ln w="507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344" name="Group 124"/>
                        <p:cNvGrpSpPr/>
                        <p:nvPr/>
                      </p:nvGrpSpPr>
                      <p:grpSpPr>
                        <a:xfrm>
                          <a:off x="2185560" y="5825160"/>
                          <a:ext cx="190080" cy="148320"/>
                          <a:chOff x="2185560" y="5825160"/>
                          <a:chExt cx="190080" cy="148320"/>
                        </a:xfrm>
                      </p:grpSpPr>
                      <p:sp>
                        <p:nvSpPr>
                          <p:cNvPr id="345" name="Line 125"/>
                          <p:cNvSpPr/>
                          <p:nvPr/>
                        </p:nvSpPr>
                        <p:spPr>
                          <a:xfrm>
                            <a:off x="2185560" y="5836320"/>
                            <a:ext cx="0" cy="137160"/>
                          </a:xfrm>
                          <a:prstGeom prst="line">
                            <a:avLst/>
                          </a:prstGeom>
                          <a:ln w="507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46" name="Line 126"/>
                          <p:cNvSpPr/>
                          <p:nvPr/>
                        </p:nvSpPr>
                        <p:spPr>
                          <a:xfrm>
                            <a:off x="2277000" y="5835960"/>
                            <a:ext cx="360" cy="137160"/>
                          </a:xfrm>
                          <a:prstGeom prst="line">
                            <a:avLst/>
                          </a:prstGeom>
                          <a:ln w="507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47" name="Line 127"/>
                          <p:cNvSpPr/>
                          <p:nvPr/>
                        </p:nvSpPr>
                        <p:spPr>
                          <a:xfrm>
                            <a:off x="2375640" y="5825160"/>
                            <a:ext cx="0" cy="137160"/>
                          </a:xfrm>
                          <a:prstGeom prst="line">
                            <a:avLst/>
                          </a:prstGeom>
                          <a:ln w="507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348" name="Group 128"/>
                        <p:cNvGrpSpPr/>
                        <p:nvPr/>
                      </p:nvGrpSpPr>
                      <p:grpSpPr>
                        <a:xfrm>
                          <a:off x="2565360" y="5826600"/>
                          <a:ext cx="191880" cy="146520"/>
                          <a:chOff x="2565360" y="5826600"/>
                          <a:chExt cx="191880" cy="146520"/>
                        </a:xfrm>
                      </p:grpSpPr>
                      <p:sp>
                        <p:nvSpPr>
                          <p:cNvPr id="349" name="Line 129"/>
                          <p:cNvSpPr/>
                          <p:nvPr/>
                        </p:nvSpPr>
                        <p:spPr>
                          <a:xfrm flipH="1">
                            <a:off x="2565360" y="5834880"/>
                            <a:ext cx="1800" cy="137520"/>
                          </a:xfrm>
                          <a:prstGeom prst="line">
                            <a:avLst/>
                          </a:prstGeom>
                          <a:ln w="507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50" name="Line 130"/>
                          <p:cNvSpPr/>
                          <p:nvPr/>
                        </p:nvSpPr>
                        <p:spPr>
                          <a:xfrm flipH="1">
                            <a:off x="2657160" y="5835960"/>
                            <a:ext cx="1440" cy="137160"/>
                          </a:xfrm>
                          <a:prstGeom prst="line">
                            <a:avLst/>
                          </a:prstGeom>
                          <a:ln w="507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51" name="Line 131"/>
                          <p:cNvSpPr/>
                          <p:nvPr/>
                        </p:nvSpPr>
                        <p:spPr>
                          <a:xfrm flipH="1">
                            <a:off x="2755800" y="5826600"/>
                            <a:ext cx="1440" cy="137160"/>
                          </a:xfrm>
                          <a:prstGeom prst="line">
                            <a:avLst/>
                          </a:prstGeom>
                          <a:ln w="507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352" name="Group 132"/>
                        <p:cNvGrpSpPr/>
                        <p:nvPr/>
                      </p:nvGrpSpPr>
                      <p:grpSpPr>
                        <a:xfrm>
                          <a:off x="2945520" y="5828040"/>
                          <a:ext cx="194040" cy="145080"/>
                          <a:chOff x="2945520" y="5828040"/>
                          <a:chExt cx="194040" cy="145080"/>
                        </a:xfrm>
                      </p:grpSpPr>
                      <p:sp>
                        <p:nvSpPr>
                          <p:cNvPr id="353" name="Line 133"/>
                          <p:cNvSpPr/>
                          <p:nvPr/>
                        </p:nvSpPr>
                        <p:spPr>
                          <a:xfrm flipH="1">
                            <a:off x="2945520" y="5833440"/>
                            <a:ext cx="3960" cy="137520"/>
                          </a:xfrm>
                          <a:prstGeom prst="line">
                            <a:avLst/>
                          </a:prstGeom>
                          <a:ln w="507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54" name="Line 134"/>
                          <p:cNvSpPr/>
                          <p:nvPr/>
                        </p:nvSpPr>
                        <p:spPr>
                          <a:xfrm flipH="1">
                            <a:off x="3037320" y="5835960"/>
                            <a:ext cx="3600" cy="137160"/>
                          </a:xfrm>
                          <a:prstGeom prst="line">
                            <a:avLst/>
                          </a:prstGeom>
                          <a:ln w="507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55" name="Line 135"/>
                          <p:cNvSpPr/>
                          <p:nvPr/>
                        </p:nvSpPr>
                        <p:spPr>
                          <a:xfrm flipH="1">
                            <a:off x="3135960" y="5828040"/>
                            <a:ext cx="3600" cy="137160"/>
                          </a:xfrm>
                          <a:prstGeom prst="line">
                            <a:avLst/>
                          </a:prstGeom>
                          <a:ln w="507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356" name="Line 136"/>
                        <p:cNvSpPr/>
                        <p:nvPr/>
                      </p:nvSpPr>
                      <p:spPr>
                        <a:xfrm>
                          <a:off x="1709280" y="5978880"/>
                          <a:ext cx="2057400" cy="0"/>
                        </a:xfrm>
                        <a:prstGeom prst="line">
                          <a:avLst/>
                        </a:prstGeom>
                        <a:ln w="4752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357" name="Group 137"/>
                        <p:cNvGrpSpPr/>
                        <p:nvPr/>
                      </p:nvGrpSpPr>
                      <p:grpSpPr>
                        <a:xfrm>
                          <a:off x="3326400" y="5828040"/>
                          <a:ext cx="194040" cy="144720"/>
                          <a:chOff x="3326400" y="5828040"/>
                          <a:chExt cx="194040" cy="144720"/>
                        </a:xfrm>
                      </p:grpSpPr>
                      <p:sp>
                        <p:nvSpPr>
                          <p:cNvPr id="358" name="Line 138"/>
                          <p:cNvSpPr/>
                          <p:nvPr/>
                        </p:nvSpPr>
                        <p:spPr>
                          <a:xfrm flipH="1">
                            <a:off x="3326400" y="5833440"/>
                            <a:ext cx="3960" cy="137520"/>
                          </a:xfrm>
                          <a:prstGeom prst="line">
                            <a:avLst/>
                          </a:prstGeom>
                          <a:ln w="507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59" name="Line 139"/>
                          <p:cNvSpPr/>
                          <p:nvPr/>
                        </p:nvSpPr>
                        <p:spPr>
                          <a:xfrm flipH="1">
                            <a:off x="3417840" y="5835960"/>
                            <a:ext cx="3960" cy="136800"/>
                          </a:xfrm>
                          <a:prstGeom prst="line">
                            <a:avLst/>
                          </a:prstGeom>
                          <a:ln w="507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60" name="Line 140"/>
                          <p:cNvSpPr/>
                          <p:nvPr/>
                        </p:nvSpPr>
                        <p:spPr>
                          <a:xfrm flipH="1">
                            <a:off x="3516840" y="5828040"/>
                            <a:ext cx="3600" cy="137160"/>
                          </a:xfrm>
                          <a:prstGeom prst="line">
                            <a:avLst/>
                          </a:prstGeom>
                          <a:ln w="507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</p:grpSp>
                <p:grpSp>
                  <p:nvGrpSpPr>
                    <p:cNvPr id="361" name="Group 141"/>
                    <p:cNvGrpSpPr/>
                    <p:nvPr/>
                  </p:nvGrpSpPr>
                  <p:grpSpPr>
                    <a:xfrm>
                      <a:off x="2776320" y="5442120"/>
                      <a:ext cx="380880" cy="342720"/>
                      <a:chOff x="2776320" y="5442120"/>
                      <a:chExt cx="380880" cy="342720"/>
                    </a:xfrm>
                  </p:grpSpPr>
                  <p:sp>
                    <p:nvSpPr>
                      <p:cNvPr id="362" name="Oval 142"/>
                      <p:cNvSpPr/>
                      <p:nvPr/>
                    </p:nvSpPr>
                    <p:spPr>
                      <a:xfrm>
                        <a:off x="2776320" y="5442120"/>
                        <a:ext cx="380880" cy="342720"/>
                      </a:xfrm>
                      <a:prstGeom prst="ellipse">
                        <a:avLst/>
                      </a:prstGeom>
                      <a:solidFill>
                        <a:srgbClr val="c0c0c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63" name="Text Box 143"/>
                      <p:cNvSpPr/>
                      <p:nvPr/>
                    </p:nvSpPr>
                    <p:spPr>
                      <a:xfrm>
                        <a:off x="2852280" y="5556240"/>
                        <a:ext cx="304560" cy="1141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r>
                          <a:rPr b="1" lang="en-US" sz="12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IF-2</a:t>
                        </a:r>
                        <a:endParaRPr b="0" lang="en-US" sz="12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364" name="Group 144"/>
                    <p:cNvGrpSpPr/>
                    <p:nvPr/>
                  </p:nvGrpSpPr>
                  <p:grpSpPr>
                    <a:xfrm>
                      <a:off x="2271960" y="4633920"/>
                      <a:ext cx="755280" cy="1176120"/>
                      <a:chOff x="2271960" y="4633920"/>
                      <a:chExt cx="755280" cy="1176120"/>
                    </a:xfrm>
                  </p:grpSpPr>
                  <p:grpSp>
                    <p:nvGrpSpPr>
                      <p:cNvPr id="365" name="Group 145"/>
                      <p:cNvGrpSpPr/>
                      <p:nvPr/>
                    </p:nvGrpSpPr>
                    <p:grpSpPr>
                      <a:xfrm>
                        <a:off x="2271960" y="4633920"/>
                        <a:ext cx="755280" cy="1176120"/>
                        <a:chOff x="2271960" y="4633920"/>
                        <a:chExt cx="755280" cy="1176120"/>
                      </a:xfrm>
                    </p:grpSpPr>
                    <p:grpSp>
                      <p:nvGrpSpPr>
                        <p:cNvPr id="366" name="Group 146"/>
                        <p:cNvGrpSpPr/>
                        <p:nvPr/>
                      </p:nvGrpSpPr>
                      <p:grpSpPr>
                        <a:xfrm>
                          <a:off x="2271960" y="4910040"/>
                          <a:ext cx="755280" cy="900000"/>
                          <a:chOff x="2271960" y="4910040"/>
                          <a:chExt cx="755280" cy="900000"/>
                        </a:xfrm>
                      </p:grpSpPr>
                      <p:grpSp>
                        <p:nvGrpSpPr>
                          <p:cNvPr id="367" name="Group 147"/>
                          <p:cNvGrpSpPr/>
                          <p:nvPr/>
                        </p:nvGrpSpPr>
                        <p:grpSpPr>
                          <a:xfrm>
                            <a:off x="2577600" y="5665320"/>
                            <a:ext cx="194760" cy="144720"/>
                            <a:chOff x="2577600" y="5665320"/>
                            <a:chExt cx="194760" cy="144720"/>
                          </a:xfrm>
                        </p:grpSpPr>
                        <p:sp>
                          <p:nvSpPr>
                            <p:cNvPr id="368" name="Line 148"/>
                            <p:cNvSpPr/>
                            <p:nvPr/>
                          </p:nvSpPr>
                          <p:spPr>
                            <a:xfrm flipH="1">
                              <a:off x="2577600" y="5670360"/>
                              <a:ext cx="4320" cy="137160"/>
                            </a:xfrm>
                            <a:prstGeom prst="line">
                              <a:avLst/>
                            </a:prstGeom>
                            <a:ln w="507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ffffff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369" name="Line 149"/>
                            <p:cNvSpPr/>
                            <p:nvPr/>
                          </p:nvSpPr>
                          <p:spPr>
                            <a:xfrm flipH="1">
                              <a:off x="2669760" y="5672880"/>
                              <a:ext cx="3600" cy="137160"/>
                            </a:xfrm>
                            <a:prstGeom prst="line">
                              <a:avLst/>
                            </a:prstGeom>
                            <a:ln w="507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ffffff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370" name="Line 150"/>
                            <p:cNvSpPr/>
                            <p:nvPr/>
                          </p:nvSpPr>
                          <p:spPr>
                            <a:xfrm flipH="1">
                              <a:off x="2768040" y="5665320"/>
                              <a:ext cx="4320" cy="136800"/>
                            </a:xfrm>
                            <a:prstGeom prst="line">
                              <a:avLst/>
                            </a:prstGeom>
                            <a:ln w="507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ffffff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371" name="Freeform 151"/>
                          <p:cNvSpPr/>
                          <p:nvPr/>
                        </p:nvSpPr>
                        <p:spPr>
                          <a:xfrm rot="3659400">
                            <a:off x="2300040" y="5092560"/>
                            <a:ext cx="698400" cy="476280"/>
                          </a:xfrm>
                          <a:custGeom>
                            <a:avLst/>
                            <a:gdLst>
                              <a:gd name="textAreaLeft" fmla="*/ 0 w 698400"/>
                              <a:gd name="textAreaRight" fmla="*/ 698400 w 698400"/>
                              <a:gd name="textAreaTop" fmla="*/ 0 h 476280"/>
                              <a:gd name="textAreaBottom" fmla="*/ 476640 h 476280"/>
                            </a:gdLst>
                            <a:ahLst/>
                            <a:rect l="textAreaLeft" t="textAreaTop" r="textAreaRight" b="textAreaBottom"/>
                            <a:pathLst>
                              <a:path w="1400" h="1110">
                                <a:moveTo>
                                  <a:pt x="140" y="390"/>
                                </a:moveTo>
                                <a:cubicBezTo>
                                  <a:pt x="210" y="480"/>
                                  <a:pt x="280" y="570"/>
                                  <a:pt x="380" y="570"/>
                                </a:cubicBezTo>
                                <a:cubicBezTo>
                                  <a:pt x="480" y="570"/>
                                  <a:pt x="620" y="420"/>
                                  <a:pt x="740" y="390"/>
                                </a:cubicBezTo>
                                <a:cubicBezTo>
                                  <a:pt x="860" y="360"/>
                                  <a:pt x="1000" y="360"/>
                                  <a:pt x="1100" y="390"/>
                                </a:cubicBezTo>
                                <a:cubicBezTo>
                                  <a:pt x="1200" y="420"/>
                                  <a:pt x="1300" y="480"/>
                                  <a:pt x="1340" y="570"/>
                                </a:cubicBezTo>
                                <a:cubicBezTo>
                                  <a:pt x="1380" y="660"/>
                                  <a:pt x="1400" y="840"/>
                                  <a:pt x="1340" y="930"/>
                                </a:cubicBezTo>
                                <a:cubicBezTo>
                                  <a:pt x="1280" y="1020"/>
                                  <a:pt x="1100" y="1110"/>
                                  <a:pt x="980" y="1110"/>
                                </a:cubicBezTo>
                                <a:cubicBezTo>
                                  <a:pt x="860" y="1110"/>
                                  <a:pt x="700" y="990"/>
                                  <a:pt x="620" y="930"/>
                                </a:cubicBezTo>
                                <a:cubicBezTo>
                                  <a:pt x="540" y="870"/>
                                  <a:pt x="540" y="840"/>
                                  <a:pt x="500" y="750"/>
                                </a:cubicBezTo>
                                <a:cubicBezTo>
                                  <a:pt x="460" y="660"/>
                                  <a:pt x="400" y="480"/>
                                  <a:pt x="380" y="390"/>
                                </a:cubicBezTo>
                                <a:cubicBezTo>
                                  <a:pt x="360" y="300"/>
                                  <a:pt x="400" y="270"/>
                                  <a:pt x="380" y="210"/>
                                </a:cubicBezTo>
                                <a:cubicBezTo>
                                  <a:pt x="360" y="150"/>
                                  <a:pt x="320" y="60"/>
                                  <a:pt x="260" y="30"/>
                                </a:cubicBezTo>
                                <a:cubicBezTo>
                                  <a:pt x="200" y="0"/>
                                  <a:pt x="40" y="30"/>
                                  <a:pt x="20" y="30"/>
                                </a:cubicBezTo>
                                <a:cubicBezTo>
                                  <a:pt x="0" y="30"/>
                                  <a:pt x="70" y="30"/>
                                  <a:pt x="140" y="30"/>
                                </a:cubicBezTo>
                              </a:path>
                            </a:pathLst>
                          </a:custGeom>
                          <a:noFill/>
                          <a:ln w="5076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372" name="Oval 152"/>
                        <p:cNvSpPr/>
                        <p:nvPr/>
                      </p:nvSpPr>
                      <p:spPr>
                        <a:xfrm rot="1331400">
                          <a:off x="2334960" y="4697280"/>
                          <a:ext cx="380880" cy="228600"/>
                        </a:xfrm>
                        <a:prstGeom prst="ellipse">
                          <a:avLst/>
                        </a:prstGeom>
                        <a:solidFill>
                          <a:srgbClr val="c0c0c0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457200"/>
                              <a:tab algn="l" pos="914400"/>
                              <a:tab algn="l" pos="1371600"/>
                              <a:tab algn="l" pos="1828800"/>
                              <a:tab algn="l" pos="2286000"/>
                              <a:tab algn="l" pos="2743200"/>
                              <a:tab algn="l" pos="3200400"/>
                              <a:tab algn="l" pos="3657600"/>
                              <a:tab algn="l" pos="4114800"/>
                              <a:tab algn="l" pos="4572000"/>
                              <a:tab algn="l" pos="5029200"/>
                              <a:tab algn="l" pos="5486400"/>
                              <a:tab algn="l" pos="5943600"/>
                              <a:tab algn="l" pos="6400800"/>
                              <a:tab algn="l" pos="6858000"/>
                              <a:tab algn="l" pos="7315200"/>
                              <a:tab algn="l" pos="7772400"/>
                              <a:tab algn="l" pos="8229600"/>
                              <a:tab algn="l" pos="8686800"/>
                              <a:tab algn="l" pos="91440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373" name="Text Box 153"/>
                      <p:cNvSpPr/>
                      <p:nvPr/>
                    </p:nvSpPr>
                    <p:spPr>
                      <a:xfrm>
                        <a:off x="2395080" y="4756320"/>
                        <a:ext cx="304560" cy="1141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r>
                          <a:rPr b="1" lang="en-US" sz="9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fMet</a:t>
                        </a:r>
                        <a:endParaRPr b="0" lang="en-US" sz="9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74" name="Text Box 154"/>
                      <p:cNvSpPr/>
                      <p:nvPr/>
                    </p:nvSpPr>
                    <p:spPr>
                      <a:xfrm>
                        <a:off x="2502000" y="5442120"/>
                        <a:ext cx="354960" cy="2008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r>
                          <a:rPr b="1" lang="en-US" sz="11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UAC</a:t>
                        </a:r>
                        <a:endParaRPr b="0" lang="en-US" sz="11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375" name="Text Box 155"/>
                  <p:cNvSpPr/>
                  <p:nvPr/>
                </p:nvSpPr>
                <p:spPr>
                  <a:xfrm>
                    <a:off x="3157200" y="5556600"/>
                    <a:ext cx="457200" cy="114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GTP</a:t>
                    </a:r>
                    <a:endParaRPr b="0" lang="en-US" sz="12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6" name="Line 156"/>
                  <p:cNvSpPr/>
                  <p:nvPr/>
                </p:nvSpPr>
                <p:spPr>
                  <a:xfrm>
                    <a:off x="3157200" y="5599800"/>
                    <a:ext cx="763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377" name="Line 157"/>
              <p:cNvSpPr/>
              <p:nvPr/>
            </p:nvSpPr>
            <p:spPr>
              <a:xfrm>
                <a:off x="3419640" y="3141720"/>
                <a:ext cx="288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78" name="Text Box 158"/>
            <p:cNvSpPr/>
            <p:nvPr/>
          </p:nvSpPr>
          <p:spPr>
            <a:xfrm>
              <a:off x="1195920" y="3284640"/>
              <a:ext cx="5540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H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Text Box 159"/>
            <p:cNvSpPr/>
            <p:nvPr/>
          </p:nvSpPr>
          <p:spPr>
            <a:xfrm>
              <a:off x="1929600" y="4637160"/>
              <a:ext cx="5540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H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0" name="Group 160"/>
          <p:cNvGrpSpPr/>
          <p:nvPr/>
        </p:nvGrpSpPr>
        <p:grpSpPr>
          <a:xfrm>
            <a:off x="5113440" y="1484280"/>
            <a:ext cx="3888360" cy="4528080"/>
            <a:chOff x="5113440" y="1484280"/>
            <a:chExt cx="3888360" cy="4528080"/>
          </a:xfrm>
        </p:grpSpPr>
        <p:grpSp>
          <p:nvGrpSpPr>
            <p:cNvPr id="381" name="Group 161"/>
            <p:cNvGrpSpPr/>
            <p:nvPr/>
          </p:nvGrpSpPr>
          <p:grpSpPr>
            <a:xfrm>
              <a:off x="5113440" y="1484280"/>
              <a:ext cx="3888360" cy="4528080"/>
              <a:chOff x="5113440" y="1484280"/>
              <a:chExt cx="3888360" cy="4528080"/>
            </a:xfrm>
          </p:grpSpPr>
          <p:grpSp>
            <p:nvGrpSpPr>
              <p:cNvPr id="382" name="Group 162"/>
              <p:cNvGrpSpPr/>
              <p:nvPr/>
            </p:nvGrpSpPr>
            <p:grpSpPr>
              <a:xfrm>
                <a:off x="5113440" y="1506240"/>
                <a:ext cx="2625480" cy="4506120"/>
                <a:chOff x="5113440" y="1506240"/>
                <a:chExt cx="2625480" cy="4506120"/>
              </a:xfrm>
            </p:grpSpPr>
            <p:grpSp>
              <p:nvGrpSpPr>
                <p:cNvPr id="383" name="Group 163"/>
                <p:cNvGrpSpPr/>
                <p:nvPr/>
              </p:nvGrpSpPr>
              <p:grpSpPr>
                <a:xfrm>
                  <a:off x="5148000" y="4199040"/>
                  <a:ext cx="2514240" cy="1813320"/>
                  <a:chOff x="5148000" y="4199040"/>
                  <a:chExt cx="2514240" cy="1813320"/>
                </a:xfrm>
              </p:grpSpPr>
              <p:sp>
                <p:nvSpPr>
                  <p:cNvPr id="384" name="Text Box 164"/>
                  <p:cNvSpPr/>
                  <p:nvPr/>
                </p:nvSpPr>
                <p:spPr>
                  <a:xfrm>
                    <a:off x="7357680" y="5413320"/>
                    <a:ext cx="304560" cy="118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r>
                      <a:rPr b="1" lang="en-US" sz="900" spc="-1" strike="noStrike">
                        <a:solidFill>
                          <a:srgbClr val="000000"/>
                        </a:solidFill>
                        <a:latin typeface="Arial"/>
                      </a:rPr>
                      <a:t>3’</a:t>
                    </a:r>
                    <a:endParaRPr b="0" lang="en-US" sz="9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85" name="Group 165"/>
                  <p:cNvGrpSpPr/>
                  <p:nvPr/>
                </p:nvGrpSpPr>
                <p:grpSpPr>
                  <a:xfrm>
                    <a:off x="5148000" y="4199040"/>
                    <a:ext cx="2285640" cy="1813320"/>
                    <a:chOff x="5148000" y="4199040"/>
                    <a:chExt cx="2285640" cy="1813320"/>
                  </a:xfrm>
                </p:grpSpPr>
                <p:sp>
                  <p:nvSpPr>
                    <p:cNvPr id="386" name="Oval 166"/>
                    <p:cNvSpPr/>
                    <p:nvPr/>
                  </p:nvSpPr>
                  <p:spPr>
                    <a:xfrm>
                      <a:off x="5757480" y="4740480"/>
                      <a:ext cx="1371600" cy="9082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767676"/>
                        </a:gs>
                        <a:gs pos="100000">
                          <a:srgbClr val="ffffff">
                            <a:alpha val="47058"/>
                          </a:srgbClr>
                        </a:gs>
                      </a:gsLst>
                      <a:lin ang="540000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7" name="Oval 167"/>
                    <p:cNvSpPr/>
                    <p:nvPr/>
                  </p:nvSpPr>
                  <p:spPr>
                    <a:xfrm rot="21459600">
                      <a:off x="5757120" y="5533560"/>
                      <a:ext cx="1371600" cy="45072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767676"/>
                        </a:gs>
                      </a:gsLst>
                      <a:lin ang="5538000"/>
                    </a:gradFill>
                    <a:ln w="9360">
                      <a:solidFill>
                        <a:srgbClr val="80808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388" name="Group 168"/>
                    <p:cNvGrpSpPr/>
                    <p:nvPr/>
                  </p:nvGrpSpPr>
                  <p:grpSpPr>
                    <a:xfrm>
                      <a:off x="6595560" y="4854960"/>
                      <a:ext cx="304560" cy="1015560"/>
                      <a:chOff x="6595560" y="4854960"/>
                      <a:chExt cx="304560" cy="1015560"/>
                    </a:xfrm>
                  </p:grpSpPr>
                  <p:sp>
                    <p:nvSpPr>
                      <p:cNvPr id="389" name="AutoShape 169"/>
                      <p:cNvSpPr/>
                      <p:nvPr/>
                    </p:nvSpPr>
                    <p:spPr>
                      <a:xfrm>
                        <a:off x="6595560" y="4854960"/>
                        <a:ext cx="304560" cy="1015560"/>
                      </a:xfrm>
                      <a:custGeom>
                        <a:avLst/>
                        <a:gdLst>
                          <a:gd name="textAreaLeft" fmla="*/ 14760 w 304560"/>
                          <a:gd name="textAreaRight" fmla="*/ 289800 w 304560"/>
                          <a:gd name="textAreaTop" fmla="*/ 14760 h 1015560"/>
                          <a:gd name="textAreaBottom" fmla="*/ 1000800 h 1015560"/>
                        </a:gdLst>
                        <a:ahLst/>
                        <a:rect l="textAreaLeft" t="textAreaTop" r="textAreaRight" b="textAreaBottom"/>
                        <a:pathLst>
                          <a:path w="21600" h="71966">
                            <a:moveTo>
                              <a:pt x="3600" y="0"/>
                            </a:moveTo>
                            <a:arcTo wR="3600" hR="3600" stAng="16200000" swAng="-5400000"/>
                            <a:lnTo>
                              <a:pt x="0" y="68366"/>
                            </a:lnTo>
                            <a:arcTo wR="3600" hR="3600" stAng="10800000" swAng="-5400000"/>
                            <a:lnTo>
                              <a:pt x="18000" y="71966"/>
                            </a:lnTo>
                            <a:arcTo wR="3600" hR="3600" stAng="5400000" swAng="-5400000"/>
                            <a:lnTo>
                              <a:pt x="21600" y="3600"/>
                            </a:lnTo>
                            <a:arcTo wR="3600" hR="3600" stAng="0" swAng="-5400000"/>
                            <a:close/>
                          </a:path>
                        </a:pathLst>
                      </a:custGeom>
                      <a:noFill/>
                      <a:ln w="12600">
                        <a:solidFill>
                          <a:srgbClr val="000000"/>
                        </a:solidFill>
                        <a:prstDash val="dash"/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90" name="Text Box 170"/>
                      <p:cNvSpPr/>
                      <p:nvPr/>
                    </p:nvSpPr>
                    <p:spPr>
                      <a:xfrm>
                        <a:off x="6595560" y="5655240"/>
                        <a:ext cx="273960" cy="1422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r>
                          <a:rPr b="1" lang="en-US" sz="12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A</a:t>
                        </a:r>
                        <a:endParaRPr b="0" lang="en-US" sz="12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391" name="Text Box 171"/>
                    <p:cNvSpPr/>
                    <p:nvPr/>
                  </p:nvSpPr>
                  <p:spPr>
                    <a:xfrm>
                      <a:off x="5148000" y="5464800"/>
                      <a:ext cx="304560" cy="118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’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392" name="Group 172"/>
                    <p:cNvGrpSpPr/>
                    <p:nvPr/>
                  </p:nvGrpSpPr>
                  <p:grpSpPr>
                    <a:xfrm>
                      <a:off x="6123240" y="4854960"/>
                      <a:ext cx="457200" cy="1049400"/>
                      <a:chOff x="6123240" y="4854960"/>
                      <a:chExt cx="457200" cy="1049400"/>
                    </a:xfrm>
                  </p:grpSpPr>
                  <p:sp>
                    <p:nvSpPr>
                      <p:cNvPr id="393" name="AutoShape 173"/>
                      <p:cNvSpPr/>
                      <p:nvPr/>
                    </p:nvSpPr>
                    <p:spPr>
                      <a:xfrm>
                        <a:off x="6138360" y="4854960"/>
                        <a:ext cx="380880" cy="1049400"/>
                      </a:xfrm>
                      <a:custGeom>
                        <a:avLst/>
                        <a:gdLst>
                          <a:gd name="textAreaLeft" fmla="*/ 18360 w 380880"/>
                          <a:gd name="textAreaRight" fmla="*/ 362520 w 380880"/>
                          <a:gd name="textAreaTop" fmla="*/ 18360 h 1049400"/>
                          <a:gd name="textAreaBottom" fmla="*/ 1031040 h 1049400"/>
                        </a:gdLst>
                        <a:ahLst/>
                        <a:rect l="textAreaLeft" t="textAreaTop" r="textAreaRight" b="textAreaBottom"/>
                        <a:pathLst>
                          <a:path w="21600" h="59476">
                            <a:moveTo>
                              <a:pt x="3600" y="0"/>
                            </a:moveTo>
                            <a:arcTo wR="3600" hR="3600" stAng="16200000" swAng="-5400000"/>
                            <a:lnTo>
                              <a:pt x="0" y="55876"/>
                            </a:lnTo>
                            <a:arcTo wR="3600" hR="3600" stAng="10800000" swAng="-5400000"/>
                            <a:lnTo>
                              <a:pt x="18000" y="59476"/>
                            </a:lnTo>
                            <a:arcTo wR="3600" hR="3600" stAng="5400000" swAng="-5400000"/>
                            <a:lnTo>
                              <a:pt x="21600" y="3600"/>
                            </a:lnTo>
                            <a:arcTo wR="3600" hR="3600" stAng="0" swAng="-5400000"/>
                            <a:close/>
                          </a:path>
                        </a:pathLst>
                      </a:custGeom>
                      <a:noFill/>
                      <a:ln w="12600">
                        <a:solidFill>
                          <a:srgbClr val="000000"/>
                        </a:solidFill>
                        <a:prstDash val="dash"/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94" name="Text Box 174"/>
                      <p:cNvSpPr/>
                      <p:nvPr/>
                    </p:nvSpPr>
                    <p:spPr>
                      <a:xfrm>
                        <a:off x="6176520" y="5710680"/>
                        <a:ext cx="343080" cy="1731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r>
                          <a:rPr b="1" lang="en-US" sz="12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P</a:t>
                        </a:r>
                        <a:endParaRPr b="0" lang="en-US" sz="12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95" name="Text Box 175"/>
                      <p:cNvSpPr/>
                      <p:nvPr/>
                    </p:nvSpPr>
                    <p:spPr>
                      <a:xfrm>
                        <a:off x="6123240" y="5578920"/>
                        <a:ext cx="457200" cy="1141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r>
                          <a:rPr b="1" lang="en-US" sz="12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AUG</a:t>
                        </a:r>
                        <a:endParaRPr b="0" lang="en-US" sz="12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396" name="Group 176"/>
                    <p:cNvGrpSpPr/>
                    <p:nvPr/>
                  </p:nvGrpSpPr>
                  <p:grpSpPr>
                    <a:xfrm>
                      <a:off x="5376240" y="5390280"/>
                      <a:ext cx="2057400" cy="153720"/>
                      <a:chOff x="5376240" y="5390280"/>
                      <a:chExt cx="2057400" cy="153720"/>
                    </a:xfrm>
                  </p:grpSpPr>
                  <p:grpSp>
                    <p:nvGrpSpPr>
                      <p:cNvPr id="397" name="Group 177"/>
                      <p:cNvGrpSpPr/>
                      <p:nvPr/>
                    </p:nvGrpSpPr>
                    <p:grpSpPr>
                      <a:xfrm>
                        <a:off x="5470920" y="5391360"/>
                        <a:ext cx="191160" cy="146880"/>
                        <a:chOff x="5470920" y="5391360"/>
                        <a:chExt cx="191160" cy="146880"/>
                      </a:xfrm>
                    </p:grpSpPr>
                    <p:sp>
                      <p:nvSpPr>
                        <p:cNvPr id="398" name="Line 178"/>
                        <p:cNvSpPr/>
                        <p:nvPr/>
                      </p:nvSpPr>
                      <p:spPr>
                        <a:xfrm flipH="1">
                          <a:off x="5470920" y="5400360"/>
                          <a:ext cx="1440" cy="137520"/>
                        </a:xfrm>
                        <a:prstGeom prst="line">
                          <a:avLst/>
                        </a:prstGeom>
                        <a:ln w="507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9" name="Line 179"/>
                        <p:cNvSpPr/>
                        <p:nvPr/>
                      </p:nvSpPr>
                      <p:spPr>
                        <a:xfrm flipH="1">
                          <a:off x="5562360" y="5401080"/>
                          <a:ext cx="1080" cy="137160"/>
                        </a:xfrm>
                        <a:prstGeom prst="line">
                          <a:avLst/>
                        </a:prstGeom>
                        <a:ln w="507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0" name="Line 180"/>
                        <p:cNvSpPr/>
                        <p:nvPr/>
                      </p:nvSpPr>
                      <p:spPr>
                        <a:xfrm flipH="1">
                          <a:off x="5661000" y="5391360"/>
                          <a:ext cx="1080" cy="137160"/>
                        </a:xfrm>
                        <a:prstGeom prst="line">
                          <a:avLst/>
                        </a:prstGeom>
                        <a:ln w="507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401" name="Group 181"/>
                      <p:cNvGrpSpPr/>
                      <p:nvPr/>
                    </p:nvGrpSpPr>
                    <p:grpSpPr>
                      <a:xfrm>
                        <a:off x="5852520" y="5390280"/>
                        <a:ext cx="190080" cy="148320"/>
                        <a:chOff x="5852520" y="5390280"/>
                        <a:chExt cx="190080" cy="148320"/>
                      </a:xfrm>
                    </p:grpSpPr>
                    <p:sp>
                      <p:nvSpPr>
                        <p:cNvPr id="402" name="Line 182"/>
                        <p:cNvSpPr/>
                        <p:nvPr/>
                      </p:nvSpPr>
                      <p:spPr>
                        <a:xfrm>
                          <a:off x="5852520" y="5401440"/>
                          <a:ext cx="0" cy="137160"/>
                        </a:xfrm>
                        <a:prstGeom prst="line">
                          <a:avLst/>
                        </a:prstGeom>
                        <a:ln w="507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3" name="Line 183"/>
                        <p:cNvSpPr/>
                        <p:nvPr/>
                      </p:nvSpPr>
                      <p:spPr>
                        <a:xfrm>
                          <a:off x="5943960" y="5401080"/>
                          <a:ext cx="360" cy="137160"/>
                        </a:xfrm>
                        <a:prstGeom prst="line">
                          <a:avLst/>
                        </a:prstGeom>
                        <a:ln w="507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4" name="Line 184"/>
                        <p:cNvSpPr/>
                        <p:nvPr/>
                      </p:nvSpPr>
                      <p:spPr>
                        <a:xfrm>
                          <a:off x="6042600" y="5390280"/>
                          <a:ext cx="0" cy="137160"/>
                        </a:xfrm>
                        <a:prstGeom prst="line">
                          <a:avLst/>
                        </a:prstGeom>
                        <a:ln w="507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405" name="Group 185"/>
                      <p:cNvGrpSpPr/>
                      <p:nvPr/>
                    </p:nvGrpSpPr>
                    <p:grpSpPr>
                      <a:xfrm>
                        <a:off x="6232320" y="5391720"/>
                        <a:ext cx="191880" cy="146520"/>
                        <a:chOff x="6232320" y="5391720"/>
                        <a:chExt cx="191880" cy="146520"/>
                      </a:xfrm>
                    </p:grpSpPr>
                    <p:sp>
                      <p:nvSpPr>
                        <p:cNvPr id="406" name="Line 186"/>
                        <p:cNvSpPr/>
                        <p:nvPr/>
                      </p:nvSpPr>
                      <p:spPr>
                        <a:xfrm flipH="1">
                          <a:off x="6232320" y="5400000"/>
                          <a:ext cx="1800" cy="137520"/>
                        </a:xfrm>
                        <a:prstGeom prst="line">
                          <a:avLst/>
                        </a:prstGeom>
                        <a:ln w="507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7" name="Line 187"/>
                        <p:cNvSpPr/>
                        <p:nvPr/>
                      </p:nvSpPr>
                      <p:spPr>
                        <a:xfrm flipH="1">
                          <a:off x="6324120" y="5401080"/>
                          <a:ext cx="1440" cy="137160"/>
                        </a:xfrm>
                        <a:prstGeom prst="line">
                          <a:avLst/>
                        </a:prstGeom>
                        <a:ln w="507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8" name="Line 188"/>
                        <p:cNvSpPr/>
                        <p:nvPr/>
                      </p:nvSpPr>
                      <p:spPr>
                        <a:xfrm flipH="1">
                          <a:off x="6422760" y="5391720"/>
                          <a:ext cx="1440" cy="137160"/>
                        </a:xfrm>
                        <a:prstGeom prst="line">
                          <a:avLst/>
                        </a:prstGeom>
                        <a:ln w="507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409" name="Group 189"/>
                      <p:cNvGrpSpPr/>
                      <p:nvPr/>
                    </p:nvGrpSpPr>
                    <p:grpSpPr>
                      <a:xfrm>
                        <a:off x="6612480" y="5393160"/>
                        <a:ext cx="194040" cy="145080"/>
                        <a:chOff x="6612480" y="5393160"/>
                        <a:chExt cx="194040" cy="145080"/>
                      </a:xfrm>
                    </p:grpSpPr>
                    <p:sp>
                      <p:nvSpPr>
                        <p:cNvPr id="410" name="Line 190"/>
                        <p:cNvSpPr/>
                        <p:nvPr/>
                      </p:nvSpPr>
                      <p:spPr>
                        <a:xfrm flipH="1">
                          <a:off x="6612480" y="5398560"/>
                          <a:ext cx="3960" cy="137520"/>
                        </a:xfrm>
                        <a:prstGeom prst="line">
                          <a:avLst/>
                        </a:prstGeom>
                        <a:ln w="507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1" name="Line 191"/>
                        <p:cNvSpPr/>
                        <p:nvPr/>
                      </p:nvSpPr>
                      <p:spPr>
                        <a:xfrm flipH="1">
                          <a:off x="6704280" y="5401080"/>
                          <a:ext cx="3600" cy="137160"/>
                        </a:xfrm>
                        <a:prstGeom prst="line">
                          <a:avLst/>
                        </a:prstGeom>
                        <a:ln w="507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2" name="Line 192"/>
                        <p:cNvSpPr/>
                        <p:nvPr/>
                      </p:nvSpPr>
                      <p:spPr>
                        <a:xfrm flipH="1">
                          <a:off x="6802920" y="5393160"/>
                          <a:ext cx="3600" cy="137160"/>
                        </a:xfrm>
                        <a:prstGeom prst="line">
                          <a:avLst/>
                        </a:prstGeom>
                        <a:ln w="507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413" name="Line 193"/>
                      <p:cNvSpPr/>
                      <p:nvPr/>
                    </p:nvSpPr>
                    <p:spPr>
                      <a:xfrm>
                        <a:off x="5376240" y="5544000"/>
                        <a:ext cx="2057400" cy="0"/>
                      </a:xfrm>
                      <a:prstGeom prst="line">
                        <a:avLst/>
                      </a:prstGeom>
                      <a:ln w="4752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414" name="Group 194"/>
                      <p:cNvGrpSpPr/>
                      <p:nvPr/>
                    </p:nvGrpSpPr>
                    <p:grpSpPr>
                      <a:xfrm>
                        <a:off x="6993360" y="5393160"/>
                        <a:ext cx="194040" cy="144720"/>
                        <a:chOff x="6993360" y="5393160"/>
                        <a:chExt cx="194040" cy="144720"/>
                      </a:xfrm>
                    </p:grpSpPr>
                    <p:sp>
                      <p:nvSpPr>
                        <p:cNvPr id="415" name="Line 195"/>
                        <p:cNvSpPr/>
                        <p:nvPr/>
                      </p:nvSpPr>
                      <p:spPr>
                        <a:xfrm flipH="1">
                          <a:off x="6993360" y="5398560"/>
                          <a:ext cx="3960" cy="137520"/>
                        </a:xfrm>
                        <a:prstGeom prst="line">
                          <a:avLst/>
                        </a:prstGeom>
                        <a:ln w="507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6" name="Line 196"/>
                        <p:cNvSpPr/>
                        <p:nvPr/>
                      </p:nvSpPr>
                      <p:spPr>
                        <a:xfrm flipH="1">
                          <a:off x="7084800" y="5401080"/>
                          <a:ext cx="3960" cy="136800"/>
                        </a:xfrm>
                        <a:prstGeom prst="line">
                          <a:avLst/>
                        </a:prstGeom>
                        <a:ln w="507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7" name="Line 197"/>
                        <p:cNvSpPr/>
                        <p:nvPr/>
                      </p:nvSpPr>
                      <p:spPr>
                        <a:xfrm flipH="1">
                          <a:off x="7183800" y="5393160"/>
                          <a:ext cx="3600" cy="137160"/>
                        </a:xfrm>
                        <a:prstGeom prst="line">
                          <a:avLst/>
                        </a:prstGeom>
                        <a:ln w="507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418" name="Group 198"/>
                    <p:cNvGrpSpPr/>
                    <p:nvPr/>
                  </p:nvGrpSpPr>
                  <p:grpSpPr>
                    <a:xfrm>
                      <a:off x="5938560" y="4199040"/>
                      <a:ext cx="755280" cy="1176120"/>
                      <a:chOff x="5938560" y="4199040"/>
                      <a:chExt cx="755280" cy="1176120"/>
                    </a:xfrm>
                  </p:grpSpPr>
                  <p:grpSp>
                    <p:nvGrpSpPr>
                      <p:cNvPr id="419" name="Group 199"/>
                      <p:cNvGrpSpPr/>
                      <p:nvPr/>
                    </p:nvGrpSpPr>
                    <p:grpSpPr>
                      <a:xfrm>
                        <a:off x="5938560" y="4199040"/>
                        <a:ext cx="755280" cy="1176120"/>
                        <a:chOff x="5938560" y="4199040"/>
                        <a:chExt cx="755280" cy="1176120"/>
                      </a:xfrm>
                    </p:grpSpPr>
                    <p:grpSp>
                      <p:nvGrpSpPr>
                        <p:cNvPr id="420" name="Group 200"/>
                        <p:cNvGrpSpPr/>
                        <p:nvPr/>
                      </p:nvGrpSpPr>
                      <p:grpSpPr>
                        <a:xfrm>
                          <a:off x="5938560" y="4475160"/>
                          <a:ext cx="755280" cy="900000"/>
                          <a:chOff x="5938560" y="4475160"/>
                          <a:chExt cx="755280" cy="900000"/>
                        </a:xfrm>
                      </p:grpSpPr>
                      <p:grpSp>
                        <p:nvGrpSpPr>
                          <p:cNvPr id="421" name="Group 201"/>
                          <p:cNvGrpSpPr/>
                          <p:nvPr/>
                        </p:nvGrpSpPr>
                        <p:grpSpPr>
                          <a:xfrm>
                            <a:off x="6244200" y="5230440"/>
                            <a:ext cx="194760" cy="144720"/>
                            <a:chOff x="6244200" y="5230440"/>
                            <a:chExt cx="194760" cy="144720"/>
                          </a:xfrm>
                        </p:grpSpPr>
                        <p:sp>
                          <p:nvSpPr>
                            <p:cNvPr id="422" name="Line 202"/>
                            <p:cNvSpPr/>
                            <p:nvPr/>
                          </p:nvSpPr>
                          <p:spPr>
                            <a:xfrm flipH="1">
                              <a:off x="6244200" y="5235480"/>
                              <a:ext cx="4320" cy="137160"/>
                            </a:xfrm>
                            <a:prstGeom prst="line">
                              <a:avLst/>
                            </a:prstGeom>
                            <a:ln w="507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ffffff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423" name="Line 203"/>
                            <p:cNvSpPr/>
                            <p:nvPr/>
                          </p:nvSpPr>
                          <p:spPr>
                            <a:xfrm flipH="1">
                              <a:off x="6336360" y="5238000"/>
                              <a:ext cx="3600" cy="137160"/>
                            </a:xfrm>
                            <a:prstGeom prst="line">
                              <a:avLst/>
                            </a:prstGeom>
                            <a:ln w="507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ffffff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424" name="Line 204"/>
                            <p:cNvSpPr/>
                            <p:nvPr/>
                          </p:nvSpPr>
                          <p:spPr>
                            <a:xfrm flipH="1">
                              <a:off x="6434640" y="5230440"/>
                              <a:ext cx="4320" cy="136800"/>
                            </a:xfrm>
                            <a:prstGeom prst="line">
                              <a:avLst/>
                            </a:prstGeom>
                            <a:ln w="507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ffffff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425" name="Freeform 205"/>
                          <p:cNvSpPr/>
                          <p:nvPr/>
                        </p:nvSpPr>
                        <p:spPr>
                          <a:xfrm rot="3659400">
                            <a:off x="5966640" y="4657680"/>
                            <a:ext cx="698400" cy="476280"/>
                          </a:xfrm>
                          <a:custGeom>
                            <a:avLst/>
                            <a:gdLst>
                              <a:gd name="textAreaLeft" fmla="*/ 0 w 698400"/>
                              <a:gd name="textAreaRight" fmla="*/ 698400 w 698400"/>
                              <a:gd name="textAreaTop" fmla="*/ 0 h 476280"/>
                              <a:gd name="textAreaBottom" fmla="*/ 476640 h 476280"/>
                            </a:gdLst>
                            <a:ahLst/>
                            <a:rect l="textAreaLeft" t="textAreaTop" r="textAreaRight" b="textAreaBottom"/>
                            <a:pathLst>
                              <a:path w="1400" h="1110">
                                <a:moveTo>
                                  <a:pt x="140" y="390"/>
                                </a:moveTo>
                                <a:cubicBezTo>
                                  <a:pt x="210" y="480"/>
                                  <a:pt x="280" y="570"/>
                                  <a:pt x="380" y="570"/>
                                </a:cubicBezTo>
                                <a:cubicBezTo>
                                  <a:pt x="480" y="570"/>
                                  <a:pt x="620" y="420"/>
                                  <a:pt x="740" y="390"/>
                                </a:cubicBezTo>
                                <a:cubicBezTo>
                                  <a:pt x="860" y="360"/>
                                  <a:pt x="1000" y="360"/>
                                  <a:pt x="1100" y="390"/>
                                </a:cubicBezTo>
                                <a:cubicBezTo>
                                  <a:pt x="1200" y="420"/>
                                  <a:pt x="1300" y="480"/>
                                  <a:pt x="1340" y="570"/>
                                </a:cubicBezTo>
                                <a:cubicBezTo>
                                  <a:pt x="1380" y="660"/>
                                  <a:pt x="1400" y="840"/>
                                  <a:pt x="1340" y="930"/>
                                </a:cubicBezTo>
                                <a:cubicBezTo>
                                  <a:pt x="1280" y="1020"/>
                                  <a:pt x="1100" y="1110"/>
                                  <a:pt x="980" y="1110"/>
                                </a:cubicBezTo>
                                <a:cubicBezTo>
                                  <a:pt x="860" y="1110"/>
                                  <a:pt x="700" y="990"/>
                                  <a:pt x="620" y="930"/>
                                </a:cubicBezTo>
                                <a:cubicBezTo>
                                  <a:pt x="540" y="870"/>
                                  <a:pt x="540" y="840"/>
                                  <a:pt x="500" y="750"/>
                                </a:cubicBezTo>
                                <a:cubicBezTo>
                                  <a:pt x="460" y="660"/>
                                  <a:pt x="400" y="480"/>
                                  <a:pt x="380" y="390"/>
                                </a:cubicBezTo>
                                <a:cubicBezTo>
                                  <a:pt x="360" y="300"/>
                                  <a:pt x="400" y="270"/>
                                  <a:pt x="380" y="210"/>
                                </a:cubicBezTo>
                                <a:cubicBezTo>
                                  <a:pt x="360" y="150"/>
                                  <a:pt x="320" y="60"/>
                                  <a:pt x="260" y="30"/>
                                </a:cubicBezTo>
                                <a:cubicBezTo>
                                  <a:pt x="200" y="0"/>
                                  <a:pt x="40" y="30"/>
                                  <a:pt x="20" y="30"/>
                                </a:cubicBezTo>
                                <a:cubicBezTo>
                                  <a:pt x="0" y="30"/>
                                  <a:pt x="70" y="30"/>
                                  <a:pt x="140" y="30"/>
                                </a:cubicBezTo>
                              </a:path>
                            </a:pathLst>
                          </a:custGeom>
                          <a:noFill/>
                          <a:ln w="5076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426" name="Oval 206"/>
                        <p:cNvSpPr/>
                        <p:nvPr/>
                      </p:nvSpPr>
                      <p:spPr>
                        <a:xfrm rot="1331400">
                          <a:off x="6001560" y="4262400"/>
                          <a:ext cx="380880" cy="228600"/>
                        </a:xfrm>
                        <a:prstGeom prst="ellipse">
                          <a:avLst/>
                        </a:prstGeom>
                        <a:solidFill>
                          <a:srgbClr val="c0c0c0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457200"/>
                              <a:tab algn="l" pos="914400"/>
                              <a:tab algn="l" pos="1371600"/>
                              <a:tab algn="l" pos="1828800"/>
                              <a:tab algn="l" pos="2286000"/>
                              <a:tab algn="l" pos="2743200"/>
                              <a:tab algn="l" pos="3200400"/>
                              <a:tab algn="l" pos="3657600"/>
                              <a:tab algn="l" pos="4114800"/>
                              <a:tab algn="l" pos="4572000"/>
                              <a:tab algn="l" pos="5029200"/>
                              <a:tab algn="l" pos="5486400"/>
                              <a:tab algn="l" pos="5943600"/>
                              <a:tab algn="l" pos="6400800"/>
                              <a:tab algn="l" pos="6858000"/>
                              <a:tab algn="l" pos="7315200"/>
                              <a:tab algn="l" pos="7772400"/>
                              <a:tab algn="l" pos="8229600"/>
                              <a:tab algn="l" pos="8686800"/>
                              <a:tab algn="l" pos="91440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427" name="Text Box 207"/>
                      <p:cNvSpPr/>
                      <p:nvPr/>
                    </p:nvSpPr>
                    <p:spPr>
                      <a:xfrm>
                        <a:off x="6061680" y="4321440"/>
                        <a:ext cx="304560" cy="1141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r>
                          <a:rPr b="1" lang="en-US" sz="9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fMet</a:t>
                        </a:r>
                        <a:endParaRPr b="0" lang="en-US" sz="9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28" name="Text Box 208"/>
                      <p:cNvSpPr/>
                      <p:nvPr/>
                    </p:nvSpPr>
                    <p:spPr>
                      <a:xfrm>
                        <a:off x="6168600" y="5007240"/>
                        <a:ext cx="331200" cy="1357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r>
                          <a:rPr b="1" lang="en-US" sz="11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UAC</a:t>
                        </a:r>
                        <a:endParaRPr b="0" lang="en-US" sz="11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429" name="Group 209"/>
                <p:cNvGrpSpPr/>
                <p:nvPr/>
              </p:nvGrpSpPr>
              <p:grpSpPr>
                <a:xfrm>
                  <a:off x="5148000" y="1506240"/>
                  <a:ext cx="2514600" cy="1813680"/>
                  <a:chOff x="5148000" y="1506240"/>
                  <a:chExt cx="2514600" cy="1813680"/>
                </a:xfrm>
              </p:grpSpPr>
              <p:grpSp>
                <p:nvGrpSpPr>
                  <p:cNvPr id="430" name="Group 210"/>
                  <p:cNvGrpSpPr/>
                  <p:nvPr/>
                </p:nvGrpSpPr>
                <p:grpSpPr>
                  <a:xfrm>
                    <a:off x="5148000" y="1506240"/>
                    <a:ext cx="2514600" cy="1813680"/>
                    <a:chOff x="5148000" y="1506240"/>
                    <a:chExt cx="2514600" cy="1813680"/>
                  </a:xfrm>
                </p:grpSpPr>
                <p:grpSp>
                  <p:nvGrpSpPr>
                    <p:cNvPr id="431" name="Group 211"/>
                    <p:cNvGrpSpPr/>
                    <p:nvPr/>
                  </p:nvGrpSpPr>
                  <p:grpSpPr>
                    <a:xfrm>
                      <a:off x="5148000" y="2697480"/>
                      <a:ext cx="2514600" cy="622440"/>
                      <a:chOff x="5148000" y="2697480"/>
                      <a:chExt cx="2514600" cy="622440"/>
                    </a:xfrm>
                  </p:grpSpPr>
                  <p:sp>
                    <p:nvSpPr>
                      <p:cNvPr id="432" name="Oval 212"/>
                      <p:cNvSpPr/>
                      <p:nvPr/>
                    </p:nvSpPr>
                    <p:spPr>
                      <a:xfrm rot="21459600">
                        <a:off x="5757120" y="2840760"/>
                        <a:ext cx="1371600" cy="451080"/>
                      </a:xfrm>
                      <a:prstGeom prst="ellipse">
                        <a:avLst/>
                      </a:prstGeom>
                      <a:gradFill rotWithShape="0">
                        <a:gsLst>
                          <a:gs pos="0">
                            <a:srgbClr val="ffffff"/>
                          </a:gs>
                          <a:gs pos="100000">
                            <a:srgbClr val="767676"/>
                          </a:gs>
                        </a:gsLst>
                        <a:lin ang="5538000"/>
                      </a:gradFill>
                      <a:ln w="9360">
                        <a:solidFill>
                          <a:srgbClr val="80808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433" name="Group 213"/>
                      <p:cNvGrpSpPr/>
                      <p:nvPr/>
                    </p:nvGrpSpPr>
                    <p:grpSpPr>
                      <a:xfrm>
                        <a:off x="6138360" y="2868120"/>
                        <a:ext cx="380880" cy="343080"/>
                        <a:chOff x="6138360" y="2868120"/>
                        <a:chExt cx="380880" cy="343080"/>
                      </a:xfrm>
                    </p:grpSpPr>
                    <p:sp>
                      <p:nvSpPr>
                        <p:cNvPr id="434" name="AutoShape 214"/>
                        <p:cNvSpPr/>
                        <p:nvPr/>
                      </p:nvSpPr>
                      <p:spPr>
                        <a:xfrm>
                          <a:off x="6138360" y="2868120"/>
                          <a:ext cx="380880" cy="343080"/>
                        </a:xfrm>
                        <a:prstGeom prst="roundRect">
                          <a:avLst>
                            <a:gd name="adj" fmla="val 16667"/>
                          </a:avLst>
                        </a:prstGeom>
                        <a:noFill/>
                        <a:ln w="12600">
                          <a:solidFill>
                            <a:srgbClr val="000000"/>
                          </a:solidFill>
                          <a:prstDash val="dash"/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457200"/>
                              <a:tab algn="l" pos="914400"/>
                              <a:tab algn="l" pos="1371600"/>
                              <a:tab algn="l" pos="1828800"/>
                              <a:tab algn="l" pos="2286000"/>
                              <a:tab algn="l" pos="2743200"/>
                              <a:tab algn="l" pos="3200400"/>
                              <a:tab algn="l" pos="3657600"/>
                              <a:tab algn="l" pos="4114800"/>
                              <a:tab algn="l" pos="4572000"/>
                              <a:tab algn="l" pos="5029200"/>
                              <a:tab algn="l" pos="5486400"/>
                              <a:tab algn="l" pos="5943600"/>
                              <a:tab algn="l" pos="6400800"/>
                              <a:tab algn="l" pos="6858000"/>
                              <a:tab algn="l" pos="7315200"/>
                              <a:tab algn="l" pos="7772400"/>
                              <a:tab algn="l" pos="8229600"/>
                              <a:tab algn="l" pos="8686800"/>
                              <a:tab algn="l" pos="91440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5" name="Text Box 215"/>
                        <p:cNvSpPr/>
                        <p:nvPr/>
                      </p:nvSpPr>
                      <p:spPr>
                        <a:xfrm>
                          <a:off x="6176520" y="2982240"/>
                          <a:ext cx="342720" cy="20376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0" rIns="0" tIns="0" bIns="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457200"/>
                              <a:tab algn="l" pos="914400"/>
                              <a:tab algn="l" pos="1371600"/>
                              <a:tab algn="l" pos="1828800"/>
                              <a:tab algn="l" pos="2286000"/>
                              <a:tab algn="l" pos="2743200"/>
                              <a:tab algn="l" pos="3200400"/>
                              <a:tab algn="l" pos="3657600"/>
                              <a:tab algn="l" pos="4114800"/>
                              <a:tab algn="l" pos="4572000"/>
                              <a:tab algn="l" pos="5029200"/>
                              <a:tab algn="l" pos="5486400"/>
                              <a:tab algn="l" pos="5943600"/>
                              <a:tab algn="l" pos="6400800"/>
                              <a:tab algn="l" pos="6858000"/>
                              <a:tab algn="l" pos="7315200"/>
                              <a:tab algn="l" pos="7772400"/>
                              <a:tab algn="l" pos="8229600"/>
                              <a:tab algn="l" pos="8686800"/>
                              <a:tab algn="l" pos="9144000"/>
                            </a:tabLst>
                          </a:pPr>
                          <a:r>
                            <a:rPr b="1" lang="en-US" sz="1200" spc="-1" strike="noStrike">
                              <a:solidFill>
                                <a:srgbClr val="000000"/>
                              </a:solidFill>
                              <a:latin typeface="Arial"/>
                            </a:rPr>
                            <a:t>P</a:t>
                          </a:r>
                          <a:endParaRPr b="0" lang="en-US" sz="12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436" name="Group 216"/>
                      <p:cNvGrpSpPr/>
                      <p:nvPr/>
                    </p:nvGrpSpPr>
                    <p:grpSpPr>
                      <a:xfrm>
                        <a:off x="6595920" y="2949120"/>
                        <a:ext cx="304560" cy="228600"/>
                        <a:chOff x="6595920" y="2949120"/>
                        <a:chExt cx="304560" cy="228600"/>
                      </a:xfrm>
                    </p:grpSpPr>
                    <p:sp>
                      <p:nvSpPr>
                        <p:cNvPr id="437" name="AutoShape 217"/>
                        <p:cNvSpPr/>
                        <p:nvPr/>
                      </p:nvSpPr>
                      <p:spPr>
                        <a:xfrm>
                          <a:off x="6595920" y="2949120"/>
                          <a:ext cx="304560" cy="228600"/>
                        </a:xfrm>
                        <a:prstGeom prst="roundRect">
                          <a:avLst>
                            <a:gd name="adj" fmla="val 16667"/>
                          </a:avLst>
                        </a:prstGeom>
                        <a:noFill/>
                        <a:ln w="12600">
                          <a:solidFill>
                            <a:srgbClr val="000000"/>
                          </a:solidFill>
                          <a:prstDash val="dash"/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457200"/>
                              <a:tab algn="l" pos="914400"/>
                              <a:tab algn="l" pos="1371600"/>
                              <a:tab algn="l" pos="1828800"/>
                              <a:tab algn="l" pos="2286000"/>
                              <a:tab algn="l" pos="2743200"/>
                              <a:tab algn="l" pos="3200400"/>
                              <a:tab algn="l" pos="3657600"/>
                              <a:tab algn="l" pos="4114800"/>
                              <a:tab algn="l" pos="4572000"/>
                              <a:tab algn="l" pos="5029200"/>
                              <a:tab algn="l" pos="5486400"/>
                              <a:tab algn="l" pos="5943600"/>
                              <a:tab algn="l" pos="6400800"/>
                              <a:tab algn="l" pos="6858000"/>
                              <a:tab algn="l" pos="7315200"/>
                              <a:tab algn="l" pos="7772400"/>
                              <a:tab algn="l" pos="8229600"/>
                              <a:tab algn="l" pos="8686800"/>
                              <a:tab algn="l" pos="91440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8" name="Text Box 218"/>
                        <p:cNvSpPr/>
                        <p:nvPr/>
                      </p:nvSpPr>
                      <p:spPr>
                        <a:xfrm>
                          <a:off x="6626160" y="3025080"/>
                          <a:ext cx="273960" cy="13572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0" rIns="0" tIns="0" bIns="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457200"/>
                              <a:tab algn="l" pos="914400"/>
                              <a:tab algn="l" pos="1371600"/>
                              <a:tab algn="l" pos="1828800"/>
                              <a:tab algn="l" pos="2286000"/>
                              <a:tab algn="l" pos="2743200"/>
                              <a:tab algn="l" pos="3200400"/>
                              <a:tab algn="l" pos="3657600"/>
                              <a:tab algn="l" pos="4114800"/>
                              <a:tab algn="l" pos="4572000"/>
                              <a:tab algn="l" pos="5029200"/>
                              <a:tab algn="l" pos="5486400"/>
                              <a:tab algn="l" pos="5943600"/>
                              <a:tab algn="l" pos="6400800"/>
                              <a:tab algn="l" pos="6858000"/>
                              <a:tab algn="l" pos="7315200"/>
                              <a:tab algn="l" pos="7772400"/>
                              <a:tab algn="l" pos="8229600"/>
                              <a:tab algn="l" pos="8686800"/>
                              <a:tab algn="l" pos="9144000"/>
                            </a:tabLst>
                          </a:pPr>
                          <a:r>
                            <a:rPr b="1" lang="en-US" sz="1200" spc="-1" strike="noStrike">
                              <a:solidFill>
                                <a:srgbClr val="000000"/>
                              </a:solidFill>
                              <a:latin typeface="Arial"/>
                            </a:rPr>
                            <a:t>A</a:t>
                          </a:r>
                          <a:endParaRPr b="0" lang="en-US" sz="12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439" name="Oval 219"/>
                      <p:cNvSpPr/>
                      <p:nvPr/>
                    </p:nvSpPr>
                    <p:spPr>
                      <a:xfrm>
                        <a:off x="5681160" y="2949120"/>
                        <a:ext cx="380880" cy="343080"/>
                      </a:xfrm>
                      <a:prstGeom prst="ellipse">
                        <a:avLst/>
                      </a:prstGeom>
                      <a:solidFill>
                        <a:srgbClr val="c0c0c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40" name="Text Box 220"/>
                      <p:cNvSpPr/>
                      <p:nvPr/>
                    </p:nvSpPr>
                    <p:spPr>
                      <a:xfrm>
                        <a:off x="5757480" y="3063240"/>
                        <a:ext cx="304560" cy="1141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r>
                          <a:rPr b="1" lang="en-US" sz="12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IF-3</a:t>
                        </a:r>
                        <a:endParaRPr b="0" lang="en-US" sz="12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41" name="Oval 221"/>
                      <p:cNvSpPr/>
                      <p:nvPr/>
                    </p:nvSpPr>
                    <p:spPr>
                      <a:xfrm>
                        <a:off x="6595920" y="2834640"/>
                        <a:ext cx="380880" cy="343080"/>
                      </a:xfrm>
                      <a:prstGeom prst="ellipse">
                        <a:avLst/>
                      </a:prstGeom>
                      <a:solidFill>
                        <a:srgbClr val="c0c0c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42" name="Text Box 222"/>
                      <p:cNvSpPr/>
                      <p:nvPr/>
                    </p:nvSpPr>
                    <p:spPr>
                      <a:xfrm>
                        <a:off x="6671880" y="2949120"/>
                        <a:ext cx="304560" cy="1141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r>
                          <a:rPr b="1" lang="en-US" sz="12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IF-1</a:t>
                        </a:r>
                        <a:endParaRPr b="0" lang="en-US" sz="12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43" name="Text Box 223"/>
                      <p:cNvSpPr/>
                      <p:nvPr/>
                    </p:nvSpPr>
                    <p:spPr>
                      <a:xfrm>
                        <a:off x="7358040" y="2771640"/>
                        <a:ext cx="304560" cy="1180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r>
                          <a:rPr b="1" lang="en-US" sz="9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3’</a:t>
                        </a:r>
                        <a:endParaRPr b="0" lang="en-US" sz="9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44" name="Text Box 224"/>
                      <p:cNvSpPr/>
                      <p:nvPr/>
                    </p:nvSpPr>
                    <p:spPr>
                      <a:xfrm>
                        <a:off x="5148000" y="2771640"/>
                        <a:ext cx="304560" cy="1180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r>
                          <a:rPr b="1" lang="en-US" sz="9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5’</a:t>
                        </a:r>
                        <a:endParaRPr b="0" lang="en-US" sz="9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45" name="Text Box 225"/>
                      <p:cNvSpPr/>
                      <p:nvPr/>
                    </p:nvSpPr>
                    <p:spPr>
                      <a:xfrm>
                        <a:off x="6123240" y="2886120"/>
                        <a:ext cx="457200" cy="1141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r>
                          <a:rPr b="1" lang="en-US" sz="12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AUG</a:t>
                        </a:r>
                        <a:endParaRPr b="0" lang="en-US" sz="12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446" name="Group 226"/>
                      <p:cNvGrpSpPr/>
                      <p:nvPr/>
                    </p:nvGrpSpPr>
                    <p:grpSpPr>
                      <a:xfrm>
                        <a:off x="5376240" y="2697480"/>
                        <a:ext cx="2057400" cy="153720"/>
                        <a:chOff x="5376240" y="2697480"/>
                        <a:chExt cx="2057400" cy="153720"/>
                      </a:xfrm>
                    </p:grpSpPr>
                    <p:grpSp>
                      <p:nvGrpSpPr>
                        <p:cNvPr id="447" name="Group 227"/>
                        <p:cNvGrpSpPr/>
                        <p:nvPr/>
                      </p:nvGrpSpPr>
                      <p:grpSpPr>
                        <a:xfrm>
                          <a:off x="5470920" y="2698560"/>
                          <a:ext cx="191160" cy="146880"/>
                          <a:chOff x="5470920" y="2698560"/>
                          <a:chExt cx="191160" cy="146880"/>
                        </a:xfrm>
                      </p:grpSpPr>
                      <p:sp>
                        <p:nvSpPr>
                          <p:cNvPr id="448" name="Line 228"/>
                          <p:cNvSpPr/>
                          <p:nvPr/>
                        </p:nvSpPr>
                        <p:spPr>
                          <a:xfrm flipH="1">
                            <a:off x="5470920" y="2707560"/>
                            <a:ext cx="1440" cy="137520"/>
                          </a:xfrm>
                          <a:prstGeom prst="line">
                            <a:avLst/>
                          </a:prstGeom>
                          <a:ln w="507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49" name="Line 229"/>
                          <p:cNvSpPr/>
                          <p:nvPr/>
                        </p:nvSpPr>
                        <p:spPr>
                          <a:xfrm flipH="1">
                            <a:off x="5562360" y="2708280"/>
                            <a:ext cx="1080" cy="137160"/>
                          </a:xfrm>
                          <a:prstGeom prst="line">
                            <a:avLst/>
                          </a:prstGeom>
                          <a:ln w="507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50" name="Line 230"/>
                          <p:cNvSpPr/>
                          <p:nvPr/>
                        </p:nvSpPr>
                        <p:spPr>
                          <a:xfrm flipH="1">
                            <a:off x="5661000" y="2698560"/>
                            <a:ext cx="1080" cy="137160"/>
                          </a:xfrm>
                          <a:prstGeom prst="line">
                            <a:avLst/>
                          </a:prstGeom>
                          <a:ln w="507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451" name="Group 231"/>
                        <p:cNvGrpSpPr/>
                        <p:nvPr/>
                      </p:nvGrpSpPr>
                      <p:grpSpPr>
                        <a:xfrm>
                          <a:off x="5852520" y="2697480"/>
                          <a:ext cx="190080" cy="148320"/>
                          <a:chOff x="5852520" y="2697480"/>
                          <a:chExt cx="190080" cy="148320"/>
                        </a:xfrm>
                      </p:grpSpPr>
                      <p:sp>
                        <p:nvSpPr>
                          <p:cNvPr id="452" name="Line 232"/>
                          <p:cNvSpPr/>
                          <p:nvPr/>
                        </p:nvSpPr>
                        <p:spPr>
                          <a:xfrm>
                            <a:off x="5852520" y="2708640"/>
                            <a:ext cx="0" cy="137160"/>
                          </a:xfrm>
                          <a:prstGeom prst="line">
                            <a:avLst/>
                          </a:prstGeom>
                          <a:ln w="507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53" name="Line 233"/>
                          <p:cNvSpPr/>
                          <p:nvPr/>
                        </p:nvSpPr>
                        <p:spPr>
                          <a:xfrm>
                            <a:off x="5943960" y="2708280"/>
                            <a:ext cx="360" cy="137160"/>
                          </a:xfrm>
                          <a:prstGeom prst="line">
                            <a:avLst/>
                          </a:prstGeom>
                          <a:ln w="507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54" name="Line 234"/>
                          <p:cNvSpPr/>
                          <p:nvPr/>
                        </p:nvSpPr>
                        <p:spPr>
                          <a:xfrm>
                            <a:off x="6042600" y="2697480"/>
                            <a:ext cx="0" cy="137160"/>
                          </a:xfrm>
                          <a:prstGeom prst="line">
                            <a:avLst/>
                          </a:prstGeom>
                          <a:ln w="507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455" name="Group 235"/>
                        <p:cNvGrpSpPr/>
                        <p:nvPr/>
                      </p:nvGrpSpPr>
                      <p:grpSpPr>
                        <a:xfrm>
                          <a:off x="6232320" y="2698920"/>
                          <a:ext cx="191880" cy="146520"/>
                          <a:chOff x="6232320" y="2698920"/>
                          <a:chExt cx="191880" cy="146520"/>
                        </a:xfrm>
                      </p:grpSpPr>
                      <p:sp>
                        <p:nvSpPr>
                          <p:cNvPr id="456" name="Line 236"/>
                          <p:cNvSpPr/>
                          <p:nvPr/>
                        </p:nvSpPr>
                        <p:spPr>
                          <a:xfrm flipH="1">
                            <a:off x="6232320" y="2707200"/>
                            <a:ext cx="1800" cy="137520"/>
                          </a:xfrm>
                          <a:prstGeom prst="line">
                            <a:avLst/>
                          </a:prstGeom>
                          <a:ln w="507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57" name="Line 237"/>
                          <p:cNvSpPr/>
                          <p:nvPr/>
                        </p:nvSpPr>
                        <p:spPr>
                          <a:xfrm flipH="1">
                            <a:off x="6324120" y="2708280"/>
                            <a:ext cx="1440" cy="137160"/>
                          </a:xfrm>
                          <a:prstGeom prst="line">
                            <a:avLst/>
                          </a:prstGeom>
                          <a:ln w="507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58" name="Line 238"/>
                          <p:cNvSpPr/>
                          <p:nvPr/>
                        </p:nvSpPr>
                        <p:spPr>
                          <a:xfrm flipH="1">
                            <a:off x="6422760" y="2698920"/>
                            <a:ext cx="1440" cy="137160"/>
                          </a:xfrm>
                          <a:prstGeom prst="line">
                            <a:avLst/>
                          </a:prstGeom>
                          <a:ln w="507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459" name="Group 239"/>
                        <p:cNvGrpSpPr/>
                        <p:nvPr/>
                      </p:nvGrpSpPr>
                      <p:grpSpPr>
                        <a:xfrm>
                          <a:off x="6612480" y="2700360"/>
                          <a:ext cx="194040" cy="145080"/>
                          <a:chOff x="6612480" y="2700360"/>
                          <a:chExt cx="194040" cy="145080"/>
                        </a:xfrm>
                      </p:grpSpPr>
                      <p:sp>
                        <p:nvSpPr>
                          <p:cNvPr id="460" name="Line 240"/>
                          <p:cNvSpPr/>
                          <p:nvPr/>
                        </p:nvSpPr>
                        <p:spPr>
                          <a:xfrm flipH="1">
                            <a:off x="6612480" y="2705760"/>
                            <a:ext cx="3960" cy="137520"/>
                          </a:xfrm>
                          <a:prstGeom prst="line">
                            <a:avLst/>
                          </a:prstGeom>
                          <a:ln w="507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61" name="Line 241"/>
                          <p:cNvSpPr/>
                          <p:nvPr/>
                        </p:nvSpPr>
                        <p:spPr>
                          <a:xfrm flipH="1">
                            <a:off x="6704280" y="2708280"/>
                            <a:ext cx="3600" cy="137160"/>
                          </a:xfrm>
                          <a:prstGeom prst="line">
                            <a:avLst/>
                          </a:prstGeom>
                          <a:ln w="507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62" name="Line 242"/>
                          <p:cNvSpPr/>
                          <p:nvPr/>
                        </p:nvSpPr>
                        <p:spPr>
                          <a:xfrm flipH="1">
                            <a:off x="6802920" y="2700360"/>
                            <a:ext cx="3600" cy="137160"/>
                          </a:xfrm>
                          <a:prstGeom prst="line">
                            <a:avLst/>
                          </a:prstGeom>
                          <a:ln w="507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463" name="Line 243"/>
                        <p:cNvSpPr/>
                        <p:nvPr/>
                      </p:nvSpPr>
                      <p:spPr>
                        <a:xfrm>
                          <a:off x="5376240" y="2851200"/>
                          <a:ext cx="2057400" cy="0"/>
                        </a:xfrm>
                        <a:prstGeom prst="line">
                          <a:avLst/>
                        </a:prstGeom>
                        <a:ln w="4752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64" name="Group 244"/>
                        <p:cNvGrpSpPr/>
                        <p:nvPr/>
                      </p:nvGrpSpPr>
                      <p:grpSpPr>
                        <a:xfrm>
                          <a:off x="6993360" y="2700360"/>
                          <a:ext cx="194040" cy="144720"/>
                          <a:chOff x="6993360" y="2700360"/>
                          <a:chExt cx="194040" cy="144720"/>
                        </a:xfrm>
                      </p:grpSpPr>
                      <p:sp>
                        <p:nvSpPr>
                          <p:cNvPr id="465" name="Line 245"/>
                          <p:cNvSpPr/>
                          <p:nvPr/>
                        </p:nvSpPr>
                        <p:spPr>
                          <a:xfrm flipH="1">
                            <a:off x="6993360" y="2705760"/>
                            <a:ext cx="3960" cy="137520"/>
                          </a:xfrm>
                          <a:prstGeom prst="line">
                            <a:avLst/>
                          </a:prstGeom>
                          <a:ln w="507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66" name="Line 246"/>
                          <p:cNvSpPr/>
                          <p:nvPr/>
                        </p:nvSpPr>
                        <p:spPr>
                          <a:xfrm flipH="1">
                            <a:off x="7084800" y="2708280"/>
                            <a:ext cx="3960" cy="136800"/>
                          </a:xfrm>
                          <a:prstGeom prst="line">
                            <a:avLst/>
                          </a:prstGeom>
                          <a:ln w="507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67" name="Line 247"/>
                          <p:cNvSpPr/>
                          <p:nvPr/>
                        </p:nvSpPr>
                        <p:spPr>
                          <a:xfrm flipH="1">
                            <a:off x="7183800" y="2700360"/>
                            <a:ext cx="3600" cy="137160"/>
                          </a:xfrm>
                          <a:prstGeom prst="line">
                            <a:avLst/>
                          </a:prstGeom>
                          <a:ln w="507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</p:grpSp>
                <p:grpSp>
                  <p:nvGrpSpPr>
                    <p:cNvPr id="468" name="Group 248"/>
                    <p:cNvGrpSpPr/>
                    <p:nvPr/>
                  </p:nvGrpSpPr>
                  <p:grpSpPr>
                    <a:xfrm>
                      <a:off x="6443280" y="2314440"/>
                      <a:ext cx="380880" cy="342720"/>
                      <a:chOff x="6443280" y="2314440"/>
                      <a:chExt cx="380880" cy="342720"/>
                    </a:xfrm>
                  </p:grpSpPr>
                  <p:sp>
                    <p:nvSpPr>
                      <p:cNvPr id="469" name="Oval 249"/>
                      <p:cNvSpPr/>
                      <p:nvPr/>
                    </p:nvSpPr>
                    <p:spPr>
                      <a:xfrm>
                        <a:off x="6443280" y="2314440"/>
                        <a:ext cx="380880" cy="342720"/>
                      </a:xfrm>
                      <a:prstGeom prst="ellipse">
                        <a:avLst/>
                      </a:prstGeom>
                      <a:solidFill>
                        <a:srgbClr val="c0c0c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70" name="Text Box 250"/>
                      <p:cNvSpPr/>
                      <p:nvPr/>
                    </p:nvSpPr>
                    <p:spPr>
                      <a:xfrm>
                        <a:off x="6519240" y="2428560"/>
                        <a:ext cx="304560" cy="1141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r>
                          <a:rPr b="1" lang="en-US" sz="12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IF-2</a:t>
                        </a:r>
                        <a:endParaRPr b="0" lang="en-US" sz="12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471" name="Group 251"/>
                    <p:cNvGrpSpPr/>
                    <p:nvPr/>
                  </p:nvGrpSpPr>
                  <p:grpSpPr>
                    <a:xfrm>
                      <a:off x="5938920" y="1506240"/>
                      <a:ext cx="755280" cy="1176120"/>
                      <a:chOff x="5938920" y="1506240"/>
                      <a:chExt cx="755280" cy="1176120"/>
                    </a:xfrm>
                  </p:grpSpPr>
                  <p:grpSp>
                    <p:nvGrpSpPr>
                      <p:cNvPr id="472" name="Group 252"/>
                      <p:cNvGrpSpPr/>
                      <p:nvPr/>
                    </p:nvGrpSpPr>
                    <p:grpSpPr>
                      <a:xfrm>
                        <a:off x="5938920" y="1506240"/>
                        <a:ext cx="755280" cy="1176120"/>
                        <a:chOff x="5938920" y="1506240"/>
                        <a:chExt cx="755280" cy="1176120"/>
                      </a:xfrm>
                    </p:grpSpPr>
                    <p:grpSp>
                      <p:nvGrpSpPr>
                        <p:cNvPr id="473" name="Group 253"/>
                        <p:cNvGrpSpPr/>
                        <p:nvPr/>
                      </p:nvGrpSpPr>
                      <p:grpSpPr>
                        <a:xfrm>
                          <a:off x="5938920" y="1782360"/>
                          <a:ext cx="755280" cy="900000"/>
                          <a:chOff x="5938920" y="1782360"/>
                          <a:chExt cx="755280" cy="900000"/>
                        </a:xfrm>
                      </p:grpSpPr>
                      <p:grpSp>
                        <p:nvGrpSpPr>
                          <p:cNvPr id="474" name="Group 254"/>
                          <p:cNvGrpSpPr/>
                          <p:nvPr/>
                        </p:nvGrpSpPr>
                        <p:grpSpPr>
                          <a:xfrm>
                            <a:off x="6244560" y="2537640"/>
                            <a:ext cx="194760" cy="144720"/>
                            <a:chOff x="6244560" y="2537640"/>
                            <a:chExt cx="194760" cy="144720"/>
                          </a:xfrm>
                        </p:grpSpPr>
                        <p:sp>
                          <p:nvSpPr>
                            <p:cNvPr id="475" name="Line 255"/>
                            <p:cNvSpPr/>
                            <p:nvPr/>
                          </p:nvSpPr>
                          <p:spPr>
                            <a:xfrm flipH="1">
                              <a:off x="6244560" y="2542680"/>
                              <a:ext cx="4320" cy="137160"/>
                            </a:xfrm>
                            <a:prstGeom prst="line">
                              <a:avLst/>
                            </a:prstGeom>
                            <a:ln w="507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ffffff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476" name="Line 256"/>
                            <p:cNvSpPr/>
                            <p:nvPr/>
                          </p:nvSpPr>
                          <p:spPr>
                            <a:xfrm flipH="1">
                              <a:off x="6336720" y="2545200"/>
                              <a:ext cx="3600" cy="137160"/>
                            </a:xfrm>
                            <a:prstGeom prst="line">
                              <a:avLst/>
                            </a:prstGeom>
                            <a:ln w="507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ffffff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477" name="Line 257"/>
                            <p:cNvSpPr/>
                            <p:nvPr/>
                          </p:nvSpPr>
                          <p:spPr>
                            <a:xfrm flipH="1">
                              <a:off x="6435000" y="2537640"/>
                              <a:ext cx="4320" cy="136800"/>
                            </a:xfrm>
                            <a:prstGeom prst="line">
                              <a:avLst/>
                            </a:prstGeom>
                            <a:ln w="507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ffffff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478" name="Freeform 258"/>
                          <p:cNvSpPr/>
                          <p:nvPr/>
                        </p:nvSpPr>
                        <p:spPr>
                          <a:xfrm rot="3659400">
                            <a:off x="5967000" y="1964880"/>
                            <a:ext cx="698400" cy="476280"/>
                          </a:xfrm>
                          <a:custGeom>
                            <a:avLst/>
                            <a:gdLst>
                              <a:gd name="textAreaLeft" fmla="*/ 0 w 698400"/>
                              <a:gd name="textAreaRight" fmla="*/ 698400 w 698400"/>
                              <a:gd name="textAreaTop" fmla="*/ 0 h 476280"/>
                              <a:gd name="textAreaBottom" fmla="*/ 476640 h 476280"/>
                            </a:gdLst>
                            <a:ahLst/>
                            <a:rect l="textAreaLeft" t="textAreaTop" r="textAreaRight" b="textAreaBottom"/>
                            <a:pathLst>
                              <a:path w="1400" h="1110">
                                <a:moveTo>
                                  <a:pt x="140" y="390"/>
                                </a:moveTo>
                                <a:cubicBezTo>
                                  <a:pt x="210" y="480"/>
                                  <a:pt x="280" y="570"/>
                                  <a:pt x="380" y="570"/>
                                </a:cubicBezTo>
                                <a:cubicBezTo>
                                  <a:pt x="480" y="570"/>
                                  <a:pt x="620" y="420"/>
                                  <a:pt x="740" y="390"/>
                                </a:cubicBezTo>
                                <a:cubicBezTo>
                                  <a:pt x="860" y="360"/>
                                  <a:pt x="1000" y="360"/>
                                  <a:pt x="1100" y="390"/>
                                </a:cubicBezTo>
                                <a:cubicBezTo>
                                  <a:pt x="1200" y="420"/>
                                  <a:pt x="1300" y="480"/>
                                  <a:pt x="1340" y="570"/>
                                </a:cubicBezTo>
                                <a:cubicBezTo>
                                  <a:pt x="1380" y="660"/>
                                  <a:pt x="1400" y="840"/>
                                  <a:pt x="1340" y="930"/>
                                </a:cubicBezTo>
                                <a:cubicBezTo>
                                  <a:pt x="1280" y="1020"/>
                                  <a:pt x="1100" y="1110"/>
                                  <a:pt x="980" y="1110"/>
                                </a:cubicBezTo>
                                <a:cubicBezTo>
                                  <a:pt x="860" y="1110"/>
                                  <a:pt x="700" y="990"/>
                                  <a:pt x="620" y="930"/>
                                </a:cubicBezTo>
                                <a:cubicBezTo>
                                  <a:pt x="540" y="870"/>
                                  <a:pt x="540" y="840"/>
                                  <a:pt x="500" y="750"/>
                                </a:cubicBezTo>
                                <a:cubicBezTo>
                                  <a:pt x="460" y="660"/>
                                  <a:pt x="400" y="480"/>
                                  <a:pt x="380" y="390"/>
                                </a:cubicBezTo>
                                <a:cubicBezTo>
                                  <a:pt x="360" y="300"/>
                                  <a:pt x="400" y="270"/>
                                  <a:pt x="380" y="210"/>
                                </a:cubicBezTo>
                                <a:cubicBezTo>
                                  <a:pt x="360" y="150"/>
                                  <a:pt x="320" y="60"/>
                                  <a:pt x="260" y="30"/>
                                </a:cubicBezTo>
                                <a:cubicBezTo>
                                  <a:pt x="200" y="0"/>
                                  <a:pt x="40" y="30"/>
                                  <a:pt x="20" y="30"/>
                                </a:cubicBezTo>
                                <a:cubicBezTo>
                                  <a:pt x="0" y="30"/>
                                  <a:pt x="70" y="30"/>
                                  <a:pt x="140" y="30"/>
                                </a:cubicBezTo>
                              </a:path>
                            </a:pathLst>
                          </a:custGeom>
                          <a:noFill/>
                          <a:ln w="5076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479" name="Oval 259"/>
                        <p:cNvSpPr/>
                        <p:nvPr/>
                      </p:nvSpPr>
                      <p:spPr>
                        <a:xfrm rot="1331400">
                          <a:off x="6001920" y="1569600"/>
                          <a:ext cx="380880" cy="228600"/>
                        </a:xfrm>
                        <a:prstGeom prst="ellipse">
                          <a:avLst/>
                        </a:prstGeom>
                        <a:solidFill>
                          <a:srgbClr val="c0c0c0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457200"/>
                              <a:tab algn="l" pos="914400"/>
                              <a:tab algn="l" pos="1371600"/>
                              <a:tab algn="l" pos="1828800"/>
                              <a:tab algn="l" pos="2286000"/>
                              <a:tab algn="l" pos="2743200"/>
                              <a:tab algn="l" pos="3200400"/>
                              <a:tab algn="l" pos="3657600"/>
                              <a:tab algn="l" pos="4114800"/>
                              <a:tab algn="l" pos="4572000"/>
                              <a:tab algn="l" pos="5029200"/>
                              <a:tab algn="l" pos="5486400"/>
                              <a:tab algn="l" pos="5943600"/>
                              <a:tab algn="l" pos="6400800"/>
                              <a:tab algn="l" pos="6858000"/>
                              <a:tab algn="l" pos="7315200"/>
                              <a:tab algn="l" pos="7772400"/>
                              <a:tab algn="l" pos="8229600"/>
                              <a:tab algn="l" pos="8686800"/>
                              <a:tab algn="l" pos="91440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480" name="Text Box 260"/>
                      <p:cNvSpPr/>
                      <p:nvPr/>
                    </p:nvSpPr>
                    <p:spPr>
                      <a:xfrm>
                        <a:off x="6062040" y="1628640"/>
                        <a:ext cx="304560" cy="1141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r>
                          <a:rPr b="1" lang="en-US" sz="9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fMet</a:t>
                        </a:r>
                        <a:endParaRPr b="0" lang="en-US" sz="9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81" name="Text Box 261"/>
                      <p:cNvSpPr/>
                      <p:nvPr/>
                    </p:nvSpPr>
                    <p:spPr>
                      <a:xfrm>
                        <a:off x="6143400" y="2314440"/>
                        <a:ext cx="403200" cy="1850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r>
                          <a:rPr b="1" lang="en-US" sz="11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UAC</a:t>
                        </a:r>
                        <a:endParaRPr b="0" lang="en-US" sz="11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482" name="Text Box 262"/>
                  <p:cNvSpPr/>
                  <p:nvPr/>
                </p:nvSpPr>
                <p:spPr>
                  <a:xfrm>
                    <a:off x="6824160" y="2428920"/>
                    <a:ext cx="457200" cy="114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r>
                      <a:rPr b="1" lang="en-US" sz="1100" spc="-1" strike="noStrike">
                        <a:solidFill>
                          <a:srgbClr val="000000"/>
                        </a:solidFill>
                        <a:latin typeface="Arial"/>
                      </a:rPr>
                      <a:t>GTP</a:t>
                    </a:r>
                    <a:endParaRPr b="0" lang="en-US" sz="11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3" name="Line 263"/>
                  <p:cNvSpPr/>
                  <p:nvPr/>
                </p:nvSpPr>
                <p:spPr>
                  <a:xfrm>
                    <a:off x="6824160" y="2472120"/>
                    <a:ext cx="763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4" name="Group 264"/>
                <p:cNvGrpSpPr/>
                <p:nvPr/>
              </p:nvGrpSpPr>
              <p:grpSpPr>
                <a:xfrm>
                  <a:off x="5113440" y="3399480"/>
                  <a:ext cx="2625480" cy="921960"/>
                  <a:chOff x="5113440" y="3399480"/>
                  <a:chExt cx="2625480" cy="921960"/>
                </a:xfrm>
              </p:grpSpPr>
              <p:grpSp>
                <p:nvGrpSpPr>
                  <p:cNvPr id="485" name="Group 265"/>
                  <p:cNvGrpSpPr/>
                  <p:nvPr/>
                </p:nvGrpSpPr>
                <p:grpSpPr>
                  <a:xfrm>
                    <a:off x="6900840" y="3978360"/>
                    <a:ext cx="380880" cy="343080"/>
                    <a:chOff x="6900840" y="3978360"/>
                    <a:chExt cx="380880" cy="343080"/>
                  </a:xfrm>
                </p:grpSpPr>
                <p:sp>
                  <p:nvSpPr>
                    <p:cNvPr id="486" name="Oval 266"/>
                    <p:cNvSpPr/>
                    <p:nvPr/>
                  </p:nvSpPr>
                  <p:spPr>
                    <a:xfrm>
                      <a:off x="6900840" y="3978360"/>
                      <a:ext cx="380880" cy="343080"/>
                    </a:xfrm>
                    <a:prstGeom prst="ellipse">
                      <a:avLst/>
                    </a:prstGeom>
                    <a:solidFill>
                      <a:srgbClr val="c0c0c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7" name="Text Box 267"/>
                    <p:cNvSpPr/>
                    <p:nvPr/>
                  </p:nvSpPr>
                  <p:spPr>
                    <a:xfrm>
                      <a:off x="6976800" y="4092840"/>
                      <a:ext cx="304560" cy="1141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F-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88" name="Group 268"/>
                  <p:cNvGrpSpPr/>
                  <p:nvPr/>
                </p:nvGrpSpPr>
                <p:grpSpPr>
                  <a:xfrm>
                    <a:off x="7358040" y="3978360"/>
                    <a:ext cx="380880" cy="343080"/>
                    <a:chOff x="7358040" y="3978360"/>
                    <a:chExt cx="380880" cy="343080"/>
                  </a:xfrm>
                </p:grpSpPr>
                <p:sp>
                  <p:nvSpPr>
                    <p:cNvPr id="489" name="Oval 269"/>
                    <p:cNvSpPr/>
                    <p:nvPr/>
                  </p:nvSpPr>
                  <p:spPr>
                    <a:xfrm>
                      <a:off x="7358040" y="3978360"/>
                      <a:ext cx="380880" cy="343080"/>
                    </a:xfrm>
                    <a:prstGeom prst="ellipse">
                      <a:avLst/>
                    </a:prstGeom>
                    <a:solidFill>
                      <a:srgbClr val="c0c0c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0" name="Text Box 270"/>
                    <p:cNvSpPr/>
                    <p:nvPr/>
                  </p:nvSpPr>
                  <p:spPr>
                    <a:xfrm>
                      <a:off x="7434000" y="4092480"/>
                      <a:ext cx="304560" cy="1144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F-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91" name="Group 271"/>
                  <p:cNvGrpSpPr/>
                  <p:nvPr/>
                </p:nvGrpSpPr>
                <p:grpSpPr>
                  <a:xfrm>
                    <a:off x="6443640" y="3978360"/>
                    <a:ext cx="380880" cy="343080"/>
                    <a:chOff x="6443640" y="3978360"/>
                    <a:chExt cx="380880" cy="343080"/>
                  </a:xfrm>
                </p:grpSpPr>
                <p:sp>
                  <p:nvSpPr>
                    <p:cNvPr id="492" name="Oval 272"/>
                    <p:cNvSpPr/>
                    <p:nvPr/>
                  </p:nvSpPr>
                  <p:spPr>
                    <a:xfrm>
                      <a:off x="6443640" y="3978360"/>
                      <a:ext cx="380880" cy="343080"/>
                    </a:xfrm>
                    <a:prstGeom prst="ellipse">
                      <a:avLst/>
                    </a:prstGeom>
                    <a:solidFill>
                      <a:srgbClr val="c0c0c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3" name="Text Box 273"/>
                    <p:cNvSpPr/>
                    <p:nvPr/>
                  </p:nvSpPr>
                  <p:spPr>
                    <a:xfrm>
                      <a:off x="6519600" y="4092840"/>
                      <a:ext cx="304560" cy="1141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F-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94" name="Text Box 274"/>
                  <p:cNvSpPr/>
                  <p:nvPr/>
                </p:nvSpPr>
                <p:spPr>
                  <a:xfrm>
                    <a:off x="5113440" y="3406680"/>
                    <a:ext cx="873000" cy="378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Subunidad 50S</a:t>
                    </a:r>
                    <a:endParaRPr b="0" lang="en-US" sz="12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495" name="Group 275"/>
                  <p:cNvGrpSpPr/>
                  <p:nvPr/>
                </p:nvGrpSpPr>
                <p:grpSpPr>
                  <a:xfrm>
                    <a:off x="5897520" y="3399480"/>
                    <a:ext cx="651240" cy="807480"/>
                    <a:chOff x="5897520" y="3399480"/>
                    <a:chExt cx="651240" cy="807480"/>
                  </a:xfrm>
                </p:grpSpPr>
                <p:sp>
                  <p:nvSpPr>
                    <p:cNvPr id="496" name="Arc 276"/>
                    <p:cNvSpPr/>
                    <p:nvPr/>
                  </p:nvSpPr>
                  <p:spPr>
                    <a:xfrm flipV="1" rot="16349400">
                      <a:off x="5782320" y="3646800"/>
                      <a:ext cx="559440" cy="305280"/>
                    </a:xfrm>
                    <a:custGeom>
                      <a:avLst/>
                      <a:gdLst>
                        <a:gd name="textAreaLeft" fmla="*/ 0 w 559440"/>
                        <a:gd name="textAreaRight" fmla="*/ 559800 w 559440"/>
                        <a:gd name="textAreaTop" fmla="*/ 360 h 305280"/>
                        <a:gd name="textAreaBottom" fmla="*/ 306000 h 305280"/>
                      </a:gdLst>
                      <a:ahLst/>
                      <a:rect l="textAreaLeft" t="textAreaTop" r="textAreaRight" b="textAreaBottom"/>
                      <a:pathLst>
                        <a:path fill="none" w="21600" h="17104">
                          <a:moveTo>
                            <a:pt x="13191" y="0"/>
                          </a:moveTo>
                          <a:cubicBezTo>
                            <a:pt x="18494" y="4089"/>
                            <a:pt x="21600" y="10407"/>
                            <a:pt x="21600" y="17104"/>
                          </a:cubicBezTo>
                        </a:path>
                        <a:path stroke="0" w="21600" h="17104">
                          <a:moveTo>
                            <a:pt x="13191" y="0"/>
                          </a:moveTo>
                          <a:cubicBezTo>
                            <a:pt x="18494" y="4089"/>
                            <a:pt x="21600" y="10407"/>
                            <a:pt x="21600" y="17104"/>
                          </a:cubicBezTo>
                          <a:lnTo>
                            <a:pt x="0" y="17104"/>
                          </a:lnTo>
                          <a:lnTo>
                            <a:pt x="13191" y="0"/>
                          </a:lnTo>
                          <a:close/>
                        </a:path>
                      </a:pathLst>
                    </a:custGeom>
                    <a:noFill/>
                    <a:ln w="158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7" name="Line 277"/>
                    <p:cNvSpPr/>
                    <p:nvPr/>
                  </p:nvSpPr>
                  <p:spPr>
                    <a:xfrm flipH="1">
                      <a:off x="6214680" y="3520800"/>
                      <a:ext cx="360" cy="68616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8" name="Arc 278"/>
                    <p:cNvSpPr/>
                    <p:nvPr/>
                  </p:nvSpPr>
                  <p:spPr>
                    <a:xfrm flipV="1" rot="4930200">
                      <a:off x="6137640" y="3487680"/>
                      <a:ext cx="445320" cy="304920"/>
                    </a:xfrm>
                    <a:custGeom>
                      <a:avLst/>
                      <a:gdLst>
                        <a:gd name="textAreaLeft" fmla="*/ 0 w 445320"/>
                        <a:gd name="textAreaRight" fmla="*/ 445680 w 445320"/>
                        <a:gd name="textAreaTop" fmla="*/ -360 h 304920"/>
                        <a:gd name="textAreaBottom" fmla="*/ 304920 h 304920"/>
                      </a:gdLst>
                      <a:ahLst/>
                      <a:rect l="textAreaLeft" t="textAreaTop" r="textAreaRight" b="textAreaBottom"/>
                      <a:pathLst>
                        <a:path fill="none" w="20443" h="17104">
                          <a:moveTo>
                            <a:pt x="13191" y="0"/>
                          </a:moveTo>
                          <a:cubicBezTo>
                            <a:pt x="16551" y="2591"/>
                            <a:pt x="19073" y="6115"/>
                            <a:pt x="20443" y="10130"/>
                          </a:cubicBezTo>
                        </a:path>
                        <a:path stroke="0" w="20443" h="17104">
                          <a:moveTo>
                            <a:pt x="13191" y="0"/>
                          </a:moveTo>
                          <a:cubicBezTo>
                            <a:pt x="16551" y="2591"/>
                            <a:pt x="19073" y="6115"/>
                            <a:pt x="20443" y="10130"/>
                          </a:cubicBezTo>
                          <a:lnTo>
                            <a:pt x="0" y="17104"/>
                          </a:lnTo>
                          <a:lnTo>
                            <a:pt x="13191" y="0"/>
                          </a:lnTo>
                          <a:close/>
                        </a:path>
                      </a:pathLst>
                    </a:custGeom>
                    <a:noFill/>
                    <a:ln w="15840">
                      <a:solidFill>
                        <a:srgbClr val="000000"/>
                      </a:solidFill>
                      <a:round/>
                      <a:tailEnd len="sm" type="triangle" w="sm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9" name="Arc 279"/>
                    <p:cNvSpPr/>
                    <p:nvPr/>
                  </p:nvSpPr>
                  <p:spPr>
                    <a:xfrm flipV="1" rot="4930200">
                      <a:off x="6144840" y="3716640"/>
                      <a:ext cx="445320" cy="304560"/>
                    </a:xfrm>
                    <a:custGeom>
                      <a:avLst/>
                      <a:gdLst>
                        <a:gd name="textAreaLeft" fmla="*/ 0 w 445320"/>
                        <a:gd name="textAreaRight" fmla="*/ 445680 w 445320"/>
                        <a:gd name="textAreaTop" fmla="*/ 360 h 304560"/>
                        <a:gd name="textAreaBottom" fmla="*/ 305280 h 304560"/>
                      </a:gdLst>
                      <a:ahLst/>
                      <a:rect l="textAreaLeft" t="textAreaTop" r="textAreaRight" b="textAreaBottom"/>
                      <a:pathLst>
                        <a:path fill="none" w="20443" h="17104">
                          <a:moveTo>
                            <a:pt x="13191" y="0"/>
                          </a:moveTo>
                          <a:cubicBezTo>
                            <a:pt x="16551" y="2591"/>
                            <a:pt x="19073" y="6115"/>
                            <a:pt x="20443" y="10130"/>
                          </a:cubicBezTo>
                        </a:path>
                        <a:path stroke="0" w="20443" h="17104">
                          <a:moveTo>
                            <a:pt x="13191" y="0"/>
                          </a:moveTo>
                          <a:cubicBezTo>
                            <a:pt x="16551" y="2591"/>
                            <a:pt x="19073" y="6115"/>
                            <a:pt x="20443" y="10130"/>
                          </a:cubicBezTo>
                          <a:lnTo>
                            <a:pt x="0" y="17104"/>
                          </a:lnTo>
                          <a:lnTo>
                            <a:pt x="13191" y="0"/>
                          </a:lnTo>
                          <a:close/>
                        </a:path>
                      </a:pathLst>
                    </a:custGeom>
                    <a:noFill/>
                    <a:ln w="15840">
                      <a:solidFill>
                        <a:srgbClr val="000000"/>
                      </a:solidFill>
                      <a:round/>
                      <a:tailEnd len="sm" type="triangle" w="sm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00" name="Text Box 280"/>
                  <p:cNvSpPr/>
                  <p:nvPr/>
                </p:nvSpPr>
                <p:spPr>
                  <a:xfrm>
                    <a:off x="6367320" y="3789000"/>
                    <a:ext cx="784080" cy="65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GDP + Pi</a:t>
                    </a:r>
                    <a:endParaRPr b="0" lang="en-US" sz="12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01" name="AutoShape 281"/>
              <p:cNvSpPr/>
              <p:nvPr/>
            </p:nvSpPr>
            <p:spPr>
              <a:xfrm>
                <a:off x="7524720" y="1484280"/>
                <a:ext cx="142920" cy="1873440"/>
              </a:xfrm>
              <a:custGeom>
                <a:avLst/>
                <a:gdLst>
                  <a:gd name="textAreaLeft" fmla="*/ 0 w 142920"/>
                  <a:gd name="textAreaRight" fmla="*/ 51480 w 142920"/>
                  <a:gd name="textAreaTop" fmla="*/ 48600 h 1873440"/>
                  <a:gd name="textAreaBottom" fmla="*/ 1824840 h 18734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" name="AutoShape 282"/>
              <p:cNvSpPr/>
              <p:nvPr/>
            </p:nvSpPr>
            <p:spPr>
              <a:xfrm>
                <a:off x="7740720" y="4653000"/>
                <a:ext cx="142920" cy="1297080"/>
              </a:xfrm>
              <a:custGeom>
                <a:avLst/>
                <a:gdLst>
                  <a:gd name="textAreaLeft" fmla="*/ 0 w 142920"/>
                  <a:gd name="textAreaRight" fmla="*/ 51480 w 142920"/>
                  <a:gd name="textAreaTop" fmla="*/ 33480 h 1297080"/>
                  <a:gd name="textAreaBottom" fmla="*/ 1263600 h 1297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" name="Text Box 283"/>
              <p:cNvSpPr/>
              <p:nvPr/>
            </p:nvSpPr>
            <p:spPr>
              <a:xfrm>
                <a:off x="7604640" y="2027160"/>
                <a:ext cx="1159200" cy="10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s-ES" sz="1600" spc="-1" strike="noStrike">
                    <a:solidFill>
                      <a:srgbClr val="3333cc"/>
                    </a:solidFill>
                    <a:latin typeface="Arial"/>
                  </a:rPr>
                  <a:t>Complejo 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s-ES" sz="1600" spc="-1" strike="noStrike">
                    <a:solidFill>
                      <a:srgbClr val="3333cc"/>
                    </a:solidFill>
                    <a:latin typeface="Arial"/>
                  </a:rPr>
                  <a:t>de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s-ES" sz="1600" spc="-1" strike="noStrike">
                    <a:solidFill>
                      <a:srgbClr val="3333cc"/>
                    </a:solidFill>
                    <a:latin typeface="Arial"/>
                  </a:rPr>
                  <a:t>Iniciación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s-ES" sz="1600" spc="-1" strike="noStrike">
                    <a:solidFill>
                      <a:srgbClr val="3333cc"/>
                    </a:solidFill>
                    <a:latin typeface="Arial"/>
                  </a:rPr>
                  <a:t>30 S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" name="Text Box 284"/>
              <p:cNvSpPr/>
              <p:nvPr/>
            </p:nvSpPr>
            <p:spPr>
              <a:xfrm>
                <a:off x="7842600" y="4741920"/>
                <a:ext cx="1159200" cy="10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s-ES" sz="1600" spc="-1" strike="noStrike">
                    <a:solidFill>
                      <a:srgbClr val="3333cc"/>
                    </a:solidFill>
                    <a:latin typeface="Arial"/>
                  </a:rPr>
                  <a:t>Complejo 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s-ES" sz="1600" spc="-1" strike="noStrike">
                    <a:solidFill>
                      <a:srgbClr val="3333cc"/>
                    </a:solidFill>
                    <a:latin typeface="Arial"/>
                  </a:rPr>
                  <a:t>de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s-ES" sz="1600" spc="-1" strike="noStrike">
                    <a:solidFill>
                      <a:srgbClr val="3333cc"/>
                    </a:solidFill>
                    <a:latin typeface="Arial"/>
                  </a:rPr>
                  <a:t>Iniciación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s-ES" sz="1600" spc="-1" strike="noStrike">
                    <a:solidFill>
                      <a:srgbClr val="3333cc"/>
                    </a:solidFill>
                    <a:latin typeface="Arial"/>
                  </a:rPr>
                  <a:t>70 S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05" name="Text Box 285"/>
            <p:cNvSpPr/>
            <p:nvPr/>
          </p:nvSpPr>
          <p:spPr>
            <a:xfrm>
              <a:off x="5529960" y="1484280"/>
              <a:ext cx="5540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H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6" name="Text Box 286"/>
            <p:cNvSpPr/>
            <p:nvPr/>
          </p:nvSpPr>
          <p:spPr>
            <a:xfrm>
              <a:off x="5529960" y="4149720"/>
              <a:ext cx="5540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H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07" name="Grupo 1"/>
          <p:cNvGrpSpPr/>
          <p:nvPr/>
        </p:nvGrpSpPr>
        <p:grpSpPr>
          <a:xfrm>
            <a:off x="179280" y="1917360"/>
            <a:ext cx="2057400" cy="143280"/>
            <a:chOff x="179280" y="1917360"/>
            <a:chExt cx="2057400" cy="143280"/>
          </a:xfrm>
        </p:grpSpPr>
        <p:sp>
          <p:nvSpPr>
            <p:cNvPr id="508" name="Line 243"/>
            <p:cNvSpPr/>
            <p:nvPr/>
          </p:nvSpPr>
          <p:spPr>
            <a:xfrm>
              <a:off x="179280" y="2060640"/>
              <a:ext cx="2057400" cy="0"/>
            </a:xfrm>
            <a:prstGeom prst="line">
              <a:avLst/>
            </a:prstGeom>
            <a:ln w="47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9" name="Line 247"/>
            <p:cNvSpPr/>
            <p:nvPr/>
          </p:nvSpPr>
          <p:spPr>
            <a:xfrm flipH="1">
              <a:off x="313560" y="1917360"/>
              <a:ext cx="3240" cy="136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0" name="Line 247"/>
            <p:cNvSpPr/>
            <p:nvPr/>
          </p:nvSpPr>
          <p:spPr>
            <a:xfrm flipH="1">
              <a:off x="385560" y="1917360"/>
              <a:ext cx="3240" cy="136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1" name="Line 247"/>
            <p:cNvSpPr/>
            <p:nvPr/>
          </p:nvSpPr>
          <p:spPr>
            <a:xfrm flipH="1">
              <a:off x="457560" y="1917360"/>
              <a:ext cx="3240" cy="136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2" name="Line 247"/>
            <p:cNvSpPr/>
            <p:nvPr/>
          </p:nvSpPr>
          <p:spPr>
            <a:xfrm flipH="1">
              <a:off x="609840" y="1917360"/>
              <a:ext cx="3240" cy="136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Line 247"/>
            <p:cNvSpPr/>
            <p:nvPr/>
          </p:nvSpPr>
          <p:spPr>
            <a:xfrm flipH="1">
              <a:off x="673560" y="1917360"/>
              <a:ext cx="3240" cy="136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Line 247"/>
            <p:cNvSpPr/>
            <p:nvPr/>
          </p:nvSpPr>
          <p:spPr>
            <a:xfrm flipH="1">
              <a:off x="745560" y="1917360"/>
              <a:ext cx="3240" cy="136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Line 247"/>
            <p:cNvSpPr/>
            <p:nvPr/>
          </p:nvSpPr>
          <p:spPr>
            <a:xfrm flipH="1">
              <a:off x="897840" y="1917360"/>
              <a:ext cx="3240" cy="136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Line 247"/>
            <p:cNvSpPr/>
            <p:nvPr/>
          </p:nvSpPr>
          <p:spPr>
            <a:xfrm flipH="1">
              <a:off x="961560" y="1917360"/>
              <a:ext cx="3240" cy="136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Line 247"/>
            <p:cNvSpPr/>
            <p:nvPr/>
          </p:nvSpPr>
          <p:spPr>
            <a:xfrm flipH="1">
              <a:off x="1033560" y="1917360"/>
              <a:ext cx="3240" cy="136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Line 247"/>
            <p:cNvSpPr/>
            <p:nvPr/>
          </p:nvSpPr>
          <p:spPr>
            <a:xfrm flipH="1">
              <a:off x="1186200" y="1917360"/>
              <a:ext cx="3240" cy="136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Line 247"/>
            <p:cNvSpPr/>
            <p:nvPr/>
          </p:nvSpPr>
          <p:spPr>
            <a:xfrm flipH="1">
              <a:off x="1249560" y="1917360"/>
              <a:ext cx="3240" cy="136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Line 247"/>
            <p:cNvSpPr/>
            <p:nvPr/>
          </p:nvSpPr>
          <p:spPr>
            <a:xfrm flipH="1">
              <a:off x="1321920" y="1917360"/>
              <a:ext cx="3240" cy="136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Line 247"/>
            <p:cNvSpPr/>
            <p:nvPr/>
          </p:nvSpPr>
          <p:spPr>
            <a:xfrm flipH="1">
              <a:off x="1474200" y="1917360"/>
              <a:ext cx="3240" cy="136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Line 247"/>
            <p:cNvSpPr/>
            <p:nvPr/>
          </p:nvSpPr>
          <p:spPr>
            <a:xfrm flipH="1">
              <a:off x="1553760" y="1917360"/>
              <a:ext cx="3240" cy="136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Line 247"/>
            <p:cNvSpPr/>
            <p:nvPr/>
          </p:nvSpPr>
          <p:spPr>
            <a:xfrm flipH="1">
              <a:off x="1625760" y="1917360"/>
              <a:ext cx="3240" cy="136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24" name="Rectángulo 1"/>
          <p:cNvSpPr/>
          <p:nvPr/>
        </p:nvSpPr>
        <p:spPr>
          <a:xfrm>
            <a:off x="547560" y="3381480"/>
            <a:ext cx="3664080" cy="133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Rectángulo 304"/>
          <p:cNvSpPr/>
          <p:nvPr/>
        </p:nvSpPr>
        <p:spPr>
          <a:xfrm>
            <a:off x="547560" y="4689360"/>
            <a:ext cx="3664080" cy="197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Rectángulo 305"/>
          <p:cNvSpPr/>
          <p:nvPr/>
        </p:nvSpPr>
        <p:spPr>
          <a:xfrm>
            <a:off x="5156280" y="1449360"/>
            <a:ext cx="3663720" cy="197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Rectángulo 306"/>
          <p:cNvSpPr/>
          <p:nvPr/>
        </p:nvSpPr>
        <p:spPr>
          <a:xfrm>
            <a:off x="4960800" y="3419640"/>
            <a:ext cx="4002120" cy="2906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CuadroTexto 2"/>
          <p:cNvSpPr/>
          <p:nvPr/>
        </p:nvSpPr>
        <p:spPr>
          <a:xfrm>
            <a:off x="393120" y="6372360"/>
            <a:ext cx="240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IF: factor de iniciac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164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169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174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179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2"/>
          <p:cNvSpPr/>
          <p:nvPr/>
        </p:nvSpPr>
        <p:spPr>
          <a:xfrm>
            <a:off x="4044960" y="111240"/>
            <a:ext cx="529272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Traducción de Proteínas. Alargamiento de la cadena peptídic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0" name="Group 310"/>
          <p:cNvGrpSpPr/>
          <p:nvPr/>
        </p:nvGrpSpPr>
        <p:grpSpPr>
          <a:xfrm>
            <a:off x="-181080" y="115920"/>
            <a:ext cx="5689800" cy="6375240"/>
            <a:chOff x="-181080" y="115920"/>
            <a:chExt cx="5689800" cy="6375240"/>
          </a:xfrm>
        </p:grpSpPr>
        <p:grpSp>
          <p:nvGrpSpPr>
            <p:cNvPr id="531" name="Group 54"/>
            <p:cNvGrpSpPr/>
            <p:nvPr/>
          </p:nvGrpSpPr>
          <p:grpSpPr>
            <a:xfrm>
              <a:off x="1380960" y="1080720"/>
              <a:ext cx="4059000" cy="3707280"/>
              <a:chOff x="1380960" y="1080720"/>
              <a:chExt cx="4059000" cy="3707280"/>
            </a:xfrm>
          </p:grpSpPr>
          <p:grpSp>
            <p:nvGrpSpPr>
              <p:cNvPr id="532" name="Group 55"/>
              <p:cNvGrpSpPr/>
              <p:nvPr/>
            </p:nvGrpSpPr>
            <p:grpSpPr>
              <a:xfrm>
                <a:off x="3552840" y="1080720"/>
                <a:ext cx="1666440" cy="1235880"/>
                <a:chOff x="3552840" y="1080720"/>
                <a:chExt cx="1666440" cy="1235880"/>
              </a:xfrm>
            </p:grpSpPr>
            <p:grpSp>
              <p:nvGrpSpPr>
                <p:cNvPr id="533" name="Group 56"/>
                <p:cNvGrpSpPr/>
                <p:nvPr/>
              </p:nvGrpSpPr>
              <p:grpSpPr>
                <a:xfrm>
                  <a:off x="4195440" y="1080720"/>
                  <a:ext cx="1023840" cy="1235880"/>
                  <a:chOff x="4195440" y="1080720"/>
                  <a:chExt cx="1023840" cy="1235880"/>
                </a:xfrm>
              </p:grpSpPr>
              <p:grpSp>
                <p:nvGrpSpPr>
                  <p:cNvPr id="534" name="Group 57"/>
                  <p:cNvGrpSpPr/>
                  <p:nvPr/>
                </p:nvGrpSpPr>
                <p:grpSpPr>
                  <a:xfrm>
                    <a:off x="4195440" y="1288080"/>
                    <a:ext cx="1023840" cy="1028520"/>
                    <a:chOff x="4195440" y="1288080"/>
                    <a:chExt cx="1023840" cy="1028520"/>
                  </a:xfrm>
                </p:grpSpPr>
                <p:grpSp>
                  <p:nvGrpSpPr>
                    <p:cNvPr id="535" name="Group 58"/>
                    <p:cNvGrpSpPr/>
                    <p:nvPr/>
                  </p:nvGrpSpPr>
                  <p:grpSpPr>
                    <a:xfrm>
                      <a:off x="4594320" y="2162160"/>
                      <a:ext cx="303480" cy="154440"/>
                      <a:chOff x="4594320" y="2162160"/>
                      <a:chExt cx="303480" cy="154440"/>
                    </a:xfrm>
                  </p:grpSpPr>
                  <p:sp>
                    <p:nvSpPr>
                      <p:cNvPr id="536" name="Line 59"/>
                      <p:cNvSpPr/>
                      <p:nvPr/>
                    </p:nvSpPr>
                    <p:spPr>
                      <a:xfrm flipH="1">
                        <a:off x="4594320" y="2167200"/>
                        <a:ext cx="9360" cy="145800"/>
                      </a:xfrm>
                      <a:prstGeom prst="line">
                        <a:avLst/>
                      </a:prstGeom>
                      <a:ln w="507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37" name="Line 60"/>
                      <p:cNvSpPr/>
                      <p:nvPr/>
                    </p:nvSpPr>
                    <p:spPr>
                      <a:xfrm flipH="1">
                        <a:off x="4735080" y="2170440"/>
                        <a:ext cx="10080" cy="146160"/>
                      </a:xfrm>
                      <a:prstGeom prst="line">
                        <a:avLst/>
                      </a:prstGeom>
                      <a:ln w="507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38" name="Line 61"/>
                      <p:cNvSpPr/>
                      <p:nvPr/>
                    </p:nvSpPr>
                    <p:spPr>
                      <a:xfrm flipH="1">
                        <a:off x="4888440" y="2162160"/>
                        <a:ext cx="9360" cy="146160"/>
                      </a:xfrm>
                      <a:prstGeom prst="line">
                        <a:avLst/>
                      </a:prstGeom>
                      <a:ln w="507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539" name="Freeform 62"/>
                    <p:cNvSpPr/>
                    <p:nvPr/>
                  </p:nvSpPr>
                  <p:spPr>
                    <a:xfrm rot="3660000">
                      <a:off x="4328640" y="1425600"/>
                      <a:ext cx="757080" cy="750600"/>
                    </a:xfrm>
                    <a:custGeom>
                      <a:avLst/>
                      <a:gdLst>
                        <a:gd name="textAreaLeft" fmla="*/ 0 w 757080"/>
                        <a:gd name="textAreaRight" fmla="*/ 757440 w 757080"/>
                        <a:gd name="textAreaTop" fmla="*/ 0 h 750600"/>
                        <a:gd name="textAreaBottom" fmla="*/ 750960 h 750600"/>
                      </a:gdLst>
                      <a:ahLst/>
                      <a:rect l="textAreaLeft" t="textAreaTop" r="textAreaRight" b="textAreaBottom"/>
                      <a:pathLst>
                        <a:path w="1400" h="1110">
                          <a:moveTo>
                            <a:pt x="140" y="390"/>
                          </a:moveTo>
                          <a:cubicBezTo>
                            <a:pt x="210" y="480"/>
                            <a:pt x="280" y="570"/>
                            <a:pt x="380" y="570"/>
                          </a:cubicBezTo>
                          <a:cubicBezTo>
                            <a:pt x="480" y="570"/>
                            <a:pt x="620" y="420"/>
                            <a:pt x="740" y="390"/>
                          </a:cubicBezTo>
                          <a:cubicBezTo>
                            <a:pt x="860" y="360"/>
                            <a:pt x="1000" y="360"/>
                            <a:pt x="1100" y="390"/>
                          </a:cubicBezTo>
                          <a:cubicBezTo>
                            <a:pt x="1200" y="420"/>
                            <a:pt x="1300" y="480"/>
                            <a:pt x="1340" y="570"/>
                          </a:cubicBezTo>
                          <a:cubicBezTo>
                            <a:pt x="1380" y="660"/>
                            <a:pt x="1400" y="840"/>
                            <a:pt x="1340" y="930"/>
                          </a:cubicBezTo>
                          <a:cubicBezTo>
                            <a:pt x="1280" y="1020"/>
                            <a:pt x="1100" y="1110"/>
                            <a:pt x="980" y="1110"/>
                          </a:cubicBezTo>
                          <a:cubicBezTo>
                            <a:pt x="860" y="1110"/>
                            <a:pt x="700" y="990"/>
                            <a:pt x="620" y="930"/>
                          </a:cubicBezTo>
                          <a:cubicBezTo>
                            <a:pt x="540" y="870"/>
                            <a:pt x="540" y="840"/>
                            <a:pt x="500" y="750"/>
                          </a:cubicBezTo>
                          <a:cubicBezTo>
                            <a:pt x="460" y="660"/>
                            <a:pt x="400" y="480"/>
                            <a:pt x="380" y="390"/>
                          </a:cubicBezTo>
                          <a:cubicBezTo>
                            <a:pt x="360" y="300"/>
                            <a:pt x="400" y="270"/>
                            <a:pt x="380" y="210"/>
                          </a:cubicBezTo>
                          <a:cubicBezTo>
                            <a:pt x="360" y="150"/>
                            <a:pt x="320" y="60"/>
                            <a:pt x="260" y="30"/>
                          </a:cubicBezTo>
                          <a:cubicBezTo>
                            <a:pt x="200" y="0"/>
                            <a:pt x="40" y="30"/>
                            <a:pt x="20" y="30"/>
                          </a:cubicBezTo>
                          <a:cubicBezTo>
                            <a:pt x="0" y="30"/>
                            <a:pt x="70" y="30"/>
                            <a:pt x="140" y="30"/>
                          </a:cubicBezTo>
                        </a:path>
                      </a:pathLst>
                    </a:custGeom>
                    <a:noFill/>
                    <a:ln w="507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40" name="Group 63"/>
                  <p:cNvGrpSpPr/>
                  <p:nvPr/>
                </p:nvGrpSpPr>
                <p:grpSpPr>
                  <a:xfrm>
                    <a:off x="4312080" y="1080720"/>
                    <a:ext cx="536760" cy="490320"/>
                    <a:chOff x="4312080" y="1080720"/>
                    <a:chExt cx="536760" cy="490320"/>
                  </a:xfrm>
                </p:grpSpPr>
                <p:sp>
                  <p:nvSpPr>
                    <p:cNvPr id="541" name="Oval 64"/>
                    <p:cNvSpPr/>
                    <p:nvPr/>
                  </p:nvSpPr>
                  <p:spPr>
                    <a:xfrm rot="1320000">
                      <a:off x="4362120" y="1149480"/>
                      <a:ext cx="436320" cy="352440"/>
                    </a:xfrm>
                    <a:prstGeom prst="ellipse">
                      <a:avLst/>
                    </a:prstGeom>
                    <a:solidFill>
                      <a:srgbClr val="c0c0c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2" name="Text Box 65"/>
                    <p:cNvSpPr/>
                    <p:nvPr/>
                  </p:nvSpPr>
                  <p:spPr>
                    <a:xfrm>
                      <a:off x="4431240" y="1243080"/>
                      <a:ext cx="349200" cy="1746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rm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A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43" name="Text Box 66"/>
                  <p:cNvSpPr/>
                  <p:nvPr/>
                </p:nvSpPr>
                <p:spPr>
                  <a:xfrm>
                    <a:off x="4560840" y="1953360"/>
                    <a:ext cx="304920" cy="112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44" name="Text Box 67"/>
                <p:cNvSpPr/>
                <p:nvPr/>
              </p:nvSpPr>
              <p:spPr>
                <a:xfrm>
                  <a:off x="3552840" y="1379520"/>
                  <a:ext cx="914400" cy="60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Aminoacil-tARN entrante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45" name="Group 68"/>
              <p:cNvGrpSpPr/>
              <p:nvPr/>
            </p:nvGrpSpPr>
            <p:grpSpPr>
              <a:xfrm>
                <a:off x="2453400" y="1650240"/>
                <a:ext cx="2986560" cy="2878560"/>
                <a:chOff x="2453400" y="1650240"/>
                <a:chExt cx="2986560" cy="2878560"/>
              </a:xfrm>
            </p:grpSpPr>
            <p:sp>
              <p:nvSpPr>
                <p:cNvPr id="546" name="AutoShape 69"/>
                <p:cNvSpPr/>
                <p:nvPr/>
              </p:nvSpPr>
              <p:spPr>
                <a:xfrm flipH="1" rot="780000">
                  <a:off x="3030840" y="1866600"/>
                  <a:ext cx="2182680" cy="2259000"/>
                </a:xfrm>
                <a:custGeom>
                  <a:avLst/>
                  <a:gdLst>
                    <a:gd name="textAreaLeft" fmla="*/ 1091160 w 2182680"/>
                    <a:gd name="textAreaRight" fmla="*/ 2182680 w 2182680"/>
                    <a:gd name="textAreaTop" fmla="*/ 0 h 2259000"/>
                    <a:gd name="textAreaBottom" fmla="*/ 1129680 h 2259000"/>
                  </a:gdLst>
                  <a:ahLst/>
                  <a:rect l="textAreaLeft" t="textAreaTop" r="textAreaRight" b="textAreaBottom"/>
                  <a:pathLst>
                    <a:path stroke="0" w="21600" h="21600">
                      <a:moveTo>
                        <a:pt x="10799" y="0"/>
                      </a:moveTo>
                      <a:cubicBezTo>
                        <a:pt x="10799" y="0"/>
                        <a:pt x="10799" y="-1"/>
                        <a:pt x="10800" y="0"/>
                      </a:cubicBezTo>
                      <a:cubicBezTo>
                        <a:pt x="16764" y="0"/>
                        <a:pt x="21600" y="4835"/>
                        <a:pt x="21600" y="10800"/>
                      </a:cubicBezTo>
                      <a:lnTo>
                        <a:pt x="10800" y="10800"/>
                      </a:lnTo>
                      <a:lnTo>
                        <a:pt x="10799" y="0"/>
                      </a:lnTo>
                      <a:close/>
                    </a:path>
                    <a:path fill="none" w="21600" h="21600">
                      <a:moveTo>
                        <a:pt x="10799" y="0"/>
                      </a:moveTo>
                      <a:cubicBezTo>
                        <a:pt x="10799" y="0"/>
                        <a:pt x="10799" y="-1"/>
                        <a:pt x="10800" y="0"/>
                      </a:cubicBezTo>
                      <a:cubicBezTo>
                        <a:pt x="16764" y="0"/>
                        <a:pt x="21600" y="4835"/>
                        <a:pt x="21600" y="10800"/>
                      </a:cubicBezTo>
                    </a:path>
                  </a:pathLst>
                </a:custGeom>
                <a:noFill/>
                <a:ln w="158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7" name="AutoShape 70"/>
                <p:cNvSpPr/>
                <p:nvPr/>
              </p:nvSpPr>
              <p:spPr>
                <a:xfrm flipH="1" rot="2760000">
                  <a:off x="2830680" y="2172960"/>
                  <a:ext cx="2037600" cy="1915200"/>
                </a:xfrm>
                <a:custGeom>
                  <a:avLst/>
                  <a:gdLst>
                    <a:gd name="textAreaLeft" fmla="*/ 1018080 w 2037600"/>
                    <a:gd name="textAreaRight" fmla="*/ 1981080 w 2037600"/>
                    <a:gd name="textAreaTop" fmla="*/ 18360 h 1915200"/>
                    <a:gd name="textAreaBottom" fmla="*/ 956520 h 1915200"/>
                  </a:gdLst>
                  <a:ahLst/>
                  <a:rect l="textAreaLeft" t="textAreaTop" r="textAreaRight" b="textAreaBottom"/>
                  <a:pathLst>
                    <a:path stroke="0" w="21600" h="21600">
                      <a:moveTo>
                        <a:pt x="12767" y="180"/>
                      </a:moveTo>
                      <a:cubicBezTo>
                        <a:pt x="16586" y="888"/>
                        <a:pt x="19730" y="3591"/>
                        <a:pt x="21003" y="7260"/>
                      </a:cubicBezTo>
                      <a:lnTo>
                        <a:pt x="10800" y="10800"/>
                      </a:lnTo>
                      <a:lnTo>
                        <a:pt x="12767" y="180"/>
                      </a:lnTo>
                      <a:close/>
                    </a:path>
                    <a:path fill="none" w="21600" h="21600">
                      <a:moveTo>
                        <a:pt x="12767" y="180"/>
                      </a:moveTo>
                      <a:cubicBezTo>
                        <a:pt x="16586" y="888"/>
                        <a:pt x="19730" y="3591"/>
                        <a:pt x="21003" y="7260"/>
                      </a:cubicBezTo>
                    </a:path>
                  </a:pathLst>
                </a:custGeom>
                <a:noFill/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48" name="Group 73"/>
              <p:cNvGrpSpPr/>
              <p:nvPr/>
            </p:nvGrpSpPr>
            <p:grpSpPr>
              <a:xfrm>
                <a:off x="4402080" y="2568600"/>
                <a:ext cx="671040" cy="425160"/>
                <a:chOff x="4402080" y="2568600"/>
                <a:chExt cx="671040" cy="425160"/>
              </a:xfrm>
            </p:grpSpPr>
            <p:sp>
              <p:nvSpPr>
                <p:cNvPr id="549" name="Oval 74"/>
                <p:cNvSpPr/>
                <p:nvPr/>
              </p:nvSpPr>
              <p:spPr>
                <a:xfrm>
                  <a:off x="4402080" y="2568600"/>
                  <a:ext cx="336960" cy="3366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0" name="Text Box 75"/>
                <p:cNvSpPr/>
                <p:nvPr/>
              </p:nvSpPr>
              <p:spPr>
                <a:xfrm>
                  <a:off x="4451040" y="2689920"/>
                  <a:ext cx="303840" cy="30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EF</a:t>
                  </a:r>
                  <a:endParaRPr b="0" lang="en-US" sz="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1" name="Text Box 76"/>
                <p:cNvSpPr/>
                <p:nvPr/>
              </p:nvSpPr>
              <p:spPr>
                <a:xfrm>
                  <a:off x="4769280" y="2652480"/>
                  <a:ext cx="303840" cy="15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Arial"/>
                    </a:rPr>
                    <a:t>GTP</a:t>
                  </a:r>
                  <a:endParaRPr b="0" lang="en-US" sz="9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52" name="Group 98"/>
              <p:cNvGrpSpPr/>
              <p:nvPr/>
            </p:nvGrpSpPr>
            <p:grpSpPr>
              <a:xfrm>
                <a:off x="1380960" y="2272680"/>
                <a:ext cx="3471840" cy="2515320"/>
                <a:chOff x="1380960" y="2272680"/>
                <a:chExt cx="3471840" cy="2515320"/>
              </a:xfrm>
            </p:grpSpPr>
            <p:sp>
              <p:nvSpPr>
                <p:cNvPr id="553" name="Text Box 99"/>
                <p:cNvSpPr/>
                <p:nvPr/>
              </p:nvSpPr>
              <p:spPr>
                <a:xfrm>
                  <a:off x="1380960" y="3338640"/>
                  <a:ext cx="1257480" cy="8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Unión del Aminoacil-tARN entrante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554" name="Group 100"/>
                <p:cNvGrpSpPr/>
                <p:nvPr/>
              </p:nvGrpSpPr>
              <p:grpSpPr>
                <a:xfrm>
                  <a:off x="3247920" y="4241880"/>
                  <a:ext cx="684000" cy="426600"/>
                  <a:chOff x="3247920" y="4241880"/>
                  <a:chExt cx="684000" cy="426600"/>
                </a:xfrm>
              </p:grpSpPr>
              <p:grpSp>
                <p:nvGrpSpPr>
                  <p:cNvPr id="555" name="Group 101"/>
                  <p:cNvGrpSpPr/>
                  <p:nvPr/>
                </p:nvGrpSpPr>
                <p:grpSpPr>
                  <a:xfrm>
                    <a:off x="3247920" y="4241880"/>
                    <a:ext cx="351000" cy="426600"/>
                    <a:chOff x="3247920" y="4241880"/>
                    <a:chExt cx="351000" cy="426600"/>
                  </a:xfrm>
                </p:grpSpPr>
                <p:sp>
                  <p:nvSpPr>
                    <p:cNvPr id="556" name="Oval 102"/>
                    <p:cNvSpPr/>
                    <p:nvPr/>
                  </p:nvSpPr>
                  <p:spPr>
                    <a:xfrm>
                      <a:off x="3247920" y="4241880"/>
                      <a:ext cx="335520" cy="33660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7" name="Text Box 103"/>
                    <p:cNvSpPr/>
                    <p:nvPr/>
                  </p:nvSpPr>
                  <p:spPr>
                    <a:xfrm>
                      <a:off x="3296520" y="4365000"/>
                      <a:ext cx="302400" cy="3034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rm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F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58" name="Text Box 104"/>
                  <p:cNvSpPr/>
                  <p:nvPr/>
                </p:nvSpPr>
                <p:spPr>
                  <a:xfrm>
                    <a:off x="3628080" y="4327560"/>
                    <a:ext cx="303840" cy="152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rm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  <a:tab algn="l" pos="10515600"/>
                      </a:tabLst>
                    </a:pPr>
                    <a:r>
                      <a:rPr b="1" lang="en-US" sz="900" spc="-1" strike="noStrike">
                        <a:solidFill>
                          <a:srgbClr val="000000"/>
                        </a:solidFill>
                        <a:latin typeface="Arial"/>
                      </a:rPr>
                      <a:t>GDP</a:t>
                    </a:r>
                    <a:endParaRPr b="0" lang="en-US" sz="9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59" name="Line 105"/>
                <p:cNvSpPr/>
                <p:nvPr/>
              </p:nvSpPr>
              <p:spPr>
                <a:xfrm>
                  <a:off x="2867040" y="2424240"/>
                  <a:ext cx="1440" cy="21603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560" name="Group 106"/>
                <p:cNvGrpSpPr/>
                <p:nvPr/>
              </p:nvGrpSpPr>
              <p:grpSpPr>
                <a:xfrm>
                  <a:off x="2671560" y="2395080"/>
                  <a:ext cx="1169640" cy="1236240"/>
                  <a:chOff x="2671560" y="2395080"/>
                  <a:chExt cx="1169640" cy="1236240"/>
                </a:xfrm>
              </p:grpSpPr>
              <p:grpSp>
                <p:nvGrpSpPr>
                  <p:cNvPr id="561" name="Group 107"/>
                  <p:cNvGrpSpPr/>
                  <p:nvPr/>
                </p:nvGrpSpPr>
                <p:grpSpPr>
                  <a:xfrm>
                    <a:off x="3171240" y="2854440"/>
                    <a:ext cx="669960" cy="426600"/>
                    <a:chOff x="3171240" y="2854440"/>
                    <a:chExt cx="669960" cy="426600"/>
                  </a:xfrm>
                </p:grpSpPr>
                <p:sp>
                  <p:nvSpPr>
                    <p:cNvPr id="562" name="Oval 108"/>
                    <p:cNvSpPr/>
                    <p:nvPr/>
                  </p:nvSpPr>
                  <p:spPr>
                    <a:xfrm>
                      <a:off x="3171240" y="2854440"/>
                      <a:ext cx="336600" cy="33660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3" name="Text Box 109"/>
                    <p:cNvSpPr/>
                    <p:nvPr/>
                  </p:nvSpPr>
                  <p:spPr>
                    <a:xfrm>
                      <a:off x="3219840" y="2977560"/>
                      <a:ext cx="303480" cy="3034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rm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F-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4" name="Text Box 110"/>
                    <p:cNvSpPr/>
                    <p:nvPr/>
                  </p:nvSpPr>
                  <p:spPr>
                    <a:xfrm>
                      <a:off x="3538080" y="2939760"/>
                      <a:ext cx="303120" cy="1515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rm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TP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65" name="Group 111"/>
                  <p:cNvGrpSpPr/>
                  <p:nvPr/>
                </p:nvGrpSpPr>
                <p:grpSpPr>
                  <a:xfrm>
                    <a:off x="2671560" y="2395080"/>
                    <a:ext cx="1022760" cy="1236240"/>
                    <a:chOff x="2671560" y="2395080"/>
                    <a:chExt cx="1022760" cy="1236240"/>
                  </a:xfrm>
                </p:grpSpPr>
                <p:grpSp>
                  <p:nvGrpSpPr>
                    <p:cNvPr id="566" name="Group 112"/>
                    <p:cNvGrpSpPr/>
                    <p:nvPr/>
                  </p:nvGrpSpPr>
                  <p:grpSpPr>
                    <a:xfrm>
                      <a:off x="2671560" y="2604240"/>
                      <a:ext cx="1022760" cy="1027080"/>
                      <a:chOff x="2671560" y="2604240"/>
                      <a:chExt cx="1022760" cy="1027080"/>
                    </a:xfrm>
                  </p:grpSpPr>
                  <p:grpSp>
                    <p:nvGrpSpPr>
                      <p:cNvPr id="567" name="Group 113"/>
                      <p:cNvGrpSpPr/>
                      <p:nvPr/>
                    </p:nvGrpSpPr>
                    <p:grpSpPr>
                      <a:xfrm>
                        <a:off x="3069720" y="3477240"/>
                        <a:ext cx="303840" cy="154080"/>
                        <a:chOff x="3069720" y="3477240"/>
                        <a:chExt cx="303840" cy="154080"/>
                      </a:xfrm>
                    </p:grpSpPr>
                    <p:sp>
                      <p:nvSpPr>
                        <p:cNvPr id="568" name="Line 114"/>
                        <p:cNvSpPr/>
                        <p:nvPr/>
                      </p:nvSpPr>
                      <p:spPr>
                        <a:xfrm flipH="1">
                          <a:off x="3069720" y="3481920"/>
                          <a:ext cx="9720" cy="145800"/>
                        </a:xfrm>
                        <a:prstGeom prst="line">
                          <a:avLst/>
                        </a:prstGeom>
                        <a:ln w="507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69" name="Line 115"/>
                        <p:cNvSpPr/>
                        <p:nvPr/>
                      </p:nvSpPr>
                      <p:spPr>
                        <a:xfrm flipH="1">
                          <a:off x="3209760" y="3485520"/>
                          <a:ext cx="9360" cy="145800"/>
                        </a:xfrm>
                        <a:prstGeom prst="line">
                          <a:avLst/>
                        </a:prstGeom>
                        <a:ln w="507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70" name="Line 116"/>
                        <p:cNvSpPr/>
                        <p:nvPr/>
                      </p:nvSpPr>
                      <p:spPr>
                        <a:xfrm flipH="1">
                          <a:off x="3364200" y="3477240"/>
                          <a:ext cx="9360" cy="145800"/>
                        </a:xfrm>
                        <a:prstGeom prst="line">
                          <a:avLst/>
                        </a:prstGeom>
                        <a:ln w="507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571" name="Freeform 117"/>
                      <p:cNvSpPr/>
                      <p:nvPr/>
                    </p:nvSpPr>
                    <p:spPr>
                      <a:xfrm rot="3660000">
                        <a:off x="2804040" y="2742120"/>
                        <a:ext cx="757440" cy="749520"/>
                      </a:xfrm>
                      <a:custGeom>
                        <a:avLst/>
                        <a:gdLst>
                          <a:gd name="textAreaLeft" fmla="*/ 0 w 757440"/>
                          <a:gd name="textAreaRight" fmla="*/ 757800 w 757440"/>
                          <a:gd name="textAreaTop" fmla="*/ 0 h 749520"/>
                          <a:gd name="textAreaBottom" fmla="*/ 749880 h 749520"/>
                        </a:gdLst>
                        <a:ahLst/>
                        <a:rect l="textAreaLeft" t="textAreaTop" r="textAreaRight" b="textAreaBottom"/>
                        <a:pathLst>
                          <a:path w="1400" h="1110">
                            <a:moveTo>
                              <a:pt x="140" y="390"/>
                            </a:moveTo>
                            <a:cubicBezTo>
                              <a:pt x="210" y="480"/>
                              <a:pt x="280" y="570"/>
                              <a:pt x="380" y="570"/>
                            </a:cubicBezTo>
                            <a:cubicBezTo>
                              <a:pt x="480" y="570"/>
                              <a:pt x="620" y="420"/>
                              <a:pt x="740" y="390"/>
                            </a:cubicBezTo>
                            <a:cubicBezTo>
                              <a:pt x="860" y="360"/>
                              <a:pt x="1000" y="360"/>
                              <a:pt x="1100" y="390"/>
                            </a:cubicBezTo>
                            <a:cubicBezTo>
                              <a:pt x="1200" y="420"/>
                              <a:pt x="1300" y="480"/>
                              <a:pt x="1340" y="570"/>
                            </a:cubicBezTo>
                            <a:cubicBezTo>
                              <a:pt x="1380" y="660"/>
                              <a:pt x="1400" y="840"/>
                              <a:pt x="1340" y="930"/>
                            </a:cubicBezTo>
                            <a:cubicBezTo>
                              <a:pt x="1280" y="1020"/>
                              <a:pt x="1100" y="1110"/>
                              <a:pt x="980" y="1110"/>
                            </a:cubicBezTo>
                            <a:cubicBezTo>
                              <a:pt x="860" y="1110"/>
                              <a:pt x="700" y="990"/>
                              <a:pt x="620" y="930"/>
                            </a:cubicBezTo>
                            <a:cubicBezTo>
                              <a:pt x="540" y="870"/>
                              <a:pt x="540" y="840"/>
                              <a:pt x="500" y="750"/>
                            </a:cubicBezTo>
                            <a:cubicBezTo>
                              <a:pt x="460" y="660"/>
                              <a:pt x="400" y="480"/>
                              <a:pt x="380" y="390"/>
                            </a:cubicBezTo>
                            <a:cubicBezTo>
                              <a:pt x="360" y="300"/>
                              <a:pt x="400" y="270"/>
                              <a:pt x="380" y="210"/>
                            </a:cubicBezTo>
                            <a:cubicBezTo>
                              <a:pt x="360" y="150"/>
                              <a:pt x="320" y="60"/>
                              <a:pt x="260" y="30"/>
                            </a:cubicBezTo>
                            <a:cubicBezTo>
                              <a:pt x="200" y="0"/>
                              <a:pt x="40" y="30"/>
                              <a:pt x="20" y="30"/>
                            </a:cubicBezTo>
                            <a:cubicBezTo>
                              <a:pt x="0" y="30"/>
                              <a:pt x="70" y="30"/>
                              <a:pt x="140" y="30"/>
                            </a:cubicBezTo>
                          </a:path>
                        </a:pathLst>
                      </a:custGeom>
                      <a:noFill/>
                      <a:ln w="507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572" name="Group 118"/>
                    <p:cNvGrpSpPr/>
                    <p:nvPr/>
                  </p:nvGrpSpPr>
                  <p:grpSpPr>
                    <a:xfrm>
                      <a:off x="2789640" y="2395080"/>
                      <a:ext cx="535680" cy="489600"/>
                      <a:chOff x="2789640" y="2395080"/>
                      <a:chExt cx="535680" cy="489600"/>
                    </a:xfrm>
                  </p:grpSpPr>
                  <p:sp>
                    <p:nvSpPr>
                      <p:cNvPr id="573" name="Oval 119"/>
                      <p:cNvSpPr/>
                      <p:nvPr/>
                    </p:nvSpPr>
                    <p:spPr>
                      <a:xfrm rot="1320000">
                        <a:off x="2839320" y="2463840"/>
                        <a:ext cx="435600" cy="352080"/>
                      </a:xfrm>
                      <a:prstGeom prst="ellipse">
                        <a:avLst/>
                      </a:prstGeom>
                      <a:solidFill>
                        <a:srgbClr val="c0c0c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74" name="Text Box 120"/>
                      <p:cNvSpPr/>
                      <p:nvPr/>
                    </p:nvSpPr>
                    <p:spPr>
                      <a:xfrm>
                        <a:off x="2908440" y="2557440"/>
                        <a:ext cx="348840" cy="1746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0" anchor="t">
                        <a:norm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  <a:tab algn="l" pos="10515600"/>
                          </a:tabLst>
                        </a:pPr>
                        <a:r>
                          <a:rPr b="1" lang="en-US" sz="9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AA2</a:t>
                        </a:r>
                        <a:endParaRPr b="0" lang="en-US" sz="9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575" name="Text Box 121"/>
                    <p:cNvSpPr/>
                    <p:nvPr/>
                  </p:nvSpPr>
                  <p:spPr>
                    <a:xfrm>
                      <a:off x="3036600" y="3268800"/>
                      <a:ext cx="303840" cy="1126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576" name="AutoShape 122"/>
                <p:cNvSpPr/>
                <p:nvPr/>
              </p:nvSpPr>
              <p:spPr>
                <a:xfrm rot="11760000">
                  <a:off x="2886120" y="2466720"/>
                  <a:ext cx="1706400" cy="2127240"/>
                </a:xfrm>
                <a:custGeom>
                  <a:avLst/>
                  <a:gdLst>
                    <a:gd name="textAreaLeft" fmla="*/ 852480 w 1706400"/>
                    <a:gd name="textAreaRight" fmla="*/ 1706760 w 1706400"/>
                    <a:gd name="textAreaTop" fmla="*/ 101520 h 2127240"/>
                    <a:gd name="textAreaBottom" fmla="*/ 1141560 h 2127240"/>
                  </a:gdLst>
                  <a:ahLst/>
                  <a:rect l="textAreaLeft" t="textAreaTop" r="textAreaRight" b="textAreaBottom"/>
                  <a:pathLst>
                    <a:path stroke="0" w="21600" h="21600">
                      <a:moveTo>
                        <a:pt x="15219" y="945"/>
                      </a:moveTo>
                      <a:cubicBezTo>
                        <a:pt x="19101" y="2686"/>
                        <a:pt x="21600" y="6545"/>
                        <a:pt x="21600" y="10800"/>
                      </a:cubicBezTo>
                      <a:cubicBezTo>
                        <a:pt x="21600" y="11076"/>
                        <a:pt x="21589" y="11353"/>
                        <a:pt x="21568" y="11630"/>
                      </a:cubicBezTo>
                      <a:lnTo>
                        <a:pt x="10800" y="10800"/>
                      </a:lnTo>
                      <a:lnTo>
                        <a:pt x="15219" y="945"/>
                      </a:lnTo>
                      <a:close/>
                    </a:path>
                    <a:path fill="none" w="21600" h="21600">
                      <a:moveTo>
                        <a:pt x="15219" y="945"/>
                      </a:moveTo>
                      <a:cubicBezTo>
                        <a:pt x="19101" y="2686"/>
                        <a:pt x="21600" y="6545"/>
                        <a:pt x="21600" y="10800"/>
                      </a:cubicBezTo>
                      <a:cubicBezTo>
                        <a:pt x="21600" y="11076"/>
                        <a:pt x="21589" y="11353"/>
                        <a:pt x="21568" y="11630"/>
                      </a:cubicBezTo>
                    </a:path>
                  </a:pathLst>
                </a:custGeom>
                <a:noFill/>
                <a:ln w="15840">
                  <a:solidFill>
                    <a:srgbClr val="000000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7" name="AutoShape 123"/>
                <p:cNvSpPr/>
                <p:nvPr/>
              </p:nvSpPr>
              <p:spPr>
                <a:xfrm flipH="1" flipV="1" rot="12300000">
                  <a:off x="2178000" y="3320640"/>
                  <a:ext cx="633600" cy="1204560"/>
                </a:xfrm>
                <a:custGeom>
                  <a:avLst/>
                  <a:gdLst>
                    <a:gd name="textAreaLeft" fmla="*/ 316440 w 633600"/>
                    <a:gd name="textAreaRight" fmla="*/ 634320 w 633600"/>
                    <a:gd name="textAreaTop" fmla="*/ 155880 h 1204560"/>
                    <a:gd name="textAreaBottom" fmla="*/ 906480 h 1204560"/>
                  </a:gdLst>
                  <a:ahLst/>
                  <a:rect l="textAreaLeft" t="textAreaTop" r="textAreaRight" b="textAreaBottom"/>
                  <a:pathLst>
                    <a:path stroke="0" w="21600" h="21600">
                      <a:moveTo>
                        <a:pt x="17924" y="2682"/>
                      </a:moveTo>
                      <a:cubicBezTo>
                        <a:pt x="20260" y="4733"/>
                        <a:pt x="21600" y="7691"/>
                        <a:pt x="21600" y="10800"/>
                      </a:cubicBezTo>
                      <a:cubicBezTo>
                        <a:pt x="21600" y="12754"/>
                        <a:pt x="21069" y="14672"/>
                        <a:pt x="20065" y="16349"/>
                      </a:cubicBezTo>
                      <a:lnTo>
                        <a:pt x="10800" y="10800"/>
                      </a:lnTo>
                      <a:lnTo>
                        <a:pt x="17924" y="2682"/>
                      </a:lnTo>
                      <a:close/>
                    </a:path>
                    <a:path fill="none" w="21600" h="21600">
                      <a:moveTo>
                        <a:pt x="17924" y="2682"/>
                      </a:moveTo>
                      <a:cubicBezTo>
                        <a:pt x="20260" y="4733"/>
                        <a:pt x="21600" y="7691"/>
                        <a:pt x="21600" y="10800"/>
                      </a:cubicBezTo>
                      <a:cubicBezTo>
                        <a:pt x="21600" y="12754"/>
                        <a:pt x="21069" y="14672"/>
                        <a:pt x="20065" y="16349"/>
                      </a:cubicBezTo>
                    </a:path>
                  </a:pathLst>
                </a:custGeom>
                <a:noFill/>
                <a:ln w="158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8" name="Text Box 124"/>
                <p:cNvSpPr/>
                <p:nvPr/>
              </p:nvSpPr>
              <p:spPr>
                <a:xfrm>
                  <a:off x="2409840" y="4356000"/>
                  <a:ext cx="304920" cy="114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rmAutofit fontScale="83000"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Arial"/>
                    </a:rPr>
                    <a:t>Pi</a:t>
                  </a:r>
                  <a:endParaRPr b="0" lang="en-US" sz="9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79" name="Group 125"/>
            <p:cNvGrpSpPr/>
            <p:nvPr/>
          </p:nvGrpSpPr>
          <p:grpSpPr>
            <a:xfrm>
              <a:off x="1647720" y="4566600"/>
              <a:ext cx="2512800" cy="1924560"/>
              <a:chOff x="1647720" y="4566600"/>
              <a:chExt cx="2512800" cy="1924560"/>
            </a:xfrm>
          </p:grpSpPr>
          <p:sp>
            <p:nvSpPr>
              <p:cNvPr id="580" name="Text Box 126"/>
              <p:cNvSpPr/>
              <p:nvPr/>
            </p:nvSpPr>
            <p:spPr>
              <a:xfrm>
                <a:off x="3856320" y="5880600"/>
                <a:ext cx="304200" cy="11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rmAutofit fontScale="85000"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3’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Oval 127"/>
              <p:cNvSpPr/>
              <p:nvPr/>
            </p:nvSpPr>
            <p:spPr>
              <a:xfrm>
                <a:off x="2257200" y="5203080"/>
                <a:ext cx="1370520" cy="9136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100000">
                    <a:srgbClr val="ffffff">
                      <a:alpha val="47058"/>
                    </a:srgbClr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Oval 128"/>
              <p:cNvSpPr/>
              <p:nvPr/>
            </p:nvSpPr>
            <p:spPr>
              <a:xfrm rot="21420000">
                <a:off x="2255400" y="6002280"/>
                <a:ext cx="1370520" cy="4532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83" name="Group 129"/>
              <p:cNvGrpSpPr/>
              <p:nvPr/>
            </p:nvGrpSpPr>
            <p:grpSpPr>
              <a:xfrm>
                <a:off x="3094560" y="5317200"/>
                <a:ext cx="302760" cy="1019160"/>
                <a:chOff x="3094560" y="5317200"/>
                <a:chExt cx="302760" cy="1019160"/>
              </a:xfrm>
            </p:grpSpPr>
            <p:sp>
              <p:nvSpPr>
                <p:cNvPr id="584" name="AutoShape 130"/>
                <p:cNvSpPr/>
                <p:nvPr/>
              </p:nvSpPr>
              <p:spPr>
                <a:xfrm>
                  <a:off x="3094560" y="5317200"/>
                  <a:ext cx="302760" cy="1019160"/>
                </a:xfrm>
                <a:custGeom>
                  <a:avLst/>
                  <a:gdLst>
                    <a:gd name="textAreaLeft" fmla="*/ 14760 w 302760"/>
                    <a:gd name="textAreaRight" fmla="*/ 288000 w 302760"/>
                    <a:gd name="textAreaTop" fmla="*/ 14760 h 1019160"/>
                    <a:gd name="textAreaBottom" fmla="*/ 1004400 h 1019160"/>
                  </a:gdLst>
                  <a:ahLst/>
                  <a:rect l="textAreaLeft" t="textAreaTop" r="textAreaRight" b="textAreaBottom"/>
                  <a:pathLst>
                    <a:path w="21600" h="72650">
                      <a:moveTo>
                        <a:pt x="3600" y="0"/>
                      </a:moveTo>
                      <a:arcTo wR="3600" hR="3600" stAng="16200000" swAng="-5400000"/>
                      <a:lnTo>
                        <a:pt x="0" y="69050"/>
                      </a:lnTo>
                      <a:arcTo wR="3600" hR="3600" stAng="10800000" swAng="-5400000"/>
                      <a:lnTo>
                        <a:pt x="18000" y="72650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5" name="Text Box 131"/>
                <p:cNvSpPr/>
                <p:nvPr/>
              </p:nvSpPr>
              <p:spPr>
                <a:xfrm>
                  <a:off x="3094560" y="6121440"/>
                  <a:ext cx="272520" cy="14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rmAutofit fontScale="78000"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A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6" name="Text Box 132"/>
              <p:cNvSpPr/>
              <p:nvPr/>
            </p:nvSpPr>
            <p:spPr>
              <a:xfrm>
                <a:off x="1647720" y="5931720"/>
                <a:ext cx="304560" cy="118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rmAutofit fontScale="87000"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5’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87" name="Group 133"/>
              <p:cNvGrpSpPr/>
              <p:nvPr/>
            </p:nvGrpSpPr>
            <p:grpSpPr>
              <a:xfrm>
                <a:off x="2621880" y="5317200"/>
                <a:ext cx="455040" cy="1053000"/>
                <a:chOff x="2621880" y="5317200"/>
                <a:chExt cx="455040" cy="1053000"/>
              </a:xfrm>
            </p:grpSpPr>
            <p:sp>
              <p:nvSpPr>
                <p:cNvPr id="588" name="AutoShape 134"/>
                <p:cNvSpPr/>
                <p:nvPr/>
              </p:nvSpPr>
              <p:spPr>
                <a:xfrm>
                  <a:off x="2637360" y="5317200"/>
                  <a:ext cx="379080" cy="1053000"/>
                </a:xfrm>
                <a:custGeom>
                  <a:avLst/>
                  <a:gdLst>
                    <a:gd name="textAreaLeft" fmla="*/ 18360 w 379080"/>
                    <a:gd name="textAreaRight" fmla="*/ 360720 w 379080"/>
                    <a:gd name="textAreaTop" fmla="*/ 18360 h 1053000"/>
                    <a:gd name="textAreaBottom" fmla="*/ 1034640 h 1053000"/>
                  </a:gdLst>
                  <a:ahLst/>
                  <a:rect l="textAreaLeft" t="textAreaTop" r="textAreaRight" b="textAreaBottom"/>
                  <a:pathLst>
                    <a:path w="21600" h="59964">
                      <a:moveTo>
                        <a:pt x="3600" y="0"/>
                      </a:moveTo>
                      <a:arcTo wR="3600" hR="3600" stAng="16200000" swAng="-5400000"/>
                      <a:lnTo>
                        <a:pt x="0" y="56364"/>
                      </a:lnTo>
                      <a:arcTo wR="3600" hR="3600" stAng="10800000" swAng="-5400000"/>
                      <a:lnTo>
                        <a:pt x="18000" y="59964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9" name="Text Box 135"/>
                <p:cNvSpPr/>
                <p:nvPr/>
              </p:nvSpPr>
              <p:spPr>
                <a:xfrm>
                  <a:off x="2675520" y="6175800"/>
                  <a:ext cx="340920" cy="173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rmAutofit fontScale="95000"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P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0" name="Text Box 136"/>
                <p:cNvSpPr/>
                <p:nvPr/>
              </p:nvSpPr>
              <p:spPr>
                <a:xfrm>
                  <a:off x="2621880" y="6044400"/>
                  <a:ext cx="455040" cy="11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rmAutofit fontScale="62000"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AUG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91" name="Group 137"/>
              <p:cNvGrpSpPr/>
              <p:nvPr/>
            </p:nvGrpSpPr>
            <p:grpSpPr>
              <a:xfrm>
                <a:off x="1875960" y="5856120"/>
                <a:ext cx="2054520" cy="152280"/>
                <a:chOff x="1875960" y="5856120"/>
                <a:chExt cx="2054520" cy="152280"/>
              </a:xfrm>
            </p:grpSpPr>
            <p:grpSp>
              <p:nvGrpSpPr>
                <p:cNvPr id="592" name="Group 138"/>
                <p:cNvGrpSpPr/>
                <p:nvPr/>
              </p:nvGrpSpPr>
              <p:grpSpPr>
                <a:xfrm>
                  <a:off x="1971000" y="5857560"/>
                  <a:ext cx="188280" cy="142560"/>
                  <a:chOff x="1971000" y="5857560"/>
                  <a:chExt cx="188280" cy="142560"/>
                </a:xfrm>
              </p:grpSpPr>
              <p:sp>
                <p:nvSpPr>
                  <p:cNvPr id="593" name="Line 139"/>
                  <p:cNvSpPr/>
                  <p:nvPr/>
                </p:nvSpPr>
                <p:spPr>
                  <a:xfrm flipH="1">
                    <a:off x="1971000" y="5865120"/>
                    <a:ext cx="4320" cy="13356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4" name="Line 140"/>
                  <p:cNvSpPr/>
                  <p:nvPr/>
                </p:nvSpPr>
                <p:spPr>
                  <a:xfrm>
                    <a:off x="2063160" y="5866560"/>
                    <a:ext cx="1080" cy="13356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5" name="Line 141"/>
                  <p:cNvSpPr/>
                  <p:nvPr/>
                </p:nvSpPr>
                <p:spPr>
                  <a:xfrm>
                    <a:off x="2158200" y="5857560"/>
                    <a:ext cx="1080" cy="13356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96" name="Group 142"/>
                <p:cNvGrpSpPr/>
                <p:nvPr/>
              </p:nvGrpSpPr>
              <p:grpSpPr>
                <a:xfrm>
                  <a:off x="2351520" y="5856120"/>
                  <a:ext cx="188280" cy="144360"/>
                  <a:chOff x="2351520" y="5856120"/>
                  <a:chExt cx="188280" cy="144360"/>
                </a:xfrm>
              </p:grpSpPr>
              <p:sp>
                <p:nvSpPr>
                  <p:cNvPr id="597" name="Line 143"/>
                  <p:cNvSpPr/>
                  <p:nvPr/>
                </p:nvSpPr>
                <p:spPr>
                  <a:xfrm>
                    <a:off x="2351520" y="5866920"/>
                    <a:ext cx="1440" cy="13356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8" name="Line 144"/>
                  <p:cNvSpPr/>
                  <p:nvPr/>
                </p:nvSpPr>
                <p:spPr>
                  <a:xfrm>
                    <a:off x="2441160" y="5866920"/>
                    <a:ext cx="1080" cy="13356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9" name="Line 145"/>
                  <p:cNvSpPr/>
                  <p:nvPr/>
                </p:nvSpPr>
                <p:spPr>
                  <a:xfrm>
                    <a:off x="2538720" y="5856120"/>
                    <a:ext cx="1080" cy="13392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0" name="Group 146"/>
                <p:cNvGrpSpPr/>
                <p:nvPr/>
              </p:nvGrpSpPr>
              <p:grpSpPr>
                <a:xfrm>
                  <a:off x="2730240" y="5857560"/>
                  <a:ext cx="188280" cy="142560"/>
                  <a:chOff x="2730240" y="5857560"/>
                  <a:chExt cx="188280" cy="142560"/>
                </a:xfrm>
              </p:grpSpPr>
              <p:sp>
                <p:nvSpPr>
                  <p:cNvPr id="601" name="Line 147"/>
                  <p:cNvSpPr/>
                  <p:nvPr/>
                </p:nvSpPr>
                <p:spPr>
                  <a:xfrm flipH="1">
                    <a:off x="2730240" y="5865120"/>
                    <a:ext cx="4320" cy="13356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2" name="Line 148"/>
                  <p:cNvSpPr/>
                  <p:nvPr/>
                </p:nvSpPr>
                <p:spPr>
                  <a:xfrm>
                    <a:off x="2820600" y="5866560"/>
                    <a:ext cx="1080" cy="13356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3" name="Line 149"/>
                  <p:cNvSpPr/>
                  <p:nvPr/>
                </p:nvSpPr>
                <p:spPr>
                  <a:xfrm flipH="1">
                    <a:off x="2914200" y="5857560"/>
                    <a:ext cx="4320" cy="13356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4" name="Group 150"/>
                <p:cNvGrpSpPr/>
                <p:nvPr/>
              </p:nvGrpSpPr>
              <p:grpSpPr>
                <a:xfrm>
                  <a:off x="3110400" y="5859000"/>
                  <a:ext cx="191880" cy="141120"/>
                  <a:chOff x="3110400" y="5859000"/>
                  <a:chExt cx="191880" cy="141120"/>
                </a:xfrm>
              </p:grpSpPr>
              <p:sp>
                <p:nvSpPr>
                  <p:cNvPr id="605" name="Line 151"/>
                  <p:cNvSpPr/>
                  <p:nvPr/>
                </p:nvSpPr>
                <p:spPr>
                  <a:xfrm flipH="1">
                    <a:off x="3110400" y="5863320"/>
                    <a:ext cx="6120" cy="13392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6" name="Line 152"/>
                  <p:cNvSpPr/>
                  <p:nvPr/>
                </p:nvSpPr>
                <p:spPr>
                  <a:xfrm flipH="1">
                    <a:off x="3198960" y="5866560"/>
                    <a:ext cx="6120" cy="13356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7" name="Line 153"/>
                  <p:cNvSpPr/>
                  <p:nvPr/>
                </p:nvSpPr>
                <p:spPr>
                  <a:xfrm flipH="1">
                    <a:off x="3296520" y="5859000"/>
                    <a:ext cx="5760" cy="13356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08" name="Line 154"/>
                <p:cNvSpPr/>
                <p:nvPr/>
              </p:nvSpPr>
              <p:spPr>
                <a:xfrm>
                  <a:off x="1875960" y="6007320"/>
                  <a:ext cx="2054520" cy="1080"/>
                </a:xfrm>
                <a:prstGeom prst="line">
                  <a:avLst/>
                </a:prstGeom>
                <a:ln w="475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609" name="Group 155"/>
                <p:cNvGrpSpPr/>
                <p:nvPr/>
              </p:nvGrpSpPr>
              <p:grpSpPr>
                <a:xfrm>
                  <a:off x="3490920" y="5859000"/>
                  <a:ext cx="191160" cy="141120"/>
                  <a:chOff x="3490920" y="5859000"/>
                  <a:chExt cx="191160" cy="141120"/>
                </a:xfrm>
              </p:grpSpPr>
              <p:sp>
                <p:nvSpPr>
                  <p:cNvPr id="610" name="Line 156"/>
                  <p:cNvSpPr/>
                  <p:nvPr/>
                </p:nvSpPr>
                <p:spPr>
                  <a:xfrm flipH="1">
                    <a:off x="3490920" y="5863320"/>
                    <a:ext cx="6120" cy="13392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1" name="Line 157"/>
                  <p:cNvSpPr/>
                  <p:nvPr/>
                </p:nvSpPr>
                <p:spPr>
                  <a:xfrm flipH="1">
                    <a:off x="3579840" y="5866560"/>
                    <a:ext cx="5760" cy="13356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2" name="Line 158"/>
                  <p:cNvSpPr/>
                  <p:nvPr/>
                </p:nvSpPr>
                <p:spPr>
                  <a:xfrm flipH="1">
                    <a:off x="3675960" y="5859000"/>
                    <a:ext cx="6120" cy="13356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13" name="Group 159"/>
              <p:cNvGrpSpPr/>
              <p:nvPr/>
            </p:nvGrpSpPr>
            <p:grpSpPr>
              <a:xfrm>
                <a:off x="2289600" y="4595400"/>
                <a:ext cx="1049040" cy="1244160"/>
                <a:chOff x="2289600" y="4595400"/>
                <a:chExt cx="1049040" cy="1244160"/>
              </a:xfrm>
            </p:grpSpPr>
            <p:grpSp>
              <p:nvGrpSpPr>
                <p:cNvPr id="614" name="Group 160"/>
                <p:cNvGrpSpPr/>
                <p:nvPr/>
              </p:nvGrpSpPr>
              <p:grpSpPr>
                <a:xfrm>
                  <a:off x="2289600" y="4595400"/>
                  <a:ext cx="1049040" cy="1244160"/>
                  <a:chOff x="2289600" y="4595400"/>
                  <a:chExt cx="1049040" cy="1244160"/>
                </a:xfrm>
              </p:grpSpPr>
              <p:grpSp>
                <p:nvGrpSpPr>
                  <p:cNvPr id="615" name="Group 161"/>
                  <p:cNvGrpSpPr/>
                  <p:nvPr/>
                </p:nvGrpSpPr>
                <p:grpSpPr>
                  <a:xfrm>
                    <a:off x="2289600" y="4751280"/>
                    <a:ext cx="1049040" cy="1088280"/>
                    <a:chOff x="2289600" y="4751280"/>
                    <a:chExt cx="1049040" cy="1088280"/>
                  </a:xfrm>
                </p:grpSpPr>
                <p:grpSp>
                  <p:nvGrpSpPr>
                    <p:cNvPr id="616" name="Group 162"/>
                    <p:cNvGrpSpPr/>
                    <p:nvPr/>
                  </p:nvGrpSpPr>
                  <p:grpSpPr>
                    <a:xfrm>
                      <a:off x="2700720" y="5674320"/>
                      <a:ext cx="304200" cy="165240"/>
                      <a:chOff x="2700720" y="5674320"/>
                      <a:chExt cx="304200" cy="165240"/>
                    </a:xfrm>
                  </p:grpSpPr>
                  <p:sp>
                    <p:nvSpPr>
                      <p:cNvPr id="617" name="Line 163"/>
                      <p:cNvSpPr/>
                      <p:nvPr/>
                    </p:nvSpPr>
                    <p:spPr>
                      <a:xfrm flipH="1">
                        <a:off x="2700720" y="5677920"/>
                        <a:ext cx="9720" cy="157680"/>
                      </a:xfrm>
                      <a:prstGeom prst="line">
                        <a:avLst/>
                      </a:prstGeom>
                      <a:ln w="507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18" name="Line 164"/>
                      <p:cNvSpPr/>
                      <p:nvPr/>
                    </p:nvSpPr>
                    <p:spPr>
                      <a:xfrm flipH="1">
                        <a:off x="2841120" y="5681160"/>
                        <a:ext cx="9360" cy="158400"/>
                      </a:xfrm>
                      <a:prstGeom prst="line">
                        <a:avLst/>
                      </a:prstGeom>
                      <a:ln w="507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19" name="Line 165"/>
                      <p:cNvSpPr/>
                      <p:nvPr/>
                    </p:nvSpPr>
                    <p:spPr>
                      <a:xfrm flipH="1">
                        <a:off x="2995560" y="5674320"/>
                        <a:ext cx="9360" cy="157680"/>
                      </a:xfrm>
                      <a:prstGeom prst="line">
                        <a:avLst/>
                      </a:prstGeom>
                      <a:ln w="507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620" name="Freeform 166"/>
                    <p:cNvSpPr/>
                    <p:nvPr/>
                  </p:nvSpPr>
                  <p:spPr>
                    <a:xfrm rot="3660000">
                      <a:off x="2408400" y="4912560"/>
                      <a:ext cx="810720" cy="749880"/>
                    </a:xfrm>
                    <a:custGeom>
                      <a:avLst/>
                      <a:gdLst>
                        <a:gd name="textAreaLeft" fmla="*/ 0 w 810720"/>
                        <a:gd name="textAreaRight" fmla="*/ 811080 w 810720"/>
                        <a:gd name="textAreaTop" fmla="*/ 0 h 749880"/>
                        <a:gd name="textAreaBottom" fmla="*/ 750240 h 749880"/>
                      </a:gdLst>
                      <a:ahLst/>
                      <a:rect l="textAreaLeft" t="textAreaTop" r="textAreaRight" b="textAreaBottom"/>
                      <a:pathLst>
                        <a:path w="1400" h="1110">
                          <a:moveTo>
                            <a:pt x="140" y="390"/>
                          </a:moveTo>
                          <a:cubicBezTo>
                            <a:pt x="210" y="480"/>
                            <a:pt x="280" y="570"/>
                            <a:pt x="380" y="570"/>
                          </a:cubicBezTo>
                          <a:cubicBezTo>
                            <a:pt x="480" y="570"/>
                            <a:pt x="620" y="420"/>
                            <a:pt x="740" y="390"/>
                          </a:cubicBezTo>
                          <a:cubicBezTo>
                            <a:pt x="860" y="360"/>
                            <a:pt x="1000" y="360"/>
                            <a:pt x="1100" y="390"/>
                          </a:cubicBezTo>
                          <a:cubicBezTo>
                            <a:pt x="1200" y="420"/>
                            <a:pt x="1300" y="480"/>
                            <a:pt x="1340" y="570"/>
                          </a:cubicBezTo>
                          <a:cubicBezTo>
                            <a:pt x="1380" y="660"/>
                            <a:pt x="1400" y="840"/>
                            <a:pt x="1340" y="930"/>
                          </a:cubicBezTo>
                          <a:cubicBezTo>
                            <a:pt x="1280" y="1020"/>
                            <a:pt x="1100" y="1110"/>
                            <a:pt x="980" y="1110"/>
                          </a:cubicBezTo>
                          <a:cubicBezTo>
                            <a:pt x="860" y="1110"/>
                            <a:pt x="700" y="990"/>
                            <a:pt x="620" y="930"/>
                          </a:cubicBezTo>
                          <a:cubicBezTo>
                            <a:pt x="540" y="870"/>
                            <a:pt x="540" y="840"/>
                            <a:pt x="500" y="750"/>
                          </a:cubicBezTo>
                          <a:cubicBezTo>
                            <a:pt x="460" y="660"/>
                            <a:pt x="400" y="480"/>
                            <a:pt x="380" y="390"/>
                          </a:cubicBezTo>
                          <a:cubicBezTo>
                            <a:pt x="360" y="300"/>
                            <a:pt x="400" y="270"/>
                            <a:pt x="380" y="210"/>
                          </a:cubicBezTo>
                          <a:cubicBezTo>
                            <a:pt x="360" y="150"/>
                            <a:pt x="320" y="60"/>
                            <a:pt x="260" y="30"/>
                          </a:cubicBezTo>
                          <a:cubicBezTo>
                            <a:pt x="200" y="0"/>
                            <a:pt x="40" y="30"/>
                            <a:pt x="20" y="30"/>
                          </a:cubicBezTo>
                          <a:cubicBezTo>
                            <a:pt x="0" y="30"/>
                            <a:pt x="70" y="30"/>
                            <a:pt x="140" y="30"/>
                          </a:cubicBezTo>
                        </a:path>
                      </a:pathLst>
                    </a:custGeom>
                    <a:noFill/>
                    <a:ln w="507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621" name="Oval 167"/>
                  <p:cNvSpPr/>
                  <p:nvPr/>
                </p:nvSpPr>
                <p:spPr>
                  <a:xfrm rot="1320000">
                    <a:off x="2500920" y="4657680"/>
                    <a:ext cx="380160" cy="243000"/>
                  </a:xfrm>
                  <a:prstGeom prst="ellipse">
                    <a:avLst/>
                  </a:prstGeom>
                  <a:solidFill>
                    <a:srgbClr val="c0c0c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22" name="Text Box 168"/>
                <p:cNvSpPr/>
                <p:nvPr/>
              </p:nvSpPr>
              <p:spPr>
                <a:xfrm>
                  <a:off x="2561040" y="4781520"/>
                  <a:ext cx="304560" cy="1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rmAutofit fontScale="83000"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Arial"/>
                    </a:rPr>
                    <a:t>fMet</a:t>
                  </a:r>
                  <a:endParaRPr b="0" lang="en-US" sz="9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3" name="Text Box 169"/>
                <p:cNvSpPr/>
                <p:nvPr/>
              </p:nvSpPr>
              <p:spPr>
                <a:xfrm>
                  <a:off x="2667600" y="5470920"/>
                  <a:ext cx="304200" cy="114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rmAutofit fontScale="83000"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Arial"/>
                    </a:rPr>
                    <a:t>UAC</a:t>
                  </a:r>
                  <a:endParaRPr b="0" lang="en-US" sz="9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24" name="Group 170"/>
              <p:cNvGrpSpPr/>
              <p:nvPr/>
            </p:nvGrpSpPr>
            <p:grpSpPr>
              <a:xfrm>
                <a:off x="2668320" y="4566600"/>
                <a:ext cx="1027800" cy="1251000"/>
                <a:chOff x="2668320" y="4566600"/>
                <a:chExt cx="1027800" cy="1251000"/>
              </a:xfrm>
            </p:grpSpPr>
            <p:grpSp>
              <p:nvGrpSpPr>
                <p:cNvPr id="625" name="Group 171"/>
                <p:cNvGrpSpPr/>
                <p:nvPr/>
              </p:nvGrpSpPr>
              <p:grpSpPr>
                <a:xfrm>
                  <a:off x="2668320" y="4778640"/>
                  <a:ext cx="1027800" cy="1038960"/>
                  <a:chOff x="2668320" y="4778640"/>
                  <a:chExt cx="1027800" cy="1038960"/>
                </a:xfrm>
              </p:grpSpPr>
              <p:grpSp>
                <p:nvGrpSpPr>
                  <p:cNvPr id="626" name="Group 172"/>
                  <p:cNvGrpSpPr/>
                  <p:nvPr/>
                </p:nvGrpSpPr>
                <p:grpSpPr>
                  <a:xfrm>
                    <a:off x="3069000" y="5661360"/>
                    <a:ext cx="304200" cy="156240"/>
                    <a:chOff x="3069000" y="5661360"/>
                    <a:chExt cx="304200" cy="156240"/>
                  </a:xfrm>
                </p:grpSpPr>
                <p:sp>
                  <p:nvSpPr>
                    <p:cNvPr id="627" name="Line 173"/>
                    <p:cNvSpPr/>
                    <p:nvPr/>
                  </p:nvSpPr>
                  <p:spPr>
                    <a:xfrm flipH="1">
                      <a:off x="3069000" y="5666400"/>
                      <a:ext cx="9720" cy="148320"/>
                    </a:xfrm>
                    <a:prstGeom prst="line">
                      <a:avLst/>
                    </a:prstGeom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28" name="Line 174"/>
                    <p:cNvSpPr/>
                    <p:nvPr/>
                  </p:nvSpPr>
                  <p:spPr>
                    <a:xfrm flipH="1">
                      <a:off x="3211200" y="5669640"/>
                      <a:ext cx="9720" cy="147960"/>
                    </a:xfrm>
                    <a:prstGeom prst="line">
                      <a:avLst/>
                    </a:prstGeom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29" name="Line 175"/>
                    <p:cNvSpPr/>
                    <p:nvPr/>
                  </p:nvSpPr>
                  <p:spPr>
                    <a:xfrm flipH="1">
                      <a:off x="3363840" y="5661360"/>
                      <a:ext cx="9360" cy="147960"/>
                    </a:xfrm>
                    <a:prstGeom prst="line">
                      <a:avLst/>
                    </a:prstGeom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630" name="Freeform 176"/>
                  <p:cNvSpPr/>
                  <p:nvPr/>
                </p:nvSpPr>
                <p:spPr>
                  <a:xfrm rot="3660000">
                    <a:off x="2798640" y="4920480"/>
                    <a:ext cx="766800" cy="749880"/>
                  </a:xfrm>
                  <a:custGeom>
                    <a:avLst/>
                    <a:gdLst>
                      <a:gd name="textAreaLeft" fmla="*/ 0 w 766800"/>
                      <a:gd name="textAreaRight" fmla="*/ 767160 w 766800"/>
                      <a:gd name="textAreaTop" fmla="*/ 0 h 749880"/>
                      <a:gd name="textAreaBottom" fmla="*/ 750240 h 749880"/>
                    </a:gdLst>
                    <a:ahLst/>
                    <a:rect l="textAreaLeft" t="textAreaTop" r="textAreaRight" b="textAreaBottom"/>
                    <a:pathLst>
                      <a:path w="1400" h="1110">
                        <a:moveTo>
                          <a:pt x="140" y="390"/>
                        </a:moveTo>
                        <a:cubicBezTo>
                          <a:pt x="210" y="480"/>
                          <a:pt x="280" y="570"/>
                          <a:pt x="380" y="570"/>
                        </a:cubicBezTo>
                        <a:cubicBezTo>
                          <a:pt x="480" y="570"/>
                          <a:pt x="620" y="420"/>
                          <a:pt x="740" y="390"/>
                        </a:cubicBezTo>
                        <a:cubicBezTo>
                          <a:pt x="860" y="360"/>
                          <a:pt x="1000" y="360"/>
                          <a:pt x="1100" y="390"/>
                        </a:cubicBezTo>
                        <a:cubicBezTo>
                          <a:pt x="1200" y="420"/>
                          <a:pt x="1300" y="480"/>
                          <a:pt x="1340" y="570"/>
                        </a:cubicBezTo>
                        <a:cubicBezTo>
                          <a:pt x="1380" y="660"/>
                          <a:pt x="1400" y="840"/>
                          <a:pt x="1340" y="930"/>
                        </a:cubicBezTo>
                        <a:cubicBezTo>
                          <a:pt x="1280" y="1020"/>
                          <a:pt x="1100" y="1110"/>
                          <a:pt x="980" y="1110"/>
                        </a:cubicBezTo>
                        <a:cubicBezTo>
                          <a:pt x="860" y="1110"/>
                          <a:pt x="700" y="990"/>
                          <a:pt x="620" y="930"/>
                        </a:cubicBezTo>
                        <a:cubicBezTo>
                          <a:pt x="540" y="870"/>
                          <a:pt x="540" y="840"/>
                          <a:pt x="500" y="750"/>
                        </a:cubicBezTo>
                        <a:cubicBezTo>
                          <a:pt x="460" y="660"/>
                          <a:pt x="400" y="480"/>
                          <a:pt x="380" y="390"/>
                        </a:cubicBezTo>
                        <a:cubicBezTo>
                          <a:pt x="360" y="300"/>
                          <a:pt x="400" y="270"/>
                          <a:pt x="380" y="210"/>
                        </a:cubicBezTo>
                        <a:cubicBezTo>
                          <a:pt x="360" y="150"/>
                          <a:pt x="320" y="60"/>
                          <a:pt x="260" y="30"/>
                        </a:cubicBezTo>
                        <a:cubicBezTo>
                          <a:pt x="200" y="0"/>
                          <a:pt x="40" y="30"/>
                          <a:pt x="20" y="30"/>
                        </a:cubicBezTo>
                        <a:cubicBezTo>
                          <a:pt x="0" y="30"/>
                          <a:pt x="70" y="30"/>
                          <a:pt x="140" y="30"/>
                        </a:cubicBezTo>
                      </a:path>
                    </a:pathLst>
                  </a:custGeom>
                  <a:noFill/>
                  <a:ln w="507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1" name="Group 177"/>
                <p:cNvGrpSpPr/>
                <p:nvPr/>
              </p:nvGrpSpPr>
              <p:grpSpPr>
                <a:xfrm>
                  <a:off x="2787840" y="4566600"/>
                  <a:ext cx="537480" cy="493920"/>
                  <a:chOff x="2787840" y="4566600"/>
                  <a:chExt cx="537480" cy="493920"/>
                </a:xfrm>
              </p:grpSpPr>
              <p:sp>
                <p:nvSpPr>
                  <p:cNvPr id="632" name="Oval 178"/>
                  <p:cNvSpPr/>
                  <p:nvPr/>
                </p:nvSpPr>
                <p:spPr>
                  <a:xfrm rot="1320000">
                    <a:off x="2838600" y="4635000"/>
                    <a:ext cx="435600" cy="356760"/>
                  </a:xfrm>
                  <a:prstGeom prst="ellipse">
                    <a:avLst/>
                  </a:prstGeom>
                  <a:solidFill>
                    <a:srgbClr val="c0c0c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3" name="Text Box 179"/>
                  <p:cNvSpPr/>
                  <p:nvPr/>
                </p:nvSpPr>
                <p:spPr>
                  <a:xfrm>
                    <a:off x="2907720" y="4729680"/>
                    <a:ext cx="348840" cy="177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rm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  <a:tab algn="l" pos="10515600"/>
                      </a:tabLst>
                    </a:pPr>
                    <a:r>
                      <a:rPr b="1" lang="en-US" sz="900" spc="-1" strike="noStrike">
                        <a:solidFill>
                          <a:srgbClr val="000000"/>
                        </a:solidFill>
                        <a:latin typeface="Arial"/>
                      </a:rPr>
                      <a:t>AA2</a:t>
                    </a:r>
                    <a:endParaRPr b="0" lang="en-US" sz="9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34" name="Text Box 180"/>
                <p:cNvSpPr/>
                <p:nvPr/>
              </p:nvSpPr>
              <p:spPr>
                <a:xfrm>
                  <a:off x="3035880" y="5451480"/>
                  <a:ext cx="304200" cy="1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35" name="Group 309"/>
            <p:cNvGrpSpPr/>
            <p:nvPr/>
          </p:nvGrpSpPr>
          <p:grpSpPr>
            <a:xfrm>
              <a:off x="-181080" y="115920"/>
              <a:ext cx="3651480" cy="2346120"/>
              <a:chOff x="-181080" y="115920"/>
              <a:chExt cx="3651480" cy="2346120"/>
            </a:xfrm>
          </p:grpSpPr>
          <p:sp>
            <p:nvSpPr>
              <p:cNvPr id="636" name="Text Box 5"/>
              <p:cNvSpPr/>
              <p:nvPr/>
            </p:nvSpPr>
            <p:spPr>
              <a:xfrm>
                <a:off x="2943360" y="1679400"/>
                <a:ext cx="304560" cy="115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rmAutofit fontScale="84000"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3’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Oval 6"/>
              <p:cNvSpPr/>
              <p:nvPr/>
            </p:nvSpPr>
            <p:spPr>
              <a:xfrm>
                <a:off x="1343160" y="1011240"/>
                <a:ext cx="1371600" cy="90180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100000">
                    <a:srgbClr val="ffffff">
                      <a:alpha val="47058"/>
                    </a:srgbClr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Oval 7"/>
              <p:cNvSpPr/>
              <p:nvPr/>
            </p:nvSpPr>
            <p:spPr>
              <a:xfrm rot="21420000">
                <a:off x="1341000" y="1800360"/>
                <a:ext cx="1371600" cy="4474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39" name="Group 8"/>
              <p:cNvGrpSpPr/>
              <p:nvPr/>
            </p:nvGrpSpPr>
            <p:grpSpPr>
              <a:xfrm>
                <a:off x="2181240" y="1125360"/>
                <a:ext cx="303120" cy="1006560"/>
                <a:chOff x="2181240" y="1125360"/>
                <a:chExt cx="303120" cy="1006560"/>
              </a:xfrm>
            </p:grpSpPr>
            <p:sp>
              <p:nvSpPr>
                <p:cNvPr id="640" name="AutoShape 9"/>
                <p:cNvSpPr/>
                <p:nvPr/>
              </p:nvSpPr>
              <p:spPr>
                <a:xfrm>
                  <a:off x="2181240" y="1125360"/>
                  <a:ext cx="303120" cy="1006560"/>
                </a:xfrm>
                <a:custGeom>
                  <a:avLst/>
                  <a:gdLst>
                    <a:gd name="textAreaLeft" fmla="*/ 14760 w 303120"/>
                    <a:gd name="textAreaRight" fmla="*/ 288360 w 303120"/>
                    <a:gd name="textAreaTop" fmla="*/ 14760 h 1006560"/>
                    <a:gd name="textAreaBottom" fmla="*/ 991800 h 1006560"/>
                  </a:gdLst>
                  <a:ahLst/>
                  <a:rect l="textAreaLeft" t="textAreaTop" r="textAreaRight" b="textAreaBottom"/>
                  <a:pathLst>
                    <a:path w="21600" h="71667">
                      <a:moveTo>
                        <a:pt x="3600" y="0"/>
                      </a:moveTo>
                      <a:arcTo wR="3600" hR="3600" stAng="16200000" swAng="-5400000"/>
                      <a:lnTo>
                        <a:pt x="0" y="68067"/>
                      </a:lnTo>
                      <a:arcTo wR="3600" hR="3600" stAng="10800000" swAng="-5400000"/>
                      <a:lnTo>
                        <a:pt x="18000" y="71667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1" name="Text Box 10"/>
                <p:cNvSpPr/>
                <p:nvPr/>
              </p:nvSpPr>
              <p:spPr>
                <a:xfrm>
                  <a:off x="2181240" y="1917720"/>
                  <a:ext cx="272880" cy="141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rmAutofit fontScale="77000"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A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2" name="Text Box 11"/>
              <p:cNvSpPr/>
              <p:nvPr/>
            </p:nvSpPr>
            <p:spPr>
              <a:xfrm>
                <a:off x="733320" y="1730520"/>
                <a:ext cx="304920" cy="117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rmAutofit fontScale="86000"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5’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43" name="Group 12"/>
              <p:cNvGrpSpPr/>
              <p:nvPr/>
            </p:nvGrpSpPr>
            <p:grpSpPr>
              <a:xfrm>
                <a:off x="1708200" y="1125360"/>
                <a:ext cx="455400" cy="1040040"/>
                <a:chOff x="1708200" y="1125360"/>
                <a:chExt cx="455400" cy="1040040"/>
              </a:xfrm>
            </p:grpSpPr>
            <p:sp>
              <p:nvSpPr>
                <p:cNvPr id="644" name="AutoShape 13"/>
                <p:cNvSpPr/>
                <p:nvPr/>
              </p:nvSpPr>
              <p:spPr>
                <a:xfrm>
                  <a:off x="1723680" y="1125360"/>
                  <a:ext cx="379080" cy="1040040"/>
                </a:xfrm>
                <a:custGeom>
                  <a:avLst/>
                  <a:gdLst>
                    <a:gd name="textAreaLeft" fmla="*/ 18360 w 379080"/>
                    <a:gd name="textAreaRight" fmla="*/ 360720 w 379080"/>
                    <a:gd name="textAreaTop" fmla="*/ 18360 h 1040040"/>
                    <a:gd name="textAreaBottom" fmla="*/ 1021680 h 1040040"/>
                  </a:gdLst>
                  <a:ahLst/>
                  <a:rect l="textAreaLeft" t="textAreaTop" r="textAreaRight" b="textAreaBottom"/>
                  <a:pathLst>
                    <a:path w="21600" h="59226">
                      <a:moveTo>
                        <a:pt x="3600" y="0"/>
                      </a:moveTo>
                      <a:arcTo wR="3600" hR="3600" stAng="16200000" swAng="-5400000"/>
                      <a:lnTo>
                        <a:pt x="0" y="55626"/>
                      </a:lnTo>
                      <a:arcTo wR="3600" hR="3600" stAng="10800000" swAng="-5400000"/>
                      <a:lnTo>
                        <a:pt x="18000" y="59226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5" name="Text Box 14"/>
                <p:cNvSpPr/>
                <p:nvPr/>
              </p:nvSpPr>
              <p:spPr>
                <a:xfrm>
                  <a:off x="1761840" y="1971720"/>
                  <a:ext cx="341280" cy="17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rmAutofit fontScale="94000"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P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6" name="Text Box 15"/>
                <p:cNvSpPr/>
                <p:nvPr/>
              </p:nvSpPr>
              <p:spPr>
                <a:xfrm>
                  <a:off x="1708200" y="1842120"/>
                  <a:ext cx="455400" cy="112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rmAutofit fontScale="61000"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AUG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47" name="Group 16"/>
              <p:cNvGrpSpPr/>
              <p:nvPr/>
            </p:nvGrpSpPr>
            <p:grpSpPr>
              <a:xfrm>
                <a:off x="961920" y="1655640"/>
                <a:ext cx="2055960" cy="150480"/>
                <a:chOff x="961920" y="1655640"/>
                <a:chExt cx="2055960" cy="150480"/>
              </a:xfrm>
            </p:grpSpPr>
            <p:grpSp>
              <p:nvGrpSpPr>
                <p:cNvPr id="648" name="Group 17"/>
                <p:cNvGrpSpPr/>
                <p:nvPr/>
              </p:nvGrpSpPr>
              <p:grpSpPr>
                <a:xfrm>
                  <a:off x="1056960" y="1657080"/>
                  <a:ext cx="188280" cy="140760"/>
                  <a:chOff x="1056960" y="1657080"/>
                  <a:chExt cx="188280" cy="140760"/>
                </a:xfrm>
              </p:grpSpPr>
              <p:sp>
                <p:nvSpPr>
                  <p:cNvPr id="649" name="Line 18"/>
                  <p:cNvSpPr/>
                  <p:nvPr/>
                </p:nvSpPr>
                <p:spPr>
                  <a:xfrm flipH="1">
                    <a:off x="1056960" y="1664640"/>
                    <a:ext cx="4320" cy="13176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0" name="Line 19"/>
                  <p:cNvSpPr/>
                  <p:nvPr/>
                </p:nvSpPr>
                <p:spPr>
                  <a:xfrm>
                    <a:off x="1149120" y="1666080"/>
                    <a:ext cx="1080" cy="13176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1" name="Line 20"/>
                  <p:cNvSpPr/>
                  <p:nvPr/>
                </p:nvSpPr>
                <p:spPr>
                  <a:xfrm>
                    <a:off x="1244160" y="1657080"/>
                    <a:ext cx="1080" cy="13176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52" name="Group 21"/>
                <p:cNvGrpSpPr/>
                <p:nvPr/>
              </p:nvGrpSpPr>
              <p:grpSpPr>
                <a:xfrm>
                  <a:off x="1437840" y="1655640"/>
                  <a:ext cx="188280" cy="142920"/>
                  <a:chOff x="1437840" y="1655640"/>
                  <a:chExt cx="188280" cy="142920"/>
                </a:xfrm>
              </p:grpSpPr>
              <p:sp>
                <p:nvSpPr>
                  <p:cNvPr id="653" name="Line 22"/>
                  <p:cNvSpPr/>
                  <p:nvPr/>
                </p:nvSpPr>
                <p:spPr>
                  <a:xfrm>
                    <a:off x="1437840" y="1666440"/>
                    <a:ext cx="1440" cy="13212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4" name="Line 23"/>
                  <p:cNvSpPr/>
                  <p:nvPr/>
                </p:nvSpPr>
                <p:spPr>
                  <a:xfrm>
                    <a:off x="1527480" y="1666440"/>
                    <a:ext cx="1080" cy="13212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5" name="Line 24"/>
                  <p:cNvSpPr/>
                  <p:nvPr/>
                </p:nvSpPr>
                <p:spPr>
                  <a:xfrm>
                    <a:off x="1625040" y="1655640"/>
                    <a:ext cx="1080" cy="13212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56" name="Group 25"/>
                <p:cNvGrpSpPr/>
                <p:nvPr/>
              </p:nvGrpSpPr>
              <p:grpSpPr>
                <a:xfrm>
                  <a:off x="1816920" y="1657080"/>
                  <a:ext cx="188280" cy="140760"/>
                  <a:chOff x="1816920" y="1657080"/>
                  <a:chExt cx="188280" cy="140760"/>
                </a:xfrm>
              </p:grpSpPr>
              <p:sp>
                <p:nvSpPr>
                  <p:cNvPr id="657" name="Line 26"/>
                  <p:cNvSpPr/>
                  <p:nvPr/>
                </p:nvSpPr>
                <p:spPr>
                  <a:xfrm flipH="1">
                    <a:off x="1816920" y="1664640"/>
                    <a:ext cx="4320" cy="13176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8" name="Line 27"/>
                  <p:cNvSpPr/>
                  <p:nvPr/>
                </p:nvSpPr>
                <p:spPr>
                  <a:xfrm>
                    <a:off x="1907280" y="1666080"/>
                    <a:ext cx="1080" cy="13176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9" name="Line 28"/>
                  <p:cNvSpPr/>
                  <p:nvPr/>
                </p:nvSpPr>
                <p:spPr>
                  <a:xfrm flipH="1">
                    <a:off x="2000880" y="1657080"/>
                    <a:ext cx="4320" cy="13176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0" name="Group 29"/>
                <p:cNvGrpSpPr/>
                <p:nvPr/>
              </p:nvGrpSpPr>
              <p:grpSpPr>
                <a:xfrm>
                  <a:off x="2197080" y="1658520"/>
                  <a:ext cx="191880" cy="139320"/>
                  <a:chOff x="2197080" y="1658520"/>
                  <a:chExt cx="191880" cy="139320"/>
                </a:xfrm>
              </p:grpSpPr>
              <p:sp>
                <p:nvSpPr>
                  <p:cNvPr id="661" name="Line 30"/>
                  <p:cNvSpPr/>
                  <p:nvPr/>
                </p:nvSpPr>
                <p:spPr>
                  <a:xfrm flipH="1">
                    <a:off x="2197080" y="1662840"/>
                    <a:ext cx="6120" cy="13212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2" name="Line 31"/>
                  <p:cNvSpPr/>
                  <p:nvPr/>
                </p:nvSpPr>
                <p:spPr>
                  <a:xfrm flipH="1">
                    <a:off x="2285640" y="1666080"/>
                    <a:ext cx="6120" cy="13176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3" name="Line 32"/>
                  <p:cNvSpPr/>
                  <p:nvPr/>
                </p:nvSpPr>
                <p:spPr>
                  <a:xfrm flipH="1">
                    <a:off x="2383200" y="1658520"/>
                    <a:ext cx="5760" cy="13176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64" name="Line 33"/>
                <p:cNvSpPr/>
                <p:nvPr/>
              </p:nvSpPr>
              <p:spPr>
                <a:xfrm>
                  <a:off x="961920" y="1805040"/>
                  <a:ext cx="2055960" cy="1080"/>
                </a:xfrm>
                <a:prstGeom prst="line">
                  <a:avLst/>
                </a:prstGeom>
                <a:ln w="475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665" name="Group 34"/>
                <p:cNvGrpSpPr/>
                <p:nvPr/>
              </p:nvGrpSpPr>
              <p:grpSpPr>
                <a:xfrm>
                  <a:off x="2577960" y="1658520"/>
                  <a:ext cx="191160" cy="139320"/>
                  <a:chOff x="2577960" y="1658520"/>
                  <a:chExt cx="191160" cy="139320"/>
                </a:xfrm>
              </p:grpSpPr>
              <p:sp>
                <p:nvSpPr>
                  <p:cNvPr id="666" name="Line 35"/>
                  <p:cNvSpPr/>
                  <p:nvPr/>
                </p:nvSpPr>
                <p:spPr>
                  <a:xfrm flipH="1">
                    <a:off x="2577960" y="1662840"/>
                    <a:ext cx="6120" cy="13212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7" name="Line 36"/>
                  <p:cNvSpPr/>
                  <p:nvPr/>
                </p:nvSpPr>
                <p:spPr>
                  <a:xfrm flipH="1">
                    <a:off x="2666880" y="1666080"/>
                    <a:ext cx="5760" cy="13176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8" name="Line 37"/>
                  <p:cNvSpPr/>
                  <p:nvPr/>
                </p:nvSpPr>
                <p:spPr>
                  <a:xfrm flipH="1">
                    <a:off x="2763000" y="1658520"/>
                    <a:ext cx="6120" cy="13176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69" name="Group 38"/>
              <p:cNvGrpSpPr/>
              <p:nvPr/>
            </p:nvGrpSpPr>
            <p:grpSpPr>
              <a:xfrm>
                <a:off x="1378440" y="410400"/>
                <a:ext cx="1044720" cy="1229760"/>
                <a:chOff x="1378440" y="410400"/>
                <a:chExt cx="1044720" cy="1229760"/>
              </a:xfrm>
            </p:grpSpPr>
            <p:grpSp>
              <p:nvGrpSpPr>
                <p:cNvPr id="670" name="Group 39"/>
                <p:cNvGrpSpPr/>
                <p:nvPr/>
              </p:nvGrpSpPr>
              <p:grpSpPr>
                <a:xfrm>
                  <a:off x="1378440" y="410400"/>
                  <a:ext cx="1044720" cy="1229760"/>
                  <a:chOff x="1378440" y="410400"/>
                  <a:chExt cx="1044720" cy="1229760"/>
                </a:xfrm>
              </p:grpSpPr>
              <p:grpSp>
                <p:nvGrpSpPr>
                  <p:cNvPr id="671" name="Group 40"/>
                  <p:cNvGrpSpPr/>
                  <p:nvPr/>
                </p:nvGrpSpPr>
                <p:grpSpPr>
                  <a:xfrm>
                    <a:off x="1378440" y="563400"/>
                    <a:ext cx="1044720" cy="1076760"/>
                    <a:chOff x="1378440" y="563400"/>
                    <a:chExt cx="1044720" cy="1076760"/>
                  </a:xfrm>
                </p:grpSpPr>
                <p:grpSp>
                  <p:nvGrpSpPr>
                    <p:cNvPr id="672" name="Group 41"/>
                    <p:cNvGrpSpPr/>
                    <p:nvPr/>
                  </p:nvGrpSpPr>
                  <p:grpSpPr>
                    <a:xfrm>
                      <a:off x="1789560" y="1477080"/>
                      <a:ext cx="303480" cy="163080"/>
                      <a:chOff x="1789560" y="1477080"/>
                      <a:chExt cx="303480" cy="163080"/>
                    </a:xfrm>
                  </p:grpSpPr>
                  <p:sp>
                    <p:nvSpPr>
                      <p:cNvPr id="673" name="Line 42"/>
                      <p:cNvSpPr/>
                      <p:nvPr/>
                    </p:nvSpPr>
                    <p:spPr>
                      <a:xfrm flipH="1">
                        <a:off x="1789560" y="1482120"/>
                        <a:ext cx="9720" cy="155880"/>
                      </a:xfrm>
                      <a:prstGeom prst="line">
                        <a:avLst/>
                      </a:prstGeom>
                      <a:ln w="507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74" name="Line 43"/>
                      <p:cNvSpPr/>
                      <p:nvPr/>
                    </p:nvSpPr>
                    <p:spPr>
                      <a:xfrm flipH="1">
                        <a:off x="1930680" y="1483920"/>
                        <a:ext cx="9360" cy="156240"/>
                      </a:xfrm>
                      <a:prstGeom prst="line">
                        <a:avLst/>
                      </a:prstGeom>
                      <a:ln w="507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75" name="Line 44"/>
                      <p:cNvSpPr/>
                      <p:nvPr/>
                    </p:nvSpPr>
                    <p:spPr>
                      <a:xfrm flipH="1">
                        <a:off x="2083320" y="1477080"/>
                        <a:ext cx="9720" cy="155880"/>
                      </a:xfrm>
                      <a:prstGeom prst="line">
                        <a:avLst/>
                      </a:prstGeom>
                      <a:ln w="507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676" name="Freeform 45"/>
                    <p:cNvSpPr/>
                    <p:nvPr/>
                  </p:nvSpPr>
                  <p:spPr>
                    <a:xfrm rot="3660000">
                      <a:off x="1500480" y="720000"/>
                      <a:ext cx="800280" cy="750600"/>
                    </a:xfrm>
                    <a:custGeom>
                      <a:avLst/>
                      <a:gdLst>
                        <a:gd name="textAreaLeft" fmla="*/ 0 w 800280"/>
                        <a:gd name="textAreaRight" fmla="*/ 800640 w 800280"/>
                        <a:gd name="textAreaTop" fmla="*/ 0 h 750600"/>
                        <a:gd name="textAreaBottom" fmla="*/ 750960 h 750600"/>
                      </a:gdLst>
                      <a:ahLst/>
                      <a:rect l="textAreaLeft" t="textAreaTop" r="textAreaRight" b="textAreaBottom"/>
                      <a:pathLst>
                        <a:path w="1400" h="1110">
                          <a:moveTo>
                            <a:pt x="140" y="390"/>
                          </a:moveTo>
                          <a:cubicBezTo>
                            <a:pt x="210" y="480"/>
                            <a:pt x="280" y="570"/>
                            <a:pt x="380" y="570"/>
                          </a:cubicBezTo>
                          <a:cubicBezTo>
                            <a:pt x="480" y="570"/>
                            <a:pt x="620" y="420"/>
                            <a:pt x="740" y="390"/>
                          </a:cubicBezTo>
                          <a:cubicBezTo>
                            <a:pt x="860" y="360"/>
                            <a:pt x="1000" y="360"/>
                            <a:pt x="1100" y="390"/>
                          </a:cubicBezTo>
                          <a:cubicBezTo>
                            <a:pt x="1200" y="420"/>
                            <a:pt x="1300" y="480"/>
                            <a:pt x="1340" y="570"/>
                          </a:cubicBezTo>
                          <a:cubicBezTo>
                            <a:pt x="1380" y="660"/>
                            <a:pt x="1400" y="840"/>
                            <a:pt x="1340" y="930"/>
                          </a:cubicBezTo>
                          <a:cubicBezTo>
                            <a:pt x="1280" y="1020"/>
                            <a:pt x="1100" y="1110"/>
                            <a:pt x="980" y="1110"/>
                          </a:cubicBezTo>
                          <a:cubicBezTo>
                            <a:pt x="860" y="1110"/>
                            <a:pt x="700" y="990"/>
                            <a:pt x="620" y="930"/>
                          </a:cubicBezTo>
                          <a:cubicBezTo>
                            <a:pt x="540" y="870"/>
                            <a:pt x="540" y="840"/>
                            <a:pt x="500" y="750"/>
                          </a:cubicBezTo>
                          <a:cubicBezTo>
                            <a:pt x="460" y="660"/>
                            <a:pt x="400" y="480"/>
                            <a:pt x="380" y="390"/>
                          </a:cubicBezTo>
                          <a:cubicBezTo>
                            <a:pt x="360" y="300"/>
                            <a:pt x="400" y="270"/>
                            <a:pt x="380" y="210"/>
                          </a:cubicBezTo>
                          <a:cubicBezTo>
                            <a:pt x="360" y="150"/>
                            <a:pt x="320" y="60"/>
                            <a:pt x="260" y="30"/>
                          </a:cubicBezTo>
                          <a:cubicBezTo>
                            <a:pt x="200" y="0"/>
                            <a:pt x="40" y="30"/>
                            <a:pt x="20" y="30"/>
                          </a:cubicBezTo>
                          <a:cubicBezTo>
                            <a:pt x="0" y="30"/>
                            <a:pt x="70" y="30"/>
                            <a:pt x="140" y="30"/>
                          </a:cubicBezTo>
                        </a:path>
                      </a:pathLst>
                    </a:custGeom>
                    <a:noFill/>
                    <a:ln w="507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677" name="Oval 46"/>
                  <p:cNvSpPr/>
                  <p:nvPr/>
                </p:nvSpPr>
                <p:spPr>
                  <a:xfrm rot="1320000">
                    <a:off x="1587600" y="472680"/>
                    <a:ext cx="380880" cy="240480"/>
                  </a:xfrm>
                  <a:prstGeom prst="ellipse">
                    <a:avLst/>
                  </a:prstGeom>
                  <a:solidFill>
                    <a:srgbClr val="c0c0c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78" name="Text Box 47"/>
                <p:cNvSpPr/>
                <p:nvPr/>
              </p:nvSpPr>
              <p:spPr>
                <a:xfrm>
                  <a:off x="1646280" y="595440"/>
                  <a:ext cx="304920" cy="112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rmAutofit fontScale="82000"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Arial"/>
                    </a:rPr>
                    <a:t>fMet</a:t>
                  </a:r>
                  <a:endParaRPr b="0" lang="en-US" sz="9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9" name="Text Box 48"/>
                <p:cNvSpPr/>
                <p:nvPr/>
              </p:nvSpPr>
              <p:spPr>
                <a:xfrm>
                  <a:off x="1754280" y="1276200"/>
                  <a:ext cx="304560" cy="113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rmAutofit fontScale="83000"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Arial"/>
                    </a:rPr>
                    <a:t>UAC</a:t>
                  </a:r>
                  <a:endParaRPr b="0" lang="en-US" sz="9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80" name="Text Box 49"/>
              <p:cNvSpPr/>
              <p:nvPr/>
            </p:nvSpPr>
            <p:spPr>
              <a:xfrm>
                <a:off x="504720" y="2081160"/>
                <a:ext cx="91440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</a:rPr>
                  <a:t>Codón de inicio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Text Box 50"/>
              <p:cNvSpPr/>
              <p:nvPr/>
            </p:nvSpPr>
            <p:spPr>
              <a:xfrm>
                <a:off x="2556000" y="1905120"/>
                <a:ext cx="914400" cy="29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rmAutofit fontScale="91000"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Codón siguiente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Text Box 51"/>
              <p:cNvSpPr/>
              <p:nvPr/>
            </p:nvSpPr>
            <p:spPr>
              <a:xfrm>
                <a:off x="174600" y="990720"/>
                <a:ext cx="914400" cy="66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US" sz="1400" spc="-1" strike="noStrike">
                    <a:solidFill>
                      <a:srgbClr val="0070c0"/>
                    </a:solidFill>
                    <a:latin typeface="Arial"/>
                  </a:rPr>
                  <a:t>Complejo de inicio 70S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Text Box 181"/>
              <p:cNvSpPr/>
              <p:nvPr/>
            </p:nvSpPr>
            <p:spPr>
              <a:xfrm>
                <a:off x="-181080" y="115920"/>
                <a:ext cx="1143000" cy="23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Text Box 182"/>
              <p:cNvSpPr/>
              <p:nvPr/>
            </p:nvSpPr>
            <p:spPr>
              <a:xfrm>
                <a:off x="1135080" y="460440"/>
                <a:ext cx="55404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N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85" name="Text Box 183"/>
            <p:cNvSpPr/>
            <p:nvPr/>
          </p:nvSpPr>
          <p:spPr>
            <a:xfrm>
              <a:off x="2071800" y="4637160"/>
              <a:ext cx="5540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H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6" name="Line 240"/>
            <p:cNvSpPr/>
            <p:nvPr/>
          </p:nvSpPr>
          <p:spPr>
            <a:xfrm>
              <a:off x="3995640" y="5734080"/>
              <a:ext cx="151308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87" name="Text Box 241"/>
          <p:cNvSpPr/>
          <p:nvPr/>
        </p:nvSpPr>
        <p:spPr>
          <a:xfrm>
            <a:off x="3769200" y="5373720"/>
            <a:ext cx="183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1400" spc="-1" strike="noStrike">
                <a:solidFill>
                  <a:srgbClr val="ff0000"/>
                </a:solidFill>
                <a:latin typeface="Arial"/>
              </a:rPr>
              <a:t>Peptidil transferas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88" name="Group 311"/>
          <p:cNvGrpSpPr/>
          <p:nvPr/>
        </p:nvGrpSpPr>
        <p:grpSpPr>
          <a:xfrm>
            <a:off x="5153040" y="2205000"/>
            <a:ext cx="3956040" cy="4288680"/>
            <a:chOff x="5153040" y="2205000"/>
            <a:chExt cx="3956040" cy="4288680"/>
          </a:xfrm>
        </p:grpSpPr>
        <p:grpSp>
          <p:nvGrpSpPr>
            <p:cNvPr id="689" name="Group 184"/>
            <p:cNvGrpSpPr/>
            <p:nvPr/>
          </p:nvGrpSpPr>
          <p:grpSpPr>
            <a:xfrm>
              <a:off x="5153040" y="4365720"/>
              <a:ext cx="2514600" cy="2127960"/>
              <a:chOff x="5153040" y="4365720"/>
              <a:chExt cx="2514600" cy="2127960"/>
            </a:xfrm>
          </p:grpSpPr>
          <p:sp>
            <p:nvSpPr>
              <p:cNvPr id="690" name="Text Box 185"/>
              <p:cNvSpPr/>
              <p:nvPr/>
            </p:nvSpPr>
            <p:spPr>
              <a:xfrm>
                <a:off x="7362720" y="5889600"/>
                <a:ext cx="304920" cy="115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rmAutofit fontScale="84000"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3’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Oval 186"/>
              <p:cNvSpPr/>
              <p:nvPr/>
            </p:nvSpPr>
            <p:spPr>
              <a:xfrm>
                <a:off x="5762520" y="5221440"/>
                <a:ext cx="1371600" cy="90144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100000">
                    <a:srgbClr val="ffffff">
                      <a:alpha val="47058"/>
                    </a:srgbClr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Oval 187"/>
              <p:cNvSpPr/>
              <p:nvPr/>
            </p:nvSpPr>
            <p:spPr>
              <a:xfrm rot="21420000">
                <a:off x="5760720" y="6010200"/>
                <a:ext cx="1371600" cy="447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93" name="Group 188"/>
              <p:cNvGrpSpPr/>
              <p:nvPr/>
            </p:nvGrpSpPr>
            <p:grpSpPr>
              <a:xfrm>
                <a:off x="6600960" y="5334120"/>
                <a:ext cx="303120" cy="1006200"/>
                <a:chOff x="6600960" y="5334120"/>
                <a:chExt cx="303120" cy="1006200"/>
              </a:xfrm>
            </p:grpSpPr>
            <p:sp>
              <p:nvSpPr>
                <p:cNvPr id="694" name="AutoShape 189"/>
                <p:cNvSpPr/>
                <p:nvPr/>
              </p:nvSpPr>
              <p:spPr>
                <a:xfrm>
                  <a:off x="6600960" y="5334120"/>
                  <a:ext cx="303120" cy="1006200"/>
                </a:xfrm>
                <a:custGeom>
                  <a:avLst/>
                  <a:gdLst>
                    <a:gd name="textAreaLeft" fmla="*/ 14760 w 303120"/>
                    <a:gd name="textAreaRight" fmla="*/ 288360 w 303120"/>
                    <a:gd name="textAreaTop" fmla="*/ 14760 h 1006200"/>
                    <a:gd name="textAreaBottom" fmla="*/ 991440 h 1006200"/>
                  </a:gdLst>
                  <a:ahLst/>
                  <a:rect l="textAreaLeft" t="textAreaTop" r="textAreaRight" b="textAreaBottom"/>
                  <a:pathLst>
                    <a:path w="21600" h="71641">
                      <a:moveTo>
                        <a:pt x="3600" y="0"/>
                      </a:moveTo>
                      <a:arcTo wR="3600" hR="3600" stAng="16200000" swAng="-5400000"/>
                      <a:lnTo>
                        <a:pt x="0" y="68041"/>
                      </a:lnTo>
                      <a:arcTo wR="3600" hR="3600" stAng="10800000" swAng="-5400000"/>
                      <a:lnTo>
                        <a:pt x="18000" y="71641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5" name="Text Box 190"/>
                <p:cNvSpPr/>
                <p:nvPr/>
              </p:nvSpPr>
              <p:spPr>
                <a:xfrm>
                  <a:off x="6600960" y="6126480"/>
                  <a:ext cx="273240" cy="140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rmAutofit fontScale="77000"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A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96" name="Text Box 191"/>
              <p:cNvSpPr/>
              <p:nvPr/>
            </p:nvSpPr>
            <p:spPr>
              <a:xfrm>
                <a:off x="5153040" y="5940360"/>
                <a:ext cx="304920" cy="117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rmAutofit fontScale="86000"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5’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AutoShape 192"/>
              <p:cNvSpPr/>
              <p:nvPr/>
            </p:nvSpPr>
            <p:spPr>
              <a:xfrm>
                <a:off x="6143760" y="5334120"/>
                <a:ext cx="380880" cy="1042920"/>
              </a:xfrm>
              <a:custGeom>
                <a:avLst/>
                <a:gdLst>
                  <a:gd name="textAreaLeft" fmla="*/ 18360 w 380880"/>
                  <a:gd name="textAreaRight" fmla="*/ 362520 w 380880"/>
                  <a:gd name="textAreaTop" fmla="*/ 18360 h 1042920"/>
                  <a:gd name="textAreaBottom" fmla="*/ 1024560 h 1042920"/>
                </a:gdLst>
                <a:ahLst/>
                <a:rect l="textAreaLeft" t="textAreaTop" r="textAreaRight" b="textAreaBottom"/>
                <a:pathLst>
                  <a:path w="21600" h="59109">
                    <a:moveTo>
                      <a:pt x="3600" y="0"/>
                    </a:moveTo>
                    <a:arcTo wR="3600" hR="3600" stAng="16200000" swAng="-5400000"/>
                    <a:lnTo>
                      <a:pt x="0" y="55509"/>
                    </a:lnTo>
                    <a:arcTo wR="3600" hR="3600" stAng="10800000" swAng="-5400000"/>
                    <a:lnTo>
                      <a:pt x="18000" y="5910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noFill/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Text Box 193"/>
              <p:cNvSpPr/>
              <p:nvPr/>
            </p:nvSpPr>
            <p:spPr>
              <a:xfrm>
                <a:off x="6181560" y="6184800"/>
                <a:ext cx="343080" cy="17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rmAutofit fontScale="94000"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Text Box 194"/>
              <p:cNvSpPr/>
              <p:nvPr/>
            </p:nvSpPr>
            <p:spPr>
              <a:xfrm>
                <a:off x="6127920" y="6053040"/>
                <a:ext cx="4572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rmAutofit fontScale="63000"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AUG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700" name="Group 195"/>
              <p:cNvGrpSpPr/>
              <p:nvPr/>
            </p:nvGrpSpPr>
            <p:grpSpPr>
              <a:xfrm>
                <a:off x="5381640" y="5865840"/>
                <a:ext cx="2055960" cy="150480"/>
                <a:chOff x="5381640" y="5865840"/>
                <a:chExt cx="2055960" cy="150480"/>
              </a:xfrm>
            </p:grpSpPr>
            <p:grpSp>
              <p:nvGrpSpPr>
                <p:cNvPr id="701" name="Group 196"/>
                <p:cNvGrpSpPr/>
                <p:nvPr/>
              </p:nvGrpSpPr>
              <p:grpSpPr>
                <a:xfrm>
                  <a:off x="5476680" y="5866920"/>
                  <a:ext cx="187920" cy="141120"/>
                  <a:chOff x="5476680" y="5866920"/>
                  <a:chExt cx="187920" cy="141120"/>
                </a:xfrm>
              </p:grpSpPr>
              <p:sp>
                <p:nvSpPr>
                  <p:cNvPr id="702" name="Line 197"/>
                  <p:cNvSpPr/>
                  <p:nvPr/>
                </p:nvSpPr>
                <p:spPr>
                  <a:xfrm>
                    <a:off x="5476680" y="5874480"/>
                    <a:ext cx="1080" cy="13212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3" name="Line 198"/>
                  <p:cNvSpPr/>
                  <p:nvPr/>
                </p:nvSpPr>
                <p:spPr>
                  <a:xfrm>
                    <a:off x="5565960" y="5876280"/>
                    <a:ext cx="1440" cy="13176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4" name="Line 199"/>
                  <p:cNvSpPr/>
                  <p:nvPr/>
                </p:nvSpPr>
                <p:spPr>
                  <a:xfrm>
                    <a:off x="5663520" y="5866920"/>
                    <a:ext cx="1080" cy="13212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05" name="Group 200"/>
                <p:cNvGrpSpPr/>
                <p:nvPr/>
              </p:nvGrpSpPr>
              <p:grpSpPr>
                <a:xfrm>
                  <a:off x="5857560" y="5865840"/>
                  <a:ext cx="188280" cy="142920"/>
                  <a:chOff x="5857560" y="5865840"/>
                  <a:chExt cx="188280" cy="142920"/>
                </a:xfrm>
              </p:grpSpPr>
              <p:sp>
                <p:nvSpPr>
                  <p:cNvPr id="706" name="Line 201"/>
                  <p:cNvSpPr/>
                  <p:nvPr/>
                </p:nvSpPr>
                <p:spPr>
                  <a:xfrm>
                    <a:off x="5857560" y="5876640"/>
                    <a:ext cx="1080" cy="13212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7" name="Line 202"/>
                  <p:cNvSpPr/>
                  <p:nvPr/>
                </p:nvSpPr>
                <p:spPr>
                  <a:xfrm>
                    <a:off x="5946840" y="5876640"/>
                    <a:ext cx="1440" cy="13212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8" name="Line 203"/>
                  <p:cNvSpPr/>
                  <p:nvPr/>
                </p:nvSpPr>
                <p:spPr>
                  <a:xfrm>
                    <a:off x="6044760" y="5865840"/>
                    <a:ext cx="1080" cy="13212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09" name="Group 204"/>
                <p:cNvGrpSpPr/>
                <p:nvPr/>
              </p:nvGrpSpPr>
              <p:grpSpPr>
                <a:xfrm>
                  <a:off x="6237720" y="5866920"/>
                  <a:ext cx="188640" cy="141120"/>
                  <a:chOff x="6237720" y="5866920"/>
                  <a:chExt cx="188640" cy="141120"/>
                </a:xfrm>
              </p:grpSpPr>
              <p:sp>
                <p:nvSpPr>
                  <p:cNvPr id="710" name="Line 205"/>
                  <p:cNvSpPr/>
                  <p:nvPr/>
                </p:nvSpPr>
                <p:spPr>
                  <a:xfrm flipH="1">
                    <a:off x="6237720" y="5874480"/>
                    <a:ext cx="4680" cy="13212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1" name="Line 206"/>
                  <p:cNvSpPr/>
                  <p:nvPr/>
                </p:nvSpPr>
                <p:spPr>
                  <a:xfrm>
                    <a:off x="6329880" y="5876280"/>
                    <a:ext cx="1080" cy="13176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2" name="Line 207"/>
                  <p:cNvSpPr/>
                  <p:nvPr/>
                </p:nvSpPr>
                <p:spPr>
                  <a:xfrm flipH="1">
                    <a:off x="6422040" y="5866920"/>
                    <a:ext cx="4320" cy="13212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13" name="Group 208"/>
                <p:cNvGrpSpPr/>
                <p:nvPr/>
              </p:nvGrpSpPr>
              <p:grpSpPr>
                <a:xfrm>
                  <a:off x="6617160" y="5868720"/>
                  <a:ext cx="191160" cy="139320"/>
                  <a:chOff x="6617160" y="5868720"/>
                  <a:chExt cx="191160" cy="139320"/>
                </a:xfrm>
              </p:grpSpPr>
              <p:sp>
                <p:nvSpPr>
                  <p:cNvPr id="714" name="Line 209"/>
                  <p:cNvSpPr/>
                  <p:nvPr/>
                </p:nvSpPr>
                <p:spPr>
                  <a:xfrm flipH="1">
                    <a:off x="6617160" y="5873040"/>
                    <a:ext cx="5760" cy="13176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5" name="Line 210"/>
                  <p:cNvSpPr/>
                  <p:nvPr/>
                </p:nvSpPr>
                <p:spPr>
                  <a:xfrm flipH="1">
                    <a:off x="6706080" y="5876280"/>
                    <a:ext cx="6120" cy="13176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6" name="Line 211"/>
                  <p:cNvSpPr/>
                  <p:nvPr/>
                </p:nvSpPr>
                <p:spPr>
                  <a:xfrm flipH="1">
                    <a:off x="6802200" y="5868720"/>
                    <a:ext cx="6120" cy="13176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17" name="Line 212"/>
                <p:cNvSpPr/>
                <p:nvPr/>
              </p:nvSpPr>
              <p:spPr>
                <a:xfrm>
                  <a:off x="5381640" y="6014880"/>
                  <a:ext cx="2055960" cy="1440"/>
                </a:xfrm>
                <a:prstGeom prst="line">
                  <a:avLst/>
                </a:prstGeom>
                <a:ln w="475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718" name="Group 213"/>
                <p:cNvGrpSpPr/>
                <p:nvPr/>
              </p:nvGrpSpPr>
              <p:grpSpPr>
                <a:xfrm>
                  <a:off x="6997320" y="5868720"/>
                  <a:ext cx="191520" cy="139320"/>
                  <a:chOff x="6997320" y="5868720"/>
                  <a:chExt cx="191520" cy="139320"/>
                </a:xfrm>
              </p:grpSpPr>
              <p:sp>
                <p:nvSpPr>
                  <p:cNvPr id="719" name="Line 214"/>
                  <p:cNvSpPr/>
                  <p:nvPr/>
                </p:nvSpPr>
                <p:spPr>
                  <a:xfrm flipH="1">
                    <a:off x="6997320" y="5873040"/>
                    <a:ext cx="6120" cy="13176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0" name="Line 215"/>
                  <p:cNvSpPr/>
                  <p:nvPr/>
                </p:nvSpPr>
                <p:spPr>
                  <a:xfrm flipH="1">
                    <a:off x="7087320" y="5876280"/>
                    <a:ext cx="5760" cy="13176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1" name="Line 216"/>
                  <p:cNvSpPr/>
                  <p:nvPr/>
                </p:nvSpPr>
                <p:spPr>
                  <a:xfrm flipH="1">
                    <a:off x="7182720" y="5868720"/>
                    <a:ext cx="6120" cy="13176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22" name="Group 217"/>
              <p:cNvGrpSpPr/>
              <p:nvPr/>
            </p:nvGrpSpPr>
            <p:grpSpPr>
              <a:xfrm>
                <a:off x="5990400" y="4376160"/>
                <a:ext cx="536400" cy="489960"/>
                <a:chOff x="5990400" y="4376160"/>
                <a:chExt cx="536400" cy="489960"/>
              </a:xfrm>
            </p:grpSpPr>
            <p:sp>
              <p:nvSpPr>
                <p:cNvPr id="723" name="Oval 218"/>
                <p:cNvSpPr/>
                <p:nvPr/>
              </p:nvSpPr>
              <p:spPr>
                <a:xfrm rot="1320000">
                  <a:off x="6040080" y="4444920"/>
                  <a:ext cx="436320" cy="352080"/>
                </a:xfrm>
                <a:prstGeom prst="ellipse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4" name="Text Box 219"/>
                <p:cNvSpPr/>
                <p:nvPr/>
              </p:nvSpPr>
              <p:spPr>
                <a:xfrm>
                  <a:off x="6109200" y="4538160"/>
                  <a:ext cx="349200" cy="174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Arial"/>
                    </a:rPr>
                    <a:t>fMet</a:t>
                  </a:r>
                  <a:endParaRPr b="0" lang="en-US" sz="9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25" name="Group 220"/>
              <p:cNvGrpSpPr/>
              <p:nvPr/>
            </p:nvGrpSpPr>
            <p:grpSpPr>
              <a:xfrm>
                <a:off x="5807160" y="4820040"/>
                <a:ext cx="1023120" cy="1027440"/>
                <a:chOff x="5807160" y="4820040"/>
                <a:chExt cx="1023120" cy="1027440"/>
              </a:xfrm>
            </p:grpSpPr>
            <p:grpSp>
              <p:nvGrpSpPr>
                <p:cNvPr id="726" name="Group 221"/>
                <p:cNvGrpSpPr/>
                <p:nvPr/>
              </p:nvGrpSpPr>
              <p:grpSpPr>
                <a:xfrm>
                  <a:off x="5807160" y="4820040"/>
                  <a:ext cx="1023120" cy="1027440"/>
                  <a:chOff x="5807160" y="4820040"/>
                  <a:chExt cx="1023120" cy="1027440"/>
                </a:xfrm>
              </p:grpSpPr>
              <p:grpSp>
                <p:nvGrpSpPr>
                  <p:cNvPr id="727" name="Group 222"/>
                  <p:cNvGrpSpPr/>
                  <p:nvPr/>
                </p:nvGrpSpPr>
                <p:grpSpPr>
                  <a:xfrm>
                    <a:off x="6205320" y="5693400"/>
                    <a:ext cx="304200" cy="154080"/>
                    <a:chOff x="6205320" y="5693400"/>
                    <a:chExt cx="304200" cy="154080"/>
                  </a:xfrm>
                </p:grpSpPr>
                <p:sp>
                  <p:nvSpPr>
                    <p:cNvPr id="728" name="Line 223"/>
                    <p:cNvSpPr/>
                    <p:nvPr/>
                  </p:nvSpPr>
                  <p:spPr>
                    <a:xfrm flipH="1">
                      <a:off x="6205320" y="5698440"/>
                      <a:ext cx="9360" cy="147240"/>
                    </a:xfrm>
                    <a:prstGeom prst="line">
                      <a:avLst/>
                    </a:prstGeom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9" name="Line 224"/>
                    <p:cNvSpPr/>
                    <p:nvPr/>
                  </p:nvSpPr>
                  <p:spPr>
                    <a:xfrm flipH="1">
                      <a:off x="6346800" y="5700240"/>
                      <a:ext cx="9720" cy="147240"/>
                    </a:xfrm>
                    <a:prstGeom prst="line">
                      <a:avLst/>
                    </a:prstGeom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0" name="Line 225"/>
                    <p:cNvSpPr/>
                    <p:nvPr/>
                  </p:nvSpPr>
                  <p:spPr>
                    <a:xfrm flipH="1">
                      <a:off x="6500160" y="5693400"/>
                      <a:ext cx="9360" cy="147240"/>
                    </a:xfrm>
                    <a:prstGeom prst="line">
                      <a:avLst/>
                    </a:prstGeom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31" name="Freeform 226"/>
                  <p:cNvSpPr/>
                  <p:nvPr/>
                </p:nvSpPr>
                <p:spPr>
                  <a:xfrm rot="3660000">
                    <a:off x="5940720" y="4956840"/>
                    <a:ext cx="755640" cy="750600"/>
                  </a:xfrm>
                  <a:custGeom>
                    <a:avLst/>
                    <a:gdLst>
                      <a:gd name="textAreaLeft" fmla="*/ 0 w 755640"/>
                      <a:gd name="textAreaRight" fmla="*/ 756000 w 755640"/>
                      <a:gd name="textAreaTop" fmla="*/ 0 h 750600"/>
                      <a:gd name="textAreaBottom" fmla="*/ 750960 h 750600"/>
                    </a:gdLst>
                    <a:ahLst/>
                    <a:rect l="textAreaLeft" t="textAreaTop" r="textAreaRight" b="textAreaBottom"/>
                    <a:pathLst>
                      <a:path w="1400" h="1110">
                        <a:moveTo>
                          <a:pt x="140" y="390"/>
                        </a:moveTo>
                        <a:cubicBezTo>
                          <a:pt x="210" y="480"/>
                          <a:pt x="280" y="570"/>
                          <a:pt x="380" y="570"/>
                        </a:cubicBezTo>
                        <a:cubicBezTo>
                          <a:pt x="480" y="570"/>
                          <a:pt x="620" y="420"/>
                          <a:pt x="740" y="390"/>
                        </a:cubicBezTo>
                        <a:cubicBezTo>
                          <a:pt x="860" y="360"/>
                          <a:pt x="1000" y="360"/>
                          <a:pt x="1100" y="390"/>
                        </a:cubicBezTo>
                        <a:cubicBezTo>
                          <a:pt x="1200" y="420"/>
                          <a:pt x="1300" y="480"/>
                          <a:pt x="1340" y="570"/>
                        </a:cubicBezTo>
                        <a:cubicBezTo>
                          <a:pt x="1380" y="660"/>
                          <a:pt x="1400" y="840"/>
                          <a:pt x="1340" y="930"/>
                        </a:cubicBezTo>
                        <a:cubicBezTo>
                          <a:pt x="1280" y="1020"/>
                          <a:pt x="1100" y="1110"/>
                          <a:pt x="980" y="1110"/>
                        </a:cubicBezTo>
                        <a:cubicBezTo>
                          <a:pt x="860" y="1110"/>
                          <a:pt x="700" y="990"/>
                          <a:pt x="620" y="930"/>
                        </a:cubicBezTo>
                        <a:cubicBezTo>
                          <a:pt x="540" y="870"/>
                          <a:pt x="540" y="840"/>
                          <a:pt x="500" y="750"/>
                        </a:cubicBezTo>
                        <a:cubicBezTo>
                          <a:pt x="460" y="660"/>
                          <a:pt x="400" y="480"/>
                          <a:pt x="380" y="390"/>
                        </a:cubicBezTo>
                        <a:cubicBezTo>
                          <a:pt x="360" y="300"/>
                          <a:pt x="400" y="270"/>
                          <a:pt x="380" y="210"/>
                        </a:cubicBezTo>
                        <a:cubicBezTo>
                          <a:pt x="360" y="150"/>
                          <a:pt x="320" y="60"/>
                          <a:pt x="260" y="30"/>
                        </a:cubicBezTo>
                        <a:cubicBezTo>
                          <a:pt x="200" y="0"/>
                          <a:pt x="40" y="30"/>
                          <a:pt x="20" y="30"/>
                        </a:cubicBezTo>
                        <a:cubicBezTo>
                          <a:pt x="0" y="30"/>
                          <a:pt x="70" y="30"/>
                          <a:pt x="140" y="30"/>
                        </a:cubicBezTo>
                      </a:path>
                    </a:pathLst>
                  </a:custGeom>
                  <a:noFill/>
                  <a:ln w="507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32" name="Text Box 227"/>
                <p:cNvSpPr/>
                <p:nvPr/>
              </p:nvSpPr>
              <p:spPr>
                <a:xfrm>
                  <a:off x="6173640" y="5486400"/>
                  <a:ext cx="304920" cy="112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rmAutofit fontScale="82000"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Arial"/>
                    </a:rPr>
                    <a:t>UAC</a:t>
                  </a:r>
                  <a:endParaRPr b="0" lang="en-US" sz="9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33" name="Group 228"/>
              <p:cNvGrpSpPr/>
              <p:nvPr/>
            </p:nvGrpSpPr>
            <p:grpSpPr>
              <a:xfrm>
                <a:off x="6178320" y="4592160"/>
                <a:ext cx="1023120" cy="1236240"/>
                <a:chOff x="6178320" y="4592160"/>
                <a:chExt cx="1023120" cy="1236240"/>
              </a:xfrm>
            </p:grpSpPr>
            <p:grpSp>
              <p:nvGrpSpPr>
                <p:cNvPr id="734" name="Group 229"/>
                <p:cNvGrpSpPr/>
                <p:nvPr/>
              </p:nvGrpSpPr>
              <p:grpSpPr>
                <a:xfrm>
                  <a:off x="6178320" y="4800600"/>
                  <a:ext cx="1023120" cy="1027800"/>
                  <a:chOff x="6178320" y="4800600"/>
                  <a:chExt cx="1023120" cy="1027800"/>
                </a:xfrm>
              </p:grpSpPr>
              <p:grpSp>
                <p:nvGrpSpPr>
                  <p:cNvPr id="735" name="Group 230"/>
                  <p:cNvGrpSpPr/>
                  <p:nvPr/>
                </p:nvGrpSpPr>
                <p:grpSpPr>
                  <a:xfrm>
                    <a:off x="6576840" y="5674320"/>
                    <a:ext cx="303480" cy="154080"/>
                    <a:chOff x="6576840" y="5674320"/>
                    <a:chExt cx="303480" cy="154080"/>
                  </a:xfrm>
                </p:grpSpPr>
                <p:sp>
                  <p:nvSpPr>
                    <p:cNvPr id="736" name="Line 231"/>
                    <p:cNvSpPr/>
                    <p:nvPr/>
                  </p:nvSpPr>
                  <p:spPr>
                    <a:xfrm flipH="1">
                      <a:off x="6576840" y="5677560"/>
                      <a:ext cx="9720" cy="147240"/>
                    </a:xfrm>
                    <a:prstGeom prst="line">
                      <a:avLst/>
                    </a:prstGeom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7" name="Line 232"/>
                    <p:cNvSpPr/>
                    <p:nvPr/>
                  </p:nvSpPr>
                  <p:spPr>
                    <a:xfrm flipH="1">
                      <a:off x="6719040" y="5681160"/>
                      <a:ext cx="9720" cy="147240"/>
                    </a:xfrm>
                    <a:prstGeom prst="line">
                      <a:avLst/>
                    </a:prstGeom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8" name="Line 233"/>
                    <p:cNvSpPr/>
                    <p:nvPr/>
                  </p:nvSpPr>
                  <p:spPr>
                    <a:xfrm flipH="1">
                      <a:off x="6870600" y="5674320"/>
                      <a:ext cx="9720" cy="147240"/>
                    </a:xfrm>
                    <a:prstGeom prst="line">
                      <a:avLst/>
                    </a:prstGeom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39" name="Freeform 234"/>
                  <p:cNvSpPr/>
                  <p:nvPr/>
                </p:nvSpPr>
                <p:spPr>
                  <a:xfrm rot="3660000">
                    <a:off x="6311880" y="4937760"/>
                    <a:ext cx="756000" cy="750600"/>
                  </a:xfrm>
                  <a:custGeom>
                    <a:avLst/>
                    <a:gdLst>
                      <a:gd name="textAreaLeft" fmla="*/ 0 w 756000"/>
                      <a:gd name="textAreaRight" fmla="*/ 756360 w 756000"/>
                      <a:gd name="textAreaTop" fmla="*/ 0 h 750600"/>
                      <a:gd name="textAreaBottom" fmla="*/ 750960 h 750600"/>
                    </a:gdLst>
                    <a:ahLst/>
                    <a:rect l="textAreaLeft" t="textAreaTop" r="textAreaRight" b="textAreaBottom"/>
                    <a:pathLst>
                      <a:path w="1400" h="1110">
                        <a:moveTo>
                          <a:pt x="140" y="390"/>
                        </a:moveTo>
                        <a:cubicBezTo>
                          <a:pt x="210" y="480"/>
                          <a:pt x="280" y="570"/>
                          <a:pt x="380" y="570"/>
                        </a:cubicBezTo>
                        <a:cubicBezTo>
                          <a:pt x="480" y="570"/>
                          <a:pt x="620" y="420"/>
                          <a:pt x="740" y="390"/>
                        </a:cubicBezTo>
                        <a:cubicBezTo>
                          <a:pt x="860" y="360"/>
                          <a:pt x="1000" y="360"/>
                          <a:pt x="1100" y="390"/>
                        </a:cubicBezTo>
                        <a:cubicBezTo>
                          <a:pt x="1200" y="420"/>
                          <a:pt x="1300" y="480"/>
                          <a:pt x="1340" y="570"/>
                        </a:cubicBezTo>
                        <a:cubicBezTo>
                          <a:pt x="1380" y="660"/>
                          <a:pt x="1400" y="840"/>
                          <a:pt x="1340" y="930"/>
                        </a:cubicBezTo>
                        <a:cubicBezTo>
                          <a:pt x="1280" y="1020"/>
                          <a:pt x="1100" y="1110"/>
                          <a:pt x="980" y="1110"/>
                        </a:cubicBezTo>
                        <a:cubicBezTo>
                          <a:pt x="860" y="1110"/>
                          <a:pt x="700" y="990"/>
                          <a:pt x="620" y="930"/>
                        </a:cubicBezTo>
                        <a:cubicBezTo>
                          <a:pt x="540" y="870"/>
                          <a:pt x="540" y="840"/>
                          <a:pt x="500" y="750"/>
                        </a:cubicBezTo>
                        <a:cubicBezTo>
                          <a:pt x="460" y="660"/>
                          <a:pt x="400" y="480"/>
                          <a:pt x="380" y="390"/>
                        </a:cubicBezTo>
                        <a:cubicBezTo>
                          <a:pt x="360" y="300"/>
                          <a:pt x="400" y="270"/>
                          <a:pt x="380" y="210"/>
                        </a:cubicBezTo>
                        <a:cubicBezTo>
                          <a:pt x="360" y="150"/>
                          <a:pt x="320" y="60"/>
                          <a:pt x="260" y="30"/>
                        </a:cubicBezTo>
                        <a:cubicBezTo>
                          <a:pt x="200" y="0"/>
                          <a:pt x="40" y="30"/>
                          <a:pt x="20" y="30"/>
                        </a:cubicBezTo>
                        <a:cubicBezTo>
                          <a:pt x="0" y="30"/>
                          <a:pt x="70" y="30"/>
                          <a:pt x="140" y="30"/>
                        </a:cubicBezTo>
                      </a:path>
                    </a:pathLst>
                  </a:custGeom>
                  <a:noFill/>
                  <a:ln w="507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40" name="Group 235"/>
                <p:cNvGrpSpPr/>
                <p:nvPr/>
              </p:nvGrpSpPr>
              <p:grpSpPr>
                <a:xfrm>
                  <a:off x="6295320" y="4592160"/>
                  <a:ext cx="536040" cy="489240"/>
                  <a:chOff x="6295320" y="4592160"/>
                  <a:chExt cx="536040" cy="489240"/>
                </a:xfrm>
              </p:grpSpPr>
              <p:sp>
                <p:nvSpPr>
                  <p:cNvPr id="741" name="Oval 236"/>
                  <p:cNvSpPr/>
                  <p:nvPr/>
                </p:nvSpPr>
                <p:spPr>
                  <a:xfrm rot="1320000">
                    <a:off x="6345360" y="4660920"/>
                    <a:ext cx="435960" cy="351360"/>
                  </a:xfrm>
                  <a:prstGeom prst="ellipse">
                    <a:avLst/>
                  </a:prstGeom>
                  <a:solidFill>
                    <a:srgbClr val="c0c0c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2" name="Text Box 237"/>
                  <p:cNvSpPr/>
                  <p:nvPr/>
                </p:nvSpPr>
                <p:spPr>
                  <a:xfrm>
                    <a:off x="6414480" y="4754160"/>
                    <a:ext cx="348840" cy="174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rm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  <a:tab algn="l" pos="10515600"/>
                      </a:tabLst>
                    </a:pPr>
                    <a:r>
                      <a:rPr b="1" lang="en-US" sz="900" spc="-1" strike="noStrike">
                        <a:solidFill>
                          <a:srgbClr val="000000"/>
                        </a:solidFill>
                        <a:latin typeface="Arial"/>
                      </a:rPr>
                      <a:t>AA2</a:t>
                    </a:r>
                    <a:endParaRPr b="0" lang="en-US" sz="9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43" name="Text Box 238"/>
                <p:cNvSpPr/>
                <p:nvPr/>
              </p:nvSpPr>
              <p:spPr>
                <a:xfrm>
                  <a:off x="6543720" y="5464800"/>
                  <a:ext cx="304920" cy="112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744" name="Text Box 239"/>
              <p:cNvSpPr/>
              <p:nvPr/>
            </p:nvSpPr>
            <p:spPr>
              <a:xfrm>
                <a:off x="5607000" y="4365720"/>
                <a:ext cx="55404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N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45" name="Group 242"/>
            <p:cNvGrpSpPr/>
            <p:nvPr/>
          </p:nvGrpSpPr>
          <p:grpSpPr>
            <a:xfrm>
              <a:off x="6145200" y="2205000"/>
              <a:ext cx="2963880" cy="2127960"/>
              <a:chOff x="6145200" y="2205000"/>
              <a:chExt cx="2963880" cy="2127960"/>
            </a:xfrm>
          </p:grpSpPr>
          <p:grpSp>
            <p:nvGrpSpPr>
              <p:cNvPr id="746" name="Group 243"/>
              <p:cNvGrpSpPr/>
              <p:nvPr/>
            </p:nvGrpSpPr>
            <p:grpSpPr>
              <a:xfrm>
                <a:off x="6594480" y="2205000"/>
                <a:ext cx="2514600" cy="2127960"/>
                <a:chOff x="6594480" y="2205000"/>
                <a:chExt cx="2514600" cy="2127960"/>
              </a:xfrm>
            </p:grpSpPr>
            <p:sp>
              <p:nvSpPr>
                <p:cNvPr id="747" name="Text Box 244"/>
                <p:cNvSpPr/>
                <p:nvPr/>
              </p:nvSpPr>
              <p:spPr>
                <a:xfrm>
                  <a:off x="8804160" y="3728880"/>
                  <a:ext cx="304920" cy="115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rmAutofit fontScale="84000"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Arial"/>
                    </a:rPr>
                    <a:t>3’</a:t>
                  </a:r>
                  <a:endParaRPr b="0" lang="en-US" sz="9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8" name="Oval 245"/>
                <p:cNvSpPr/>
                <p:nvPr/>
              </p:nvSpPr>
              <p:spPr>
                <a:xfrm>
                  <a:off x="7203960" y="3060720"/>
                  <a:ext cx="1371600" cy="901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57575"/>
                    </a:gs>
                    <a:gs pos="100000">
                      <a:srgbClr val="ffffff">
                        <a:alpha val="47058"/>
                      </a:srgbClr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9" name="Oval 246"/>
                <p:cNvSpPr/>
                <p:nvPr/>
              </p:nvSpPr>
              <p:spPr>
                <a:xfrm rot="21420000">
                  <a:off x="7202160" y="3849840"/>
                  <a:ext cx="1371600" cy="447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757575"/>
                    </a:gs>
                  </a:gsLst>
                  <a:lin ang="5400000"/>
                </a:gra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750" name="Group 247"/>
                <p:cNvGrpSpPr/>
                <p:nvPr/>
              </p:nvGrpSpPr>
              <p:grpSpPr>
                <a:xfrm>
                  <a:off x="8042400" y="3173400"/>
                  <a:ext cx="303120" cy="1006560"/>
                  <a:chOff x="8042400" y="3173400"/>
                  <a:chExt cx="303120" cy="1006560"/>
                </a:xfrm>
              </p:grpSpPr>
              <p:sp>
                <p:nvSpPr>
                  <p:cNvPr id="751" name="AutoShape 248"/>
                  <p:cNvSpPr/>
                  <p:nvPr/>
                </p:nvSpPr>
                <p:spPr>
                  <a:xfrm>
                    <a:off x="8042400" y="3173400"/>
                    <a:ext cx="303120" cy="1006560"/>
                  </a:xfrm>
                  <a:custGeom>
                    <a:avLst/>
                    <a:gdLst>
                      <a:gd name="textAreaLeft" fmla="*/ 14760 w 303120"/>
                      <a:gd name="textAreaRight" fmla="*/ 288360 w 303120"/>
                      <a:gd name="textAreaTop" fmla="*/ 14760 h 1006560"/>
                      <a:gd name="textAreaBottom" fmla="*/ 991800 h 1006560"/>
                    </a:gdLst>
                    <a:ahLst/>
                    <a:rect l="textAreaLeft" t="textAreaTop" r="textAreaRight" b="textAreaBottom"/>
                    <a:pathLst>
                      <a:path w="21600" h="71667">
                        <a:moveTo>
                          <a:pt x="3600" y="0"/>
                        </a:moveTo>
                        <a:arcTo wR="3600" hR="3600" stAng="16200000" swAng="-5400000"/>
                        <a:lnTo>
                          <a:pt x="0" y="68067"/>
                        </a:lnTo>
                        <a:arcTo wR="3600" hR="3600" stAng="10800000" swAng="-5400000"/>
                        <a:lnTo>
                          <a:pt x="18000" y="71667"/>
                        </a:lnTo>
                        <a:arcTo wR="3600" hR="3600" stAng="5400000" swAng="-5400000"/>
                        <a:lnTo>
                          <a:pt x="21600" y="3600"/>
                        </a:lnTo>
                        <a:arcTo wR="3600" hR="3600" stAng="0" swAng="-5400000"/>
                        <a:close/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2" name="Text Box 249"/>
                  <p:cNvSpPr/>
                  <p:nvPr/>
                </p:nvSpPr>
                <p:spPr>
                  <a:xfrm>
                    <a:off x="8042400" y="3965760"/>
                    <a:ext cx="273240" cy="140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rmAutofit fontScale="77000"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  <a:tab algn="l" pos="105156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A</a:t>
                    </a:r>
                    <a:endParaRPr b="0" lang="en-US" sz="12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53" name="Text Box 250"/>
                <p:cNvSpPr/>
                <p:nvPr/>
              </p:nvSpPr>
              <p:spPr>
                <a:xfrm>
                  <a:off x="6594480" y="3780000"/>
                  <a:ext cx="304920" cy="117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rmAutofit fontScale="86000"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Arial"/>
                    </a:rPr>
                    <a:t>5’</a:t>
                  </a:r>
                  <a:endParaRPr b="0" lang="en-US" sz="9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754" name="Group 251"/>
                <p:cNvGrpSpPr/>
                <p:nvPr/>
              </p:nvGrpSpPr>
              <p:grpSpPr>
                <a:xfrm>
                  <a:off x="7569360" y="3173400"/>
                  <a:ext cx="455400" cy="1041480"/>
                  <a:chOff x="7569360" y="3173400"/>
                  <a:chExt cx="455400" cy="1041480"/>
                </a:xfrm>
              </p:grpSpPr>
              <p:sp>
                <p:nvSpPr>
                  <p:cNvPr id="755" name="AutoShape 252"/>
                  <p:cNvSpPr/>
                  <p:nvPr/>
                </p:nvSpPr>
                <p:spPr>
                  <a:xfrm>
                    <a:off x="7584840" y="3173400"/>
                    <a:ext cx="379080" cy="1041480"/>
                  </a:xfrm>
                  <a:custGeom>
                    <a:avLst/>
                    <a:gdLst>
                      <a:gd name="textAreaLeft" fmla="*/ 18360 w 379080"/>
                      <a:gd name="textAreaRight" fmla="*/ 360720 w 379080"/>
                      <a:gd name="textAreaTop" fmla="*/ 18360 h 1041480"/>
                      <a:gd name="textAreaBottom" fmla="*/ 1023120 h 1041480"/>
                    </a:gdLst>
                    <a:ahLst/>
                    <a:rect l="textAreaLeft" t="textAreaTop" r="textAreaRight" b="textAreaBottom"/>
                    <a:pathLst>
                      <a:path w="21600" h="59308">
                        <a:moveTo>
                          <a:pt x="3600" y="0"/>
                        </a:moveTo>
                        <a:arcTo wR="3600" hR="3600" stAng="16200000" swAng="-5400000"/>
                        <a:lnTo>
                          <a:pt x="0" y="55708"/>
                        </a:lnTo>
                        <a:arcTo wR="3600" hR="3600" stAng="10800000" swAng="-5400000"/>
                        <a:lnTo>
                          <a:pt x="18000" y="59308"/>
                        </a:lnTo>
                        <a:arcTo wR="3600" hR="3600" stAng="5400000" swAng="-5400000"/>
                        <a:lnTo>
                          <a:pt x="21600" y="3600"/>
                        </a:lnTo>
                        <a:arcTo wR="3600" hR="3600" stAng="0" swAng="-5400000"/>
                        <a:close/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6" name="Text Box 253"/>
                  <p:cNvSpPr/>
                  <p:nvPr/>
                </p:nvSpPr>
                <p:spPr>
                  <a:xfrm>
                    <a:off x="7622640" y="4023000"/>
                    <a:ext cx="341640" cy="17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rmAutofit fontScale="94000"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  <a:tab algn="l" pos="105156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P</a:t>
                    </a:r>
                    <a:endParaRPr b="0" lang="en-US" sz="12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7" name="Text Box 254"/>
                  <p:cNvSpPr/>
                  <p:nvPr/>
                </p:nvSpPr>
                <p:spPr>
                  <a:xfrm>
                    <a:off x="7569360" y="3891600"/>
                    <a:ext cx="455400" cy="112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8" name="Group 255"/>
                <p:cNvGrpSpPr/>
                <p:nvPr/>
              </p:nvGrpSpPr>
              <p:grpSpPr>
                <a:xfrm>
                  <a:off x="6823080" y="3705120"/>
                  <a:ext cx="2055960" cy="150480"/>
                  <a:chOff x="6823080" y="3705120"/>
                  <a:chExt cx="2055960" cy="150480"/>
                </a:xfrm>
              </p:grpSpPr>
              <p:grpSp>
                <p:nvGrpSpPr>
                  <p:cNvPr id="759" name="Group 256"/>
                  <p:cNvGrpSpPr/>
                  <p:nvPr/>
                </p:nvGrpSpPr>
                <p:grpSpPr>
                  <a:xfrm>
                    <a:off x="6918120" y="3706560"/>
                    <a:ext cx="187920" cy="140760"/>
                    <a:chOff x="6918120" y="3706560"/>
                    <a:chExt cx="187920" cy="140760"/>
                  </a:xfrm>
                </p:grpSpPr>
                <p:sp>
                  <p:nvSpPr>
                    <p:cNvPr id="760" name="Line 257"/>
                    <p:cNvSpPr/>
                    <p:nvPr/>
                  </p:nvSpPr>
                  <p:spPr>
                    <a:xfrm flipH="1">
                      <a:off x="6918120" y="3714120"/>
                      <a:ext cx="4320" cy="131760"/>
                    </a:xfrm>
                    <a:prstGeom prst="line">
                      <a:avLst/>
                    </a:prstGeom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1" name="Line 258"/>
                    <p:cNvSpPr/>
                    <p:nvPr/>
                  </p:nvSpPr>
                  <p:spPr>
                    <a:xfrm>
                      <a:off x="7008840" y="3715560"/>
                      <a:ext cx="1440" cy="131760"/>
                    </a:xfrm>
                    <a:prstGeom prst="line">
                      <a:avLst/>
                    </a:prstGeom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2" name="Line 259"/>
                    <p:cNvSpPr/>
                    <p:nvPr/>
                  </p:nvSpPr>
                  <p:spPr>
                    <a:xfrm>
                      <a:off x="7104960" y="3706560"/>
                      <a:ext cx="1080" cy="131760"/>
                    </a:xfrm>
                    <a:prstGeom prst="line">
                      <a:avLst/>
                    </a:prstGeom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63" name="Group 260"/>
                  <p:cNvGrpSpPr/>
                  <p:nvPr/>
                </p:nvGrpSpPr>
                <p:grpSpPr>
                  <a:xfrm>
                    <a:off x="7299000" y="3705120"/>
                    <a:ext cx="188280" cy="142920"/>
                    <a:chOff x="7299000" y="3705120"/>
                    <a:chExt cx="188280" cy="142920"/>
                  </a:xfrm>
                </p:grpSpPr>
                <p:sp>
                  <p:nvSpPr>
                    <p:cNvPr id="764" name="Line 261"/>
                    <p:cNvSpPr/>
                    <p:nvPr/>
                  </p:nvSpPr>
                  <p:spPr>
                    <a:xfrm>
                      <a:off x="7299000" y="3715920"/>
                      <a:ext cx="1080" cy="132120"/>
                    </a:xfrm>
                    <a:prstGeom prst="line">
                      <a:avLst/>
                    </a:prstGeom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5" name="Line 262"/>
                    <p:cNvSpPr/>
                    <p:nvPr/>
                  </p:nvSpPr>
                  <p:spPr>
                    <a:xfrm>
                      <a:off x="7388280" y="3715920"/>
                      <a:ext cx="1440" cy="132120"/>
                    </a:xfrm>
                    <a:prstGeom prst="line">
                      <a:avLst/>
                    </a:prstGeom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6" name="Line 263"/>
                    <p:cNvSpPr/>
                    <p:nvPr/>
                  </p:nvSpPr>
                  <p:spPr>
                    <a:xfrm>
                      <a:off x="7486200" y="3705120"/>
                      <a:ext cx="1080" cy="132120"/>
                    </a:xfrm>
                    <a:prstGeom prst="line">
                      <a:avLst/>
                    </a:prstGeom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67" name="Group 264"/>
                  <p:cNvGrpSpPr/>
                  <p:nvPr/>
                </p:nvGrpSpPr>
                <p:grpSpPr>
                  <a:xfrm>
                    <a:off x="7677720" y="3706560"/>
                    <a:ext cx="188640" cy="140760"/>
                    <a:chOff x="7677720" y="3706560"/>
                    <a:chExt cx="188640" cy="140760"/>
                  </a:xfrm>
                </p:grpSpPr>
                <p:sp>
                  <p:nvSpPr>
                    <p:cNvPr id="768" name="Line 265"/>
                    <p:cNvSpPr/>
                    <p:nvPr/>
                  </p:nvSpPr>
                  <p:spPr>
                    <a:xfrm flipH="1">
                      <a:off x="7677720" y="3714120"/>
                      <a:ext cx="4680" cy="131760"/>
                    </a:xfrm>
                    <a:prstGeom prst="line">
                      <a:avLst/>
                    </a:prstGeom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9" name="Line 266"/>
                    <p:cNvSpPr/>
                    <p:nvPr/>
                  </p:nvSpPr>
                  <p:spPr>
                    <a:xfrm>
                      <a:off x="7769880" y="3715560"/>
                      <a:ext cx="1080" cy="131760"/>
                    </a:xfrm>
                    <a:prstGeom prst="line">
                      <a:avLst/>
                    </a:prstGeom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0" name="Line 267"/>
                    <p:cNvSpPr/>
                    <p:nvPr/>
                  </p:nvSpPr>
                  <p:spPr>
                    <a:xfrm flipH="1">
                      <a:off x="7862040" y="3706560"/>
                      <a:ext cx="4320" cy="131760"/>
                    </a:xfrm>
                    <a:prstGeom prst="line">
                      <a:avLst/>
                    </a:prstGeom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71" name="Group 268"/>
                  <p:cNvGrpSpPr/>
                  <p:nvPr/>
                </p:nvGrpSpPr>
                <p:grpSpPr>
                  <a:xfrm>
                    <a:off x="8058600" y="3708000"/>
                    <a:ext cx="191160" cy="139320"/>
                    <a:chOff x="8058600" y="3708000"/>
                    <a:chExt cx="191160" cy="139320"/>
                  </a:xfrm>
                </p:grpSpPr>
                <p:sp>
                  <p:nvSpPr>
                    <p:cNvPr id="772" name="Line 269"/>
                    <p:cNvSpPr/>
                    <p:nvPr/>
                  </p:nvSpPr>
                  <p:spPr>
                    <a:xfrm flipH="1">
                      <a:off x="8058600" y="3712320"/>
                      <a:ext cx="5760" cy="132120"/>
                    </a:xfrm>
                    <a:prstGeom prst="line">
                      <a:avLst/>
                    </a:prstGeom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3" name="Line 270"/>
                    <p:cNvSpPr/>
                    <p:nvPr/>
                  </p:nvSpPr>
                  <p:spPr>
                    <a:xfrm flipH="1">
                      <a:off x="8148240" y="3715560"/>
                      <a:ext cx="5760" cy="131760"/>
                    </a:xfrm>
                    <a:prstGeom prst="line">
                      <a:avLst/>
                    </a:prstGeom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4" name="Line 271"/>
                    <p:cNvSpPr/>
                    <p:nvPr/>
                  </p:nvSpPr>
                  <p:spPr>
                    <a:xfrm flipH="1">
                      <a:off x="8243640" y="3708000"/>
                      <a:ext cx="6120" cy="131760"/>
                    </a:xfrm>
                    <a:prstGeom prst="line">
                      <a:avLst/>
                    </a:prstGeom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75" name="Line 272"/>
                  <p:cNvSpPr/>
                  <p:nvPr/>
                </p:nvSpPr>
                <p:spPr>
                  <a:xfrm>
                    <a:off x="6823080" y="3854520"/>
                    <a:ext cx="2055960" cy="1080"/>
                  </a:xfrm>
                  <a:prstGeom prst="line">
                    <a:avLst/>
                  </a:prstGeom>
                  <a:ln w="475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76" name="Group 273"/>
                  <p:cNvGrpSpPr/>
                  <p:nvPr/>
                </p:nvGrpSpPr>
                <p:grpSpPr>
                  <a:xfrm>
                    <a:off x="8438760" y="3708000"/>
                    <a:ext cx="191520" cy="139320"/>
                    <a:chOff x="8438760" y="3708000"/>
                    <a:chExt cx="191520" cy="139320"/>
                  </a:xfrm>
                </p:grpSpPr>
                <p:sp>
                  <p:nvSpPr>
                    <p:cNvPr id="777" name="Line 274"/>
                    <p:cNvSpPr/>
                    <p:nvPr/>
                  </p:nvSpPr>
                  <p:spPr>
                    <a:xfrm flipH="1">
                      <a:off x="8438760" y="3712320"/>
                      <a:ext cx="6120" cy="132120"/>
                    </a:xfrm>
                    <a:prstGeom prst="line">
                      <a:avLst/>
                    </a:prstGeom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8" name="Line 275"/>
                    <p:cNvSpPr/>
                    <p:nvPr/>
                  </p:nvSpPr>
                  <p:spPr>
                    <a:xfrm flipH="1">
                      <a:off x="8528760" y="3715560"/>
                      <a:ext cx="5760" cy="131760"/>
                    </a:xfrm>
                    <a:prstGeom prst="line">
                      <a:avLst/>
                    </a:prstGeom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9" name="Line 276"/>
                    <p:cNvSpPr/>
                    <p:nvPr/>
                  </p:nvSpPr>
                  <p:spPr>
                    <a:xfrm flipH="1">
                      <a:off x="8624160" y="3708000"/>
                      <a:ext cx="6120" cy="131760"/>
                    </a:xfrm>
                    <a:prstGeom prst="line">
                      <a:avLst/>
                    </a:prstGeom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780" name="Group 277"/>
                <p:cNvGrpSpPr/>
                <p:nvPr/>
              </p:nvGrpSpPr>
              <p:grpSpPr>
                <a:xfrm>
                  <a:off x="6667560" y="2205000"/>
                  <a:ext cx="1595160" cy="1463040"/>
                  <a:chOff x="6667560" y="2205000"/>
                  <a:chExt cx="1595160" cy="1463040"/>
                </a:xfrm>
              </p:grpSpPr>
              <p:grpSp>
                <p:nvGrpSpPr>
                  <p:cNvPr id="781" name="Group 278"/>
                  <p:cNvGrpSpPr/>
                  <p:nvPr/>
                </p:nvGrpSpPr>
                <p:grpSpPr>
                  <a:xfrm>
                    <a:off x="7050960" y="2215800"/>
                    <a:ext cx="536040" cy="489600"/>
                    <a:chOff x="7050960" y="2215800"/>
                    <a:chExt cx="536040" cy="489600"/>
                  </a:xfrm>
                </p:grpSpPr>
                <p:sp>
                  <p:nvSpPr>
                    <p:cNvPr id="782" name="Oval 279"/>
                    <p:cNvSpPr/>
                    <p:nvPr/>
                  </p:nvSpPr>
                  <p:spPr>
                    <a:xfrm rot="1320000">
                      <a:off x="7100640" y="2284560"/>
                      <a:ext cx="435960" cy="352080"/>
                    </a:xfrm>
                    <a:prstGeom prst="ellipse">
                      <a:avLst/>
                    </a:prstGeom>
                    <a:solidFill>
                      <a:srgbClr val="c0c0c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83" name="Text Box 280"/>
                    <p:cNvSpPr/>
                    <p:nvPr/>
                  </p:nvSpPr>
                  <p:spPr>
                    <a:xfrm>
                      <a:off x="7170120" y="2378160"/>
                      <a:ext cx="348840" cy="1746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rm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Met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84" name="Group 281"/>
                  <p:cNvGrpSpPr/>
                  <p:nvPr/>
                </p:nvGrpSpPr>
                <p:grpSpPr>
                  <a:xfrm>
                    <a:off x="7238880" y="2431440"/>
                    <a:ext cx="1023840" cy="1236600"/>
                    <a:chOff x="7238880" y="2431440"/>
                    <a:chExt cx="1023840" cy="1236600"/>
                  </a:xfrm>
                </p:grpSpPr>
                <p:grpSp>
                  <p:nvGrpSpPr>
                    <p:cNvPr id="785" name="Group 282"/>
                    <p:cNvGrpSpPr/>
                    <p:nvPr/>
                  </p:nvGrpSpPr>
                  <p:grpSpPr>
                    <a:xfrm>
                      <a:off x="7238880" y="2640600"/>
                      <a:ext cx="1023840" cy="1027440"/>
                      <a:chOff x="7238880" y="2640600"/>
                      <a:chExt cx="1023840" cy="1027440"/>
                    </a:xfrm>
                  </p:grpSpPr>
                  <p:grpSp>
                    <p:nvGrpSpPr>
                      <p:cNvPr id="786" name="Group 283"/>
                      <p:cNvGrpSpPr/>
                      <p:nvPr/>
                    </p:nvGrpSpPr>
                    <p:grpSpPr>
                      <a:xfrm>
                        <a:off x="7637040" y="3513600"/>
                        <a:ext cx="303840" cy="154440"/>
                        <a:chOff x="7637040" y="3513600"/>
                        <a:chExt cx="303840" cy="154440"/>
                      </a:xfrm>
                    </p:grpSpPr>
                    <p:sp>
                      <p:nvSpPr>
                        <p:cNvPr id="787" name="Line 284"/>
                        <p:cNvSpPr/>
                        <p:nvPr/>
                      </p:nvSpPr>
                      <p:spPr>
                        <a:xfrm flipH="1">
                          <a:off x="7637040" y="3518280"/>
                          <a:ext cx="9360" cy="146160"/>
                        </a:xfrm>
                        <a:prstGeom prst="line">
                          <a:avLst/>
                        </a:prstGeom>
                        <a:ln w="507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8" name="Line 285"/>
                        <p:cNvSpPr/>
                        <p:nvPr/>
                      </p:nvSpPr>
                      <p:spPr>
                        <a:xfrm flipH="1">
                          <a:off x="7779600" y="3521880"/>
                          <a:ext cx="9360" cy="146160"/>
                        </a:xfrm>
                        <a:prstGeom prst="line">
                          <a:avLst/>
                        </a:prstGeom>
                        <a:ln w="507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9" name="Line 286"/>
                        <p:cNvSpPr/>
                        <p:nvPr/>
                      </p:nvSpPr>
                      <p:spPr>
                        <a:xfrm flipH="1">
                          <a:off x="7931160" y="3513600"/>
                          <a:ext cx="9720" cy="146160"/>
                        </a:xfrm>
                        <a:prstGeom prst="line">
                          <a:avLst/>
                        </a:prstGeom>
                        <a:ln w="507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790" name="Freeform 287"/>
                      <p:cNvSpPr/>
                      <p:nvPr/>
                    </p:nvSpPr>
                    <p:spPr>
                      <a:xfrm rot="3660000">
                        <a:off x="7371720" y="2778480"/>
                        <a:ext cx="757800" cy="750240"/>
                      </a:xfrm>
                      <a:custGeom>
                        <a:avLst/>
                        <a:gdLst>
                          <a:gd name="textAreaLeft" fmla="*/ 0 w 757800"/>
                          <a:gd name="textAreaRight" fmla="*/ 758160 w 757800"/>
                          <a:gd name="textAreaTop" fmla="*/ 0 h 750240"/>
                          <a:gd name="textAreaBottom" fmla="*/ 750600 h 750240"/>
                        </a:gdLst>
                        <a:ahLst/>
                        <a:rect l="textAreaLeft" t="textAreaTop" r="textAreaRight" b="textAreaBottom"/>
                        <a:pathLst>
                          <a:path w="1400" h="1110">
                            <a:moveTo>
                              <a:pt x="140" y="390"/>
                            </a:moveTo>
                            <a:cubicBezTo>
                              <a:pt x="210" y="480"/>
                              <a:pt x="280" y="570"/>
                              <a:pt x="380" y="570"/>
                            </a:cubicBezTo>
                            <a:cubicBezTo>
                              <a:pt x="480" y="570"/>
                              <a:pt x="620" y="420"/>
                              <a:pt x="740" y="390"/>
                            </a:cubicBezTo>
                            <a:cubicBezTo>
                              <a:pt x="860" y="360"/>
                              <a:pt x="1000" y="360"/>
                              <a:pt x="1100" y="390"/>
                            </a:cubicBezTo>
                            <a:cubicBezTo>
                              <a:pt x="1200" y="420"/>
                              <a:pt x="1300" y="480"/>
                              <a:pt x="1340" y="570"/>
                            </a:cubicBezTo>
                            <a:cubicBezTo>
                              <a:pt x="1380" y="660"/>
                              <a:pt x="1400" y="840"/>
                              <a:pt x="1340" y="930"/>
                            </a:cubicBezTo>
                            <a:cubicBezTo>
                              <a:pt x="1280" y="1020"/>
                              <a:pt x="1100" y="1110"/>
                              <a:pt x="980" y="1110"/>
                            </a:cubicBezTo>
                            <a:cubicBezTo>
                              <a:pt x="860" y="1110"/>
                              <a:pt x="700" y="990"/>
                              <a:pt x="620" y="930"/>
                            </a:cubicBezTo>
                            <a:cubicBezTo>
                              <a:pt x="540" y="870"/>
                              <a:pt x="540" y="840"/>
                              <a:pt x="500" y="750"/>
                            </a:cubicBezTo>
                            <a:cubicBezTo>
                              <a:pt x="460" y="660"/>
                              <a:pt x="400" y="480"/>
                              <a:pt x="380" y="390"/>
                            </a:cubicBezTo>
                            <a:cubicBezTo>
                              <a:pt x="360" y="300"/>
                              <a:pt x="400" y="270"/>
                              <a:pt x="380" y="210"/>
                            </a:cubicBezTo>
                            <a:cubicBezTo>
                              <a:pt x="360" y="150"/>
                              <a:pt x="320" y="60"/>
                              <a:pt x="260" y="30"/>
                            </a:cubicBezTo>
                            <a:cubicBezTo>
                              <a:pt x="200" y="0"/>
                              <a:pt x="40" y="30"/>
                              <a:pt x="20" y="30"/>
                            </a:cubicBezTo>
                            <a:cubicBezTo>
                              <a:pt x="0" y="30"/>
                              <a:pt x="70" y="30"/>
                              <a:pt x="140" y="30"/>
                            </a:cubicBezTo>
                          </a:path>
                        </a:pathLst>
                      </a:custGeom>
                      <a:noFill/>
                      <a:ln w="507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791" name="Group 288"/>
                    <p:cNvGrpSpPr/>
                    <p:nvPr/>
                  </p:nvGrpSpPr>
                  <p:grpSpPr>
                    <a:xfrm>
                      <a:off x="7355520" y="2431440"/>
                      <a:ext cx="536400" cy="489960"/>
                      <a:chOff x="7355520" y="2431440"/>
                      <a:chExt cx="536400" cy="489960"/>
                    </a:xfrm>
                  </p:grpSpPr>
                  <p:sp>
                    <p:nvSpPr>
                      <p:cNvPr id="792" name="Oval 289"/>
                      <p:cNvSpPr/>
                      <p:nvPr/>
                    </p:nvSpPr>
                    <p:spPr>
                      <a:xfrm rot="1320000">
                        <a:off x="7405200" y="2500200"/>
                        <a:ext cx="436320" cy="352080"/>
                      </a:xfrm>
                      <a:prstGeom prst="ellipse">
                        <a:avLst/>
                      </a:prstGeom>
                      <a:solidFill>
                        <a:srgbClr val="c0c0c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93" name="Text Box 290"/>
                      <p:cNvSpPr/>
                      <p:nvPr/>
                    </p:nvSpPr>
                    <p:spPr>
                      <a:xfrm>
                        <a:off x="7474680" y="2593440"/>
                        <a:ext cx="348840" cy="1749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0" anchor="t">
                        <a:norm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  <a:tab algn="l" pos="10515600"/>
                          </a:tabLst>
                        </a:pPr>
                        <a:r>
                          <a:rPr b="1" lang="en-US" sz="9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AA2</a:t>
                        </a:r>
                        <a:endParaRPr b="0" lang="en-US" sz="9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794" name="Text Box 291"/>
                    <p:cNvSpPr/>
                    <p:nvPr/>
                  </p:nvSpPr>
                  <p:spPr>
                    <a:xfrm>
                      <a:off x="7604280" y="3305160"/>
                      <a:ext cx="304560" cy="1126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95" name="Text Box 292"/>
                  <p:cNvSpPr/>
                  <p:nvPr/>
                </p:nvSpPr>
                <p:spPr>
                  <a:xfrm>
                    <a:off x="6667560" y="2205000"/>
                    <a:ext cx="554040" cy="33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  <a:tab algn="l" pos="105156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Arial"/>
                      </a:rPr>
                      <a:t>NH</a:t>
                    </a:r>
                    <a:r>
                      <a:rPr b="0" lang="en-US" sz="1400" spc="-1" strike="noStrike" baseline="-25000">
                        <a:solidFill>
                          <a:srgbClr val="000000"/>
                        </a:solidFill>
                        <a:latin typeface="Arial"/>
                      </a:rPr>
                      <a:t>2</a:t>
                    </a: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Arial"/>
                      </a:rPr>
                      <a:t>-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796" name="Text Box 293"/>
              <p:cNvSpPr/>
              <p:nvPr/>
            </p:nvSpPr>
            <p:spPr>
              <a:xfrm>
                <a:off x="7164360" y="3890880"/>
                <a:ext cx="4572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rmAutofit fontScale="63000"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AUG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797" name="Group 294"/>
              <p:cNvGrpSpPr/>
              <p:nvPr/>
            </p:nvGrpSpPr>
            <p:grpSpPr>
              <a:xfrm>
                <a:off x="6145200" y="2529720"/>
                <a:ext cx="960840" cy="915840"/>
                <a:chOff x="6145200" y="2529720"/>
                <a:chExt cx="960840" cy="915840"/>
              </a:xfrm>
            </p:grpSpPr>
            <p:grpSp>
              <p:nvGrpSpPr>
                <p:cNvPr id="798" name="Group 295"/>
                <p:cNvGrpSpPr/>
                <p:nvPr/>
              </p:nvGrpSpPr>
              <p:grpSpPr>
                <a:xfrm>
                  <a:off x="6145200" y="2529720"/>
                  <a:ext cx="960840" cy="915840"/>
                  <a:chOff x="6145200" y="2529720"/>
                  <a:chExt cx="960840" cy="915840"/>
                </a:xfrm>
              </p:grpSpPr>
              <p:grpSp>
                <p:nvGrpSpPr>
                  <p:cNvPr id="799" name="Group 296"/>
                  <p:cNvGrpSpPr/>
                  <p:nvPr/>
                </p:nvGrpSpPr>
                <p:grpSpPr>
                  <a:xfrm>
                    <a:off x="6793560" y="3177000"/>
                    <a:ext cx="259920" cy="268560"/>
                    <a:chOff x="6793560" y="3177000"/>
                    <a:chExt cx="259920" cy="268560"/>
                  </a:xfrm>
                </p:grpSpPr>
                <p:sp>
                  <p:nvSpPr>
                    <p:cNvPr id="800" name="Line 297"/>
                    <p:cNvSpPr/>
                    <p:nvPr/>
                  </p:nvSpPr>
                  <p:spPr>
                    <a:xfrm>
                      <a:off x="6793560" y="3314880"/>
                      <a:ext cx="88920" cy="130680"/>
                    </a:xfrm>
                    <a:prstGeom prst="line">
                      <a:avLst/>
                    </a:prstGeom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01" name="Line 298"/>
                    <p:cNvSpPr/>
                    <p:nvPr/>
                  </p:nvSpPr>
                  <p:spPr>
                    <a:xfrm>
                      <a:off x="6878880" y="3253680"/>
                      <a:ext cx="91080" cy="130320"/>
                    </a:xfrm>
                    <a:prstGeom prst="line">
                      <a:avLst/>
                    </a:prstGeom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02" name="Line 299"/>
                    <p:cNvSpPr/>
                    <p:nvPr/>
                  </p:nvSpPr>
                  <p:spPr>
                    <a:xfrm>
                      <a:off x="6964200" y="3177000"/>
                      <a:ext cx="89280" cy="130680"/>
                    </a:xfrm>
                    <a:prstGeom prst="line">
                      <a:avLst/>
                    </a:prstGeom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03" name="Freeform 300"/>
                  <p:cNvSpPr/>
                  <p:nvPr/>
                </p:nvSpPr>
                <p:spPr>
                  <a:xfrm rot="1440000">
                    <a:off x="6224400" y="2668320"/>
                    <a:ext cx="802080" cy="560880"/>
                  </a:xfrm>
                  <a:custGeom>
                    <a:avLst/>
                    <a:gdLst>
                      <a:gd name="textAreaLeft" fmla="*/ 0 w 802080"/>
                      <a:gd name="textAreaRight" fmla="*/ 802440 w 802080"/>
                      <a:gd name="textAreaTop" fmla="*/ 0 h 560880"/>
                      <a:gd name="textAreaBottom" fmla="*/ 561240 h 560880"/>
                    </a:gdLst>
                    <a:ahLst/>
                    <a:rect l="textAreaLeft" t="textAreaTop" r="textAreaRight" b="textAreaBottom"/>
                    <a:pathLst>
                      <a:path w="1400" h="1110">
                        <a:moveTo>
                          <a:pt x="140" y="390"/>
                        </a:moveTo>
                        <a:cubicBezTo>
                          <a:pt x="210" y="480"/>
                          <a:pt x="280" y="570"/>
                          <a:pt x="380" y="570"/>
                        </a:cubicBezTo>
                        <a:cubicBezTo>
                          <a:pt x="480" y="570"/>
                          <a:pt x="620" y="420"/>
                          <a:pt x="740" y="390"/>
                        </a:cubicBezTo>
                        <a:cubicBezTo>
                          <a:pt x="860" y="360"/>
                          <a:pt x="1000" y="360"/>
                          <a:pt x="1100" y="390"/>
                        </a:cubicBezTo>
                        <a:cubicBezTo>
                          <a:pt x="1200" y="420"/>
                          <a:pt x="1300" y="480"/>
                          <a:pt x="1340" y="570"/>
                        </a:cubicBezTo>
                        <a:cubicBezTo>
                          <a:pt x="1380" y="660"/>
                          <a:pt x="1400" y="840"/>
                          <a:pt x="1340" y="930"/>
                        </a:cubicBezTo>
                        <a:cubicBezTo>
                          <a:pt x="1280" y="1020"/>
                          <a:pt x="1100" y="1110"/>
                          <a:pt x="980" y="1110"/>
                        </a:cubicBezTo>
                        <a:cubicBezTo>
                          <a:pt x="860" y="1110"/>
                          <a:pt x="700" y="990"/>
                          <a:pt x="620" y="930"/>
                        </a:cubicBezTo>
                        <a:cubicBezTo>
                          <a:pt x="540" y="870"/>
                          <a:pt x="540" y="840"/>
                          <a:pt x="500" y="750"/>
                        </a:cubicBezTo>
                        <a:cubicBezTo>
                          <a:pt x="460" y="660"/>
                          <a:pt x="400" y="480"/>
                          <a:pt x="380" y="390"/>
                        </a:cubicBezTo>
                        <a:cubicBezTo>
                          <a:pt x="360" y="300"/>
                          <a:pt x="400" y="270"/>
                          <a:pt x="380" y="210"/>
                        </a:cubicBezTo>
                        <a:cubicBezTo>
                          <a:pt x="360" y="150"/>
                          <a:pt x="320" y="60"/>
                          <a:pt x="260" y="30"/>
                        </a:cubicBezTo>
                        <a:cubicBezTo>
                          <a:pt x="200" y="0"/>
                          <a:pt x="40" y="30"/>
                          <a:pt x="20" y="30"/>
                        </a:cubicBezTo>
                        <a:cubicBezTo>
                          <a:pt x="0" y="30"/>
                          <a:pt x="70" y="30"/>
                          <a:pt x="140" y="30"/>
                        </a:cubicBezTo>
                      </a:path>
                    </a:pathLst>
                  </a:custGeom>
                  <a:noFill/>
                  <a:ln w="507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04" name="Text Box 301"/>
                <p:cNvSpPr/>
                <p:nvPr/>
              </p:nvSpPr>
              <p:spPr>
                <a:xfrm rot="19380000">
                  <a:off x="6590880" y="3103200"/>
                  <a:ext cx="304920" cy="112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Arial"/>
                    </a:rPr>
                    <a:t>UAC</a:t>
                  </a:r>
                  <a:endParaRPr b="0" lang="en-US" sz="9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05" name="Group 302"/>
            <p:cNvGrpSpPr/>
            <p:nvPr/>
          </p:nvGrpSpPr>
          <p:grpSpPr>
            <a:xfrm>
              <a:off x="6730920" y="3139920"/>
              <a:ext cx="2223720" cy="2736720"/>
              <a:chOff x="6730920" y="3139920"/>
              <a:chExt cx="2223720" cy="2736720"/>
            </a:xfrm>
          </p:grpSpPr>
          <p:sp>
            <p:nvSpPr>
              <p:cNvPr id="806" name="AutoShape 303"/>
              <p:cNvSpPr/>
              <p:nvPr/>
            </p:nvSpPr>
            <p:spPr>
              <a:xfrm flipV="1">
                <a:off x="6730920" y="3139920"/>
                <a:ext cx="1441440" cy="2594160"/>
              </a:xfrm>
              <a:custGeom>
                <a:avLst/>
                <a:gdLst>
                  <a:gd name="textAreaLeft" fmla="*/ 720720 w 1441440"/>
                  <a:gd name="textAreaRight" fmla="*/ 1441800 w 1441440"/>
                  <a:gd name="textAreaTop" fmla="*/ 360 h 2594160"/>
                  <a:gd name="textAreaBottom" fmla="*/ 1297440 h 25941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0818" y="0"/>
                    </a:moveTo>
                    <a:cubicBezTo>
                      <a:pt x="16776" y="10"/>
                      <a:pt x="21600" y="4842"/>
                      <a:pt x="21600" y="10800"/>
                    </a:cubicBezTo>
                    <a:lnTo>
                      <a:pt x="10800" y="10800"/>
                    </a:lnTo>
                    <a:lnTo>
                      <a:pt x="10818" y="0"/>
                    </a:lnTo>
                    <a:close/>
                  </a:path>
                  <a:path fill="none" w="21600" h="21600">
                    <a:moveTo>
                      <a:pt x="10818" y="0"/>
                    </a:moveTo>
                    <a:cubicBezTo>
                      <a:pt x="16776" y="10"/>
                      <a:pt x="21600" y="4842"/>
                      <a:pt x="21600" y="1080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Text Box 304"/>
              <p:cNvSpPr/>
              <p:nvPr/>
            </p:nvSpPr>
            <p:spPr>
              <a:xfrm>
                <a:off x="6944040" y="4797360"/>
                <a:ext cx="12200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i="1" lang="en-US" sz="1400" spc="-1" strike="noStrike">
                    <a:solidFill>
                      <a:srgbClr val="ff0000"/>
                    </a:solidFill>
                    <a:latin typeface="Arial"/>
                  </a:rPr>
                  <a:t>Translocasa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AutoShape 305"/>
              <p:cNvSpPr/>
              <p:nvPr/>
            </p:nvSpPr>
            <p:spPr>
              <a:xfrm flipH="1" rot="900000">
                <a:off x="8017560" y="4911480"/>
                <a:ext cx="838080" cy="871560"/>
              </a:xfrm>
              <a:custGeom>
                <a:avLst/>
                <a:gdLst>
                  <a:gd name="textAreaLeft" fmla="*/ 419400 w 838080"/>
                  <a:gd name="textAreaRight" fmla="*/ 838800 w 838080"/>
                  <a:gd name="textAreaTop" fmla="*/ 71280 h 871560"/>
                  <a:gd name="textAreaBottom" fmla="*/ 733680 h 8715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538" y="1651"/>
                    </a:moveTo>
                    <a:cubicBezTo>
                      <a:pt x="19688" y="3626"/>
                      <a:pt x="21600" y="7082"/>
                      <a:pt x="21600" y="10800"/>
                    </a:cubicBezTo>
                    <a:cubicBezTo>
                      <a:pt x="21600" y="13556"/>
                      <a:pt x="20546" y="16208"/>
                      <a:pt x="18654" y="18212"/>
                    </a:cubicBezTo>
                    <a:lnTo>
                      <a:pt x="10800" y="10800"/>
                    </a:lnTo>
                    <a:lnTo>
                      <a:pt x="16538" y="1651"/>
                    </a:lnTo>
                    <a:close/>
                  </a:path>
                  <a:path fill="none" w="21600" h="21600">
                    <a:moveTo>
                      <a:pt x="16538" y="1651"/>
                    </a:moveTo>
                    <a:cubicBezTo>
                      <a:pt x="19688" y="3626"/>
                      <a:pt x="21600" y="7082"/>
                      <a:pt x="21600" y="10800"/>
                    </a:cubicBezTo>
                    <a:cubicBezTo>
                      <a:pt x="21600" y="13556"/>
                      <a:pt x="20546" y="16208"/>
                      <a:pt x="18654" y="18212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Text Box 306"/>
              <p:cNvSpPr/>
              <p:nvPr/>
            </p:nvSpPr>
            <p:spPr>
              <a:xfrm>
                <a:off x="7819920" y="5500800"/>
                <a:ext cx="546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GTP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Text Box 307"/>
              <p:cNvSpPr/>
              <p:nvPr/>
            </p:nvSpPr>
            <p:spPr>
              <a:xfrm>
                <a:off x="8245440" y="4797360"/>
                <a:ext cx="5662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GDP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+ Pi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cxnSp>
        <p:nvCxnSpPr>
          <p:cNvPr id="811" name="Conector recto de flecha 2"/>
          <p:cNvCxnSpPr/>
          <p:nvPr/>
        </p:nvCxnSpPr>
        <p:spPr>
          <a:xfrm flipV="1">
            <a:off x="7203960" y="5806440"/>
            <a:ext cx="997920" cy="13320"/>
          </a:xfrm>
          <a:prstGeom prst="straightConnector1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</p:cxn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"/>
          <p:cNvSpPr/>
          <p:nvPr/>
        </p:nvSpPr>
        <p:spPr>
          <a:xfrm>
            <a:off x="1619280" y="189000"/>
            <a:ext cx="61927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Traducción de Proteín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Alargamiento de la cadena peptídi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13" name="Picture 2" descr="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468360" y="5607000"/>
            <a:ext cx="5057640" cy="774720"/>
          </a:xfrm>
          <a:prstGeom prst="rect">
            <a:avLst/>
          </a:prstGeom>
          <a:ln w="0">
            <a:noFill/>
          </a:ln>
        </p:spPr>
      </p:pic>
      <p:grpSp>
        <p:nvGrpSpPr>
          <p:cNvPr id="814" name="Group 179"/>
          <p:cNvGrpSpPr/>
          <p:nvPr/>
        </p:nvGrpSpPr>
        <p:grpSpPr>
          <a:xfrm>
            <a:off x="1512720" y="1052640"/>
            <a:ext cx="6012000" cy="4461840"/>
            <a:chOff x="1512720" y="1052640"/>
            <a:chExt cx="6012000" cy="4461840"/>
          </a:xfrm>
        </p:grpSpPr>
        <p:sp>
          <p:nvSpPr>
            <p:cNvPr id="815" name="Text Box 4"/>
            <p:cNvSpPr/>
            <p:nvPr/>
          </p:nvSpPr>
          <p:spPr>
            <a:xfrm>
              <a:off x="1512720" y="1143000"/>
              <a:ext cx="1295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6" name="Rectangle 6"/>
            <p:cNvSpPr/>
            <p:nvPr/>
          </p:nvSpPr>
          <p:spPr>
            <a:xfrm>
              <a:off x="1809720" y="1052640"/>
              <a:ext cx="5715000" cy="37717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17" name="Group 7"/>
            <p:cNvGrpSpPr/>
            <p:nvPr/>
          </p:nvGrpSpPr>
          <p:grpSpPr>
            <a:xfrm>
              <a:off x="2038320" y="1622520"/>
              <a:ext cx="2370240" cy="2697840"/>
              <a:chOff x="2038320" y="1622520"/>
              <a:chExt cx="2370240" cy="2697840"/>
            </a:xfrm>
          </p:grpSpPr>
          <p:sp>
            <p:nvSpPr>
              <p:cNvPr id="818" name="AutoShape 8"/>
              <p:cNvSpPr/>
              <p:nvPr/>
            </p:nvSpPr>
            <p:spPr>
              <a:xfrm flipH="1" rot="4200000">
                <a:off x="2952360" y="3502800"/>
                <a:ext cx="761040" cy="685800"/>
              </a:xfrm>
              <a:custGeom>
                <a:avLst/>
                <a:gdLst>
                  <a:gd name="textAreaLeft" fmla="*/ 379800 w 761040"/>
                  <a:gd name="textAreaRight" fmla="*/ 761400 w 761040"/>
                  <a:gd name="textAreaTop" fmla="*/ 0 h 685800"/>
                  <a:gd name="textAreaBottom" fmla="*/ 343080 h 68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0799" y="0"/>
                    </a:moveTo>
                    <a:cubicBezTo>
                      <a:pt x="10799" y="0"/>
                      <a:pt x="10799" y="-1"/>
                      <a:pt x="10800" y="0"/>
                    </a:cubicBezTo>
                    <a:cubicBezTo>
                      <a:pt x="16764" y="0"/>
                      <a:pt x="21600" y="4835"/>
                      <a:pt x="21600" y="10800"/>
                    </a:cubicBezTo>
                    <a:lnTo>
                      <a:pt x="10800" y="10800"/>
                    </a:lnTo>
                    <a:lnTo>
                      <a:pt x="10799" y="0"/>
                    </a:lnTo>
                    <a:close/>
                  </a:path>
                  <a:path fill="none" w="21600" h="21600">
                    <a:moveTo>
                      <a:pt x="10799" y="0"/>
                    </a:moveTo>
                    <a:cubicBezTo>
                      <a:pt x="10799" y="0"/>
                      <a:pt x="10799" y="-1"/>
                      <a:pt x="10800" y="0"/>
                    </a:cubicBezTo>
                    <a:cubicBezTo>
                      <a:pt x="16764" y="0"/>
                      <a:pt x="21600" y="4835"/>
                      <a:pt x="21600" y="10800"/>
                    </a:cubicBezTo>
                  </a:path>
                </a:pathLst>
              </a:custGeom>
              <a:noFill/>
              <a:ln w="158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819" name="Group 9"/>
              <p:cNvGrpSpPr/>
              <p:nvPr/>
            </p:nvGrpSpPr>
            <p:grpSpPr>
              <a:xfrm>
                <a:off x="2190600" y="2195640"/>
                <a:ext cx="2217960" cy="1472040"/>
                <a:chOff x="2190600" y="2195640"/>
                <a:chExt cx="2217960" cy="1472040"/>
              </a:xfrm>
            </p:grpSpPr>
            <p:grpSp>
              <p:nvGrpSpPr>
                <p:cNvPr id="820" name="Group 10"/>
                <p:cNvGrpSpPr/>
                <p:nvPr/>
              </p:nvGrpSpPr>
              <p:grpSpPr>
                <a:xfrm>
                  <a:off x="2368080" y="2831760"/>
                  <a:ext cx="752400" cy="653400"/>
                  <a:chOff x="2368080" y="2831760"/>
                  <a:chExt cx="752400" cy="653400"/>
                </a:xfrm>
              </p:grpSpPr>
              <p:grpSp>
                <p:nvGrpSpPr>
                  <p:cNvPr id="821" name="Group 11"/>
                  <p:cNvGrpSpPr/>
                  <p:nvPr/>
                </p:nvGrpSpPr>
                <p:grpSpPr>
                  <a:xfrm>
                    <a:off x="2915280" y="3259080"/>
                    <a:ext cx="205200" cy="226080"/>
                    <a:chOff x="2915280" y="3259080"/>
                    <a:chExt cx="205200" cy="226080"/>
                  </a:xfrm>
                </p:grpSpPr>
                <p:sp>
                  <p:nvSpPr>
                    <p:cNvPr id="822" name="Line 12"/>
                    <p:cNvSpPr/>
                    <p:nvPr/>
                  </p:nvSpPr>
                  <p:spPr>
                    <a:xfrm>
                      <a:off x="2915280" y="3394440"/>
                      <a:ext cx="88200" cy="90720"/>
                    </a:xfrm>
                    <a:prstGeom prst="line">
                      <a:avLst/>
                    </a:prstGeom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3920" bIns="43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23" name="Line 13"/>
                    <p:cNvSpPr/>
                    <p:nvPr/>
                  </p:nvSpPr>
                  <p:spPr>
                    <a:xfrm>
                      <a:off x="2975040" y="3332160"/>
                      <a:ext cx="88560" cy="90720"/>
                    </a:xfrm>
                    <a:prstGeom prst="line">
                      <a:avLst/>
                    </a:prstGeom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3920" bIns="43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24" name="Line 14"/>
                    <p:cNvSpPr/>
                    <p:nvPr/>
                  </p:nvSpPr>
                  <p:spPr>
                    <a:xfrm>
                      <a:off x="3031920" y="3259080"/>
                      <a:ext cx="88560" cy="90720"/>
                    </a:xfrm>
                    <a:prstGeom prst="line">
                      <a:avLst/>
                    </a:prstGeom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3920" bIns="43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25" name="Freeform 15"/>
                  <p:cNvSpPr/>
                  <p:nvPr/>
                </p:nvSpPr>
                <p:spPr>
                  <a:xfrm rot="840000">
                    <a:off x="2413080" y="2903040"/>
                    <a:ext cx="647280" cy="452880"/>
                  </a:xfrm>
                  <a:custGeom>
                    <a:avLst/>
                    <a:gdLst>
                      <a:gd name="textAreaLeft" fmla="*/ 0 w 647280"/>
                      <a:gd name="textAreaRight" fmla="*/ 647640 w 647280"/>
                      <a:gd name="textAreaTop" fmla="*/ 0 h 452880"/>
                      <a:gd name="textAreaBottom" fmla="*/ 453240 h 452880"/>
                    </a:gdLst>
                    <a:ahLst/>
                    <a:rect l="textAreaLeft" t="textAreaTop" r="textAreaRight" b="textAreaBottom"/>
                    <a:pathLst>
                      <a:path w="1400" h="1110">
                        <a:moveTo>
                          <a:pt x="140" y="390"/>
                        </a:moveTo>
                        <a:cubicBezTo>
                          <a:pt x="210" y="480"/>
                          <a:pt x="280" y="570"/>
                          <a:pt x="380" y="570"/>
                        </a:cubicBezTo>
                        <a:cubicBezTo>
                          <a:pt x="480" y="570"/>
                          <a:pt x="620" y="420"/>
                          <a:pt x="740" y="390"/>
                        </a:cubicBezTo>
                        <a:cubicBezTo>
                          <a:pt x="860" y="360"/>
                          <a:pt x="1000" y="360"/>
                          <a:pt x="1100" y="390"/>
                        </a:cubicBezTo>
                        <a:cubicBezTo>
                          <a:pt x="1200" y="420"/>
                          <a:pt x="1300" y="480"/>
                          <a:pt x="1340" y="570"/>
                        </a:cubicBezTo>
                        <a:cubicBezTo>
                          <a:pt x="1380" y="660"/>
                          <a:pt x="1400" y="840"/>
                          <a:pt x="1340" y="930"/>
                        </a:cubicBezTo>
                        <a:cubicBezTo>
                          <a:pt x="1280" y="1020"/>
                          <a:pt x="1100" y="1110"/>
                          <a:pt x="980" y="1110"/>
                        </a:cubicBezTo>
                        <a:cubicBezTo>
                          <a:pt x="860" y="1110"/>
                          <a:pt x="700" y="990"/>
                          <a:pt x="620" y="930"/>
                        </a:cubicBezTo>
                        <a:cubicBezTo>
                          <a:pt x="540" y="870"/>
                          <a:pt x="540" y="840"/>
                          <a:pt x="500" y="750"/>
                        </a:cubicBezTo>
                        <a:cubicBezTo>
                          <a:pt x="460" y="660"/>
                          <a:pt x="400" y="480"/>
                          <a:pt x="380" y="390"/>
                        </a:cubicBezTo>
                        <a:cubicBezTo>
                          <a:pt x="360" y="300"/>
                          <a:pt x="400" y="270"/>
                          <a:pt x="380" y="210"/>
                        </a:cubicBezTo>
                        <a:cubicBezTo>
                          <a:pt x="360" y="150"/>
                          <a:pt x="320" y="60"/>
                          <a:pt x="260" y="30"/>
                        </a:cubicBezTo>
                        <a:cubicBezTo>
                          <a:pt x="200" y="0"/>
                          <a:pt x="40" y="30"/>
                          <a:pt x="20" y="30"/>
                        </a:cubicBezTo>
                        <a:cubicBezTo>
                          <a:pt x="0" y="30"/>
                          <a:pt x="70" y="30"/>
                          <a:pt x="140" y="30"/>
                        </a:cubicBezTo>
                      </a:path>
                    </a:pathLst>
                  </a:custGeom>
                  <a:noFill/>
                  <a:ln w="507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26" name="Group 16"/>
                <p:cNvGrpSpPr/>
                <p:nvPr/>
              </p:nvGrpSpPr>
              <p:grpSpPr>
                <a:xfrm>
                  <a:off x="3385080" y="2596680"/>
                  <a:ext cx="1023480" cy="1071000"/>
                  <a:chOff x="3385080" y="2596680"/>
                  <a:chExt cx="1023480" cy="1071000"/>
                </a:xfrm>
              </p:grpSpPr>
              <p:grpSp>
                <p:nvGrpSpPr>
                  <p:cNvPr id="827" name="Group 17"/>
                  <p:cNvGrpSpPr/>
                  <p:nvPr/>
                </p:nvGrpSpPr>
                <p:grpSpPr>
                  <a:xfrm>
                    <a:off x="3385080" y="2596680"/>
                    <a:ext cx="1023480" cy="1071000"/>
                    <a:chOff x="3385080" y="2596680"/>
                    <a:chExt cx="1023480" cy="1071000"/>
                  </a:xfrm>
                </p:grpSpPr>
                <p:grpSp>
                  <p:nvGrpSpPr>
                    <p:cNvPr id="828" name="Group 18"/>
                    <p:cNvGrpSpPr/>
                    <p:nvPr/>
                  </p:nvGrpSpPr>
                  <p:grpSpPr>
                    <a:xfrm>
                      <a:off x="3975480" y="3417480"/>
                      <a:ext cx="264960" cy="250200"/>
                      <a:chOff x="3975480" y="3417480"/>
                      <a:chExt cx="264960" cy="250200"/>
                    </a:xfrm>
                  </p:grpSpPr>
                  <p:sp>
                    <p:nvSpPr>
                      <p:cNvPr id="829" name="Line 19"/>
                      <p:cNvSpPr/>
                      <p:nvPr/>
                    </p:nvSpPr>
                    <p:spPr>
                      <a:xfrm>
                        <a:off x="3975480" y="3510720"/>
                        <a:ext cx="56520" cy="156960"/>
                      </a:xfrm>
                      <a:prstGeom prst="line">
                        <a:avLst/>
                      </a:prstGeom>
                      <a:ln w="507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30" name="Line 20"/>
                      <p:cNvSpPr/>
                      <p:nvPr/>
                    </p:nvSpPr>
                    <p:spPr>
                      <a:xfrm>
                        <a:off x="4077720" y="3471480"/>
                        <a:ext cx="56520" cy="157320"/>
                      </a:xfrm>
                      <a:prstGeom prst="line">
                        <a:avLst/>
                      </a:prstGeom>
                      <a:ln w="507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31" name="Line 21"/>
                      <p:cNvSpPr/>
                      <p:nvPr/>
                    </p:nvSpPr>
                    <p:spPr>
                      <a:xfrm>
                        <a:off x="4183920" y="3417480"/>
                        <a:ext cx="56520" cy="156960"/>
                      </a:xfrm>
                      <a:prstGeom prst="line">
                        <a:avLst/>
                      </a:prstGeom>
                      <a:ln w="507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832" name="Freeform 22"/>
                    <p:cNvSpPr/>
                    <p:nvPr/>
                  </p:nvSpPr>
                  <p:spPr>
                    <a:xfrm rot="2340000">
                      <a:off x="3476160" y="2795400"/>
                      <a:ext cx="840960" cy="588240"/>
                    </a:xfrm>
                    <a:custGeom>
                      <a:avLst/>
                      <a:gdLst>
                        <a:gd name="textAreaLeft" fmla="*/ 0 w 840960"/>
                        <a:gd name="textAreaRight" fmla="*/ 841320 w 840960"/>
                        <a:gd name="textAreaTop" fmla="*/ 0 h 588240"/>
                        <a:gd name="textAreaBottom" fmla="*/ 588600 h 588240"/>
                      </a:gdLst>
                      <a:ahLst/>
                      <a:rect l="textAreaLeft" t="textAreaTop" r="textAreaRight" b="textAreaBottom"/>
                      <a:pathLst>
                        <a:path w="1400" h="1110">
                          <a:moveTo>
                            <a:pt x="140" y="390"/>
                          </a:moveTo>
                          <a:cubicBezTo>
                            <a:pt x="210" y="480"/>
                            <a:pt x="280" y="570"/>
                            <a:pt x="380" y="570"/>
                          </a:cubicBezTo>
                          <a:cubicBezTo>
                            <a:pt x="480" y="570"/>
                            <a:pt x="620" y="420"/>
                            <a:pt x="740" y="390"/>
                          </a:cubicBezTo>
                          <a:cubicBezTo>
                            <a:pt x="860" y="360"/>
                            <a:pt x="1000" y="360"/>
                            <a:pt x="1100" y="390"/>
                          </a:cubicBezTo>
                          <a:cubicBezTo>
                            <a:pt x="1200" y="420"/>
                            <a:pt x="1300" y="480"/>
                            <a:pt x="1340" y="570"/>
                          </a:cubicBezTo>
                          <a:cubicBezTo>
                            <a:pt x="1380" y="660"/>
                            <a:pt x="1400" y="840"/>
                            <a:pt x="1340" y="930"/>
                          </a:cubicBezTo>
                          <a:cubicBezTo>
                            <a:pt x="1280" y="1020"/>
                            <a:pt x="1100" y="1110"/>
                            <a:pt x="980" y="1110"/>
                          </a:cubicBezTo>
                          <a:cubicBezTo>
                            <a:pt x="860" y="1110"/>
                            <a:pt x="700" y="990"/>
                            <a:pt x="620" y="930"/>
                          </a:cubicBezTo>
                          <a:cubicBezTo>
                            <a:pt x="540" y="870"/>
                            <a:pt x="540" y="840"/>
                            <a:pt x="500" y="750"/>
                          </a:cubicBezTo>
                          <a:cubicBezTo>
                            <a:pt x="460" y="660"/>
                            <a:pt x="400" y="480"/>
                            <a:pt x="380" y="390"/>
                          </a:cubicBezTo>
                          <a:cubicBezTo>
                            <a:pt x="360" y="300"/>
                            <a:pt x="400" y="270"/>
                            <a:pt x="380" y="210"/>
                          </a:cubicBezTo>
                          <a:cubicBezTo>
                            <a:pt x="360" y="150"/>
                            <a:pt x="320" y="60"/>
                            <a:pt x="260" y="30"/>
                          </a:cubicBezTo>
                          <a:cubicBezTo>
                            <a:pt x="200" y="0"/>
                            <a:pt x="40" y="30"/>
                            <a:pt x="20" y="30"/>
                          </a:cubicBezTo>
                          <a:cubicBezTo>
                            <a:pt x="0" y="30"/>
                            <a:pt x="70" y="30"/>
                            <a:pt x="140" y="30"/>
                          </a:cubicBezTo>
                        </a:path>
                      </a:pathLst>
                    </a:custGeom>
                    <a:noFill/>
                    <a:ln w="507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33" name="Oval 23"/>
                  <p:cNvSpPr/>
                  <p:nvPr/>
                </p:nvSpPr>
                <p:spPr>
                  <a:xfrm>
                    <a:off x="3397320" y="2652840"/>
                    <a:ext cx="380880" cy="228960"/>
                  </a:xfrm>
                  <a:prstGeom prst="ellipse">
                    <a:avLst/>
                  </a:prstGeom>
                  <a:solidFill>
                    <a:srgbClr val="c0c0c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34" name="Oval 24"/>
                <p:cNvSpPr/>
                <p:nvPr/>
              </p:nvSpPr>
              <p:spPr>
                <a:xfrm>
                  <a:off x="3105000" y="2538360"/>
                  <a:ext cx="381240" cy="228600"/>
                </a:xfrm>
                <a:prstGeom prst="ellipse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5" name="Oval 25"/>
                <p:cNvSpPr/>
                <p:nvPr/>
              </p:nvSpPr>
              <p:spPr>
                <a:xfrm>
                  <a:off x="2800440" y="2422440"/>
                  <a:ext cx="380880" cy="228600"/>
                </a:xfrm>
                <a:prstGeom prst="ellipse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6" name="Oval 26"/>
                <p:cNvSpPr/>
                <p:nvPr/>
              </p:nvSpPr>
              <p:spPr>
                <a:xfrm>
                  <a:off x="2495520" y="2309760"/>
                  <a:ext cx="380880" cy="228600"/>
                </a:xfrm>
                <a:prstGeom prst="ellipse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7" name="Oval 27"/>
                <p:cNvSpPr/>
                <p:nvPr/>
              </p:nvSpPr>
              <p:spPr>
                <a:xfrm>
                  <a:off x="2190600" y="2195640"/>
                  <a:ext cx="381240" cy="228600"/>
                </a:xfrm>
                <a:prstGeom prst="ellipse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8" name="Text Box 28"/>
                <p:cNvSpPr/>
                <p:nvPr/>
              </p:nvSpPr>
              <p:spPr>
                <a:xfrm>
                  <a:off x="3430440" y="2701800"/>
                  <a:ext cx="304920" cy="114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rmAutofit fontScale="83000"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Arial"/>
                    </a:rPr>
                    <a:t>Ala</a:t>
                  </a:r>
                  <a:endParaRPr b="0" lang="en-US" sz="9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9" name="Text Box 29"/>
                <p:cNvSpPr/>
                <p:nvPr/>
              </p:nvSpPr>
              <p:spPr>
                <a:xfrm>
                  <a:off x="3138480" y="2583000"/>
                  <a:ext cx="304920" cy="1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rmAutofit fontScale="83000"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Arial"/>
                    </a:rPr>
                    <a:t>Val</a:t>
                  </a:r>
                  <a:endParaRPr b="0" lang="en-US" sz="9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0" name="Text Box 30"/>
                <p:cNvSpPr/>
                <p:nvPr/>
              </p:nvSpPr>
              <p:spPr>
                <a:xfrm>
                  <a:off x="2817720" y="2473200"/>
                  <a:ext cx="304920" cy="114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rmAutofit fontScale="83000"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Arial"/>
                    </a:rPr>
                    <a:t>Val</a:t>
                  </a:r>
                  <a:endParaRPr b="0" lang="en-US" sz="9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1" name="Text Box 31"/>
                <p:cNvSpPr/>
                <p:nvPr/>
              </p:nvSpPr>
              <p:spPr>
                <a:xfrm>
                  <a:off x="2516040" y="2382840"/>
                  <a:ext cx="304920" cy="1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rmAutofit fontScale="83000"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Arial"/>
                    </a:rPr>
                    <a:t>Leu</a:t>
                  </a:r>
                  <a:endParaRPr b="0" lang="en-US" sz="9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2" name="Text Box 32"/>
                <p:cNvSpPr/>
                <p:nvPr/>
              </p:nvSpPr>
              <p:spPr>
                <a:xfrm>
                  <a:off x="2205000" y="2235240"/>
                  <a:ext cx="304920" cy="1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rmAutofit fontScale="83000"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Arial"/>
                    </a:rPr>
                    <a:t>fMet</a:t>
                  </a:r>
                  <a:endParaRPr b="0" lang="en-US" sz="9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843" name="Text Box 33"/>
              <p:cNvSpPr/>
              <p:nvPr/>
            </p:nvSpPr>
            <p:spPr>
              <a:xfrm>
                <a:off x="2038320" y="1622520"/>
                <a:ext cx="1143000" cy="57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Cadena polipeptídica en formación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Text Box 34"/>
              <p:cNvSpPr/>
              <p:nvPr/>
            </p:nvSpPr>
            <p:spPr>
              <a:xfrm>
                <a:off x="2038320" y="2995560"/>
                <a:ext cx="60948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rmAutofit fontScale="83000"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tARN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45" name="Group 35"/>
            <p:cNvGrpSpPr/>
            <p:nvPr/>
          </p:nvGrpSpPr>
          <p:grpSpPr>
            <a:xfrm>
              <a:off x="3717720" y="1835280"/>
              <a:ext cx="1118880" cy="1190520"/>
              <a:chOff x="3717720" y="1835280"/>
              <a:chExt cx="1118880" cy="1190520"/>
            </a:xfrm>
          </p:grpSpPr>
          <p:grpSp>
            <p:nvGrpSpPr>
              <p:cNvPr id="846" name="Group 36"/>
              <p:cNvGrpSpPr/>
              <p:nvPr/>
            </p:nvGrpSpPr>
            <p:grpSpPr>
              <a:xfrm>
                <a:off x="3717720" y="1835280"/>
                <a:ext cx="1118880" cy="1190520"/>
                <a:chOff x="3717720" y="1835280"/>
                <a:chExt cx="1118880" cy="1190520"/>
              </a:xfrm>
            </p:grpSpPr>
            <p:grpSp>
              <p:nvGrpSpPr>
                <p:cNvPr id="847" name="Group 37"/>
                <p:cNvGrpSpPr/>
                <p:nvPr/>
              </p:nvGrpSpPr>
              <p:grpSpPr>
                <a:xfrm>
                  <a:off x="3717720" y="1910880"/>
                  <a:ext cx="1118880" cy="1114920"/>
                  <a:chOff x="3717720" y="1910880"/>
                  <a:chExt cx="1118880" cy="1114920"/>
                </a:xfrm>
              </p:grpSpPr>
              <p:grpSp>
                <p:nvGrpSpPr>
                  <p:cNvPr id="848" name="Group 38"/>
                  <p:cNvGrpSpPr/>
                  <p:nvPr/>
                </p:nvGrpSpPr>
                <p:grpSpPr>
                  <a:xfrm>
                    <a:off x="4241880" y="2824560"/>
                    <a:ext cx="340920" cy="187560"/>
                    <a:chOff x="4241880" y="2824560"/>
                    <a:chExt cx="340920" cy="187560"/>
                  </a:xfrm>
                </p:grpSpPr>
                <p:sp>
                  <p:nvSpPr>
                    <p:cNvPr id="849" name="Line 39"/>
                    <p:cNvSpPr/>
                    <p:nvPr/>
                  </p:nvSpPr>
                  <p:spPr>
                    <a:xfrm>
                      <a:off x="4241880" y="2859840"/>
                      <a:ext cx="26280" cy="152280"/>
                    </a:xfrm>
                    <a:prstGeom prst="line">
                      <a:avLst/>
                    </a:prstGeom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50" name="Line 40"/>
                    <p:cNvSpPr/>
                    <p:nvPr/>
                  </p:nvSpPr>
                  <p:spPr>
                    <a:xfrm>
                      <a:off x="4393440" y="2847240"/>
                      <a:ext cx="27000" cy="152280"/>
                    </a:xfrm>
                    <a:prstGeom prst="line">
                      <a:avLst/>
                    </a:prstGeom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51" name="Line 41"/>
                    <p:cNvSpPr/>
                    <p:nvPr/>
                  </p:nvSpPr>
                  <p:spPr>
                    <a:xfrm>
                      <a:off x="4555800" y="2824560"/>
                      <a:ext cx="27000" cy="152280"/>
                    </a:xfrm>
                    <a:prstGeom prst="line">
                      <a:avLst/>
                    </a:prstGeom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52" name="Freeform 42"/>
                  <p:cNvSpPr/>
                  <p:nvPr/>
                </p:nvSpPr>
                <p:spPr>
                  <a:xfrm rot="3180000">
                    <a:off x="3883320" y="2064600"/>
                    <a:ext cx="787680" cy="807120"/>
                  </a:xfrm>
                  <a:custGeom>
                    <a:avLst/>
                    <a:gdLst>
                      <a:gd name="textAreaLeft" fmla="*/ 0 w 787680"/>
                      <a:gd name="textAreaRight" fmla="*/ 788040 w 787680"/>
                      <a:gd name="textAreaTop" fmla="*/ 0 h 807120"/>
                      <a:gd name="textAreaBottom" fmla="*/ 807480 h 807120"/>
                    </a:gdLst>
                    <a:ahLst/>
                    <a:rect l="textAreaLeft" t="textAreaTop" r="textAreaRight" b="textAreaBottom"/>
                    <a:pathLst>
                      <a:path w="1400" h="1110">
                        <a:moveTo>
                          <a:pt x="140" y="390"/>
                        </a:moveTo>
                        <a:cubicBezTo>
                          <a:pt x="210" y="480"/>
                          <a:pt x="280" y="570"/>
                          <a:pt x="380" y="570"/>
                        </a:cubicBezTo>
                        <a:cubicBezTo>
                          <a:pt x="480" y="570"/>
                          <a:pt x="620" y="420"/>
                          <a:pt x="740" y="390"/>
                        </a:cubicBezTo>
                        <a:cubicBezTo>
                          <a:pt x="860" y="360"/>
                          <a:pt x="1000" y="360"/>
                          <a:pt x="1100" y="390"/>
                        </a:cubicBezTo>
                        <a:cubicBezTo>
                          <a:pt x="1200" y="420"/>
                          <a:pt x="1300" y="480"/>
                          <a:pt x="1340" y="570"/>
                        </a:cubicBezTo>
                        <a:cubicBezTo>
                          <a:pt x="1380" y="660"/>
                          <a:pt x="1400" y="840"/>
                          <a:pt x="1340" y="930"/>
                        </a:cubicBezTo>
                        <a:cubicBezTo>
                          <a:pt x="1280" y="1020"/>
                          <a:pt x="1100" y="1110"/>
                          <a:pt x="980" y="1110"/>
                        </a:cubicBezTo>
                        <a:cubicBezTo>
                          <a:pt x="860" y="1110"/>
                          <a:pt x="700" y="990"/>
                          <a:pt x="620" y="930"/>
                        </a:cubicBezTo>
                        <a:cubicBezTo>
                          <a:pt x="540" y="870"/>
                          <a:pt x="540" y="840"/>
                          <a:pt x="500" y="750"/>
                        </a:cubicBezTo>
                        <a:cubicBezTo>
                          <a:pt x="460" y="660"/>
                          <a:pt x="400" y="480"/>
                          <a:pt x="380" y="390"/>
                        </a:cubicBezTo>
                        <a:cubicBezTo>
                          <a:pt x="360" y="300"/>
                          <a:pt x="400" y="270"/>
                          <a:pt x="380" y="210"/>
                        </a:cubicBezTo>
                        <a:cubicBezTo>
                          <a:pt x="360" y="150"/>
                          <a:pt x="320" y="60"/>
                          <a:pt x="260" y="30"/>
                        </a:cubicBezTo>
                        <a:cubicBezTo>
                          <a:pt x="200" y="0"/>
                          <a:pt x="40" y="30"/>
                          <a:pt x="20" y="30"/>
                        </a:cubicBezTo>
                        <a:cubicBezTo>
                          <a:pt x="0" y="30"/>
                          <a:pt x="70" y="30"/>
                          <a:pt x="140" y="30"/>
                        </a:cubicBezTo>
                      </a:path>
                    </a:pathLst>
                  </a:custGeom>
                  <a:noFill/>
                  <a:ln w="507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53" name="Oval 43"/>
                <p:cNvSpPr/>
                <p:nvPr/>
              </p:nvSpPr>
              <p:spPr>
                <a:xfrm rot="840000">
                  <a:off x="3887280" y="1878120"/>
                  <a:ext cx="384840" cy="237240"/>
                </a:xfrm>
                <a:prstGeom prst="ellipse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4" name="Text Box 44"/>
              <p:cNvSpPr/>
              <p:nvPr/>
            </p:nvSpPr>
            <p:spPr>
              <a:xfrm>
                <a:off x="3949560" y="1967040"/>
                <a:ext cx="304920" cy="11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rmAutofit fontScale="83000"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Gli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55" name="Group 45"/>
            <p:cNvGrpSpPr/>
            <p:nvPr/>
          </p:nvGrpSpPr>
          <p:grpSpPr>
            <a:xfrm>
              <a:off x="5364000" y="1166760"/>
              <a:ext cx="1932120" cy="571680"/>
              <a:chOff x="5364000" y="1166760"/>
              <a:chExt cx="1932120" cy="571680"/>
            </a:xfrm>
          </p:grpSpPr>
          <p:sp>
            <p:nvSpPr>
              <p:cNvPr id="856" name="Oval 46"/>
              <p:cNvSpPr/>
              <p:nvPr/>
            </p:nvSpPr>
            <p:spPr>
              <a:xfrm>
                <a:off x="6458040" y="1166760"/>
                <a:ext cx="380880" cy="228600"/>
              </a:xfrm>
              <a:prstGeom prst="ellipse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Oval 47"/>
              <p:cNvSpPr/>
              <p:nvPr/>
            </p:nvSpPr>
            <p:spPr>
              <a:xfrm>
                <a:off x="6458040" y="1509840"/>
                <a:ext cx="380880" cy="228600"/>
              </a:xfrm>
              <a:prstGeom prst="ellipse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Oval 48"/>
              <p:cNvSpPr/>
              <p:nvPr/>
            </p:nvSpPr>
            <p:spPr>
              <a:xfrm>
                <a:off x="6915240" y="1281240"/>
                <a:ext cx="380880" cy="228600"/>
              </a:xfrm>
              <a:prstGeom prst="ellipse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Text Box 49"/>
              <p:cNvSpPr/>
              <p:nvPr/>
            </p:nvSpPr>
            <p:spPr>
              <a:xfrm>
                <a:off x="5364000" y="1268280"/>
                <a:ext cx="1067040" cy="34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rmAutofit fontScale="94000"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Aminoácidos libres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60" name="Group 50"/>
            <p:cNvGrpSpPr/>
            <p:nvPr/>
          </p:nvGrpSpPr>
          <p:grpSpPr>
            <a:xfrm>
              <a:off x="5695920" y="1798200"/>
              <a:ext cx="1445760" cy="1195560"/>
              <a:chOff x="5695920" y="1798200"/>
              <a:chExt cx="1445760" cy="1195560"/>
            </a:xfrm>
          </p:grpSpPr>
          <p:grpSp>
            <p:nvGrpSpPr>
              <p:cNvPr id="861" name="Group 51"/>
              <p:cNvGrpSpPr/>
              <p:nvPr/>
            </p:nvGrpSpPr>
            <p:grpSpPr>
              <a:xfrm>
                <a:off x="5900760" y="1798200"/>
                <a:ext cx="1022400" cy="1068120"/>
                <a:chOff x="5900760" y="1798200"/>
                <a:chExt cx="1022400" cy="1068120"/>
              </a:xfrm>
            </p:grpSpPr>
            <p:grpSp>
              <p:nvGrpSpPr>
                <p:cNvPr id="862" name="Group 52"/>
                <p:cNvGrpSpPr/>
                <p:nvPr/>
              </p:nvGrpSpPr>
              <p:grpSpPr>
                <a:xfrm>
                  <a:off x="6490440" y="2616120"/>
                  <a:ext cx="264960" cy="250200"/>
                  <a:chOff x="6490440" y="2616120"/>
                  <a:chExt cx="264960" cy="250200"/>
                </a:xfrm>
              </p:grpSpPr>
              <p:sp>
                <p:nvSpPr>
                  <p:cNvPr id="863" name="Line 53"/>
                  <p:cNvSpPr/>
                  <p:nvPr/>
                </p:nvSpPr>
                <p:spPr>
                  <a:xfrm>
                    <a:off x="6490440" y="2709000"/>
                    <a:ext cx="56520" cy="15732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4" name="Line 54"/>
                  <p:cNvSpPr/>
                  <p:nvPr/>
                </p:nvSpPr>
                <p:spPr>
                  <a:xfrm>
                    <a:off x="6592680" y="2670120"/>
                    <a:ext cx="56520" cy="15732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5" name="Line 55"/>
                  <p:cNvSpPr/>
                  <p:nvPr/>
                </p:nvSpPr>
                <p:spPr>
                  <a:xfrm>
                    <a:off x="6698880" y="2616120"/>
                    <a:ext cx="56520" cy="15732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66" name="Freeform 56"/>
                <p:cNvSpPr/>
                <p:nvPr/>
              </p:nvSpPr>
              <p:spPr>
                <a:xfrm rot="2340000">
                  <a:off x="5991840" y="1996920"/>
                  <a:ext cx="839880" cy="587520"/>
                </a:xfrm>
                <a:custGeom>
                  <a:avLst/>
                  <a:gdLst>
                    <a:gd name="textAreaLeft" fmla="*/ 0 w 839880"/>
                    <a:gd name="textAreaRight" fmla="*/ 840240 w 839880"/>
                    <a:gd name="textAreaTop" fmla="*/ 0 h 587520"/>
                    <a:gd name="textAreaBottom" fmla="*/ 587880 h 587520"/>
                  </a:gdLst>
                  <a:ahLst/>
                  <a:rect l="textAreaLeft" t="textAreaTop" r="textAreaRight" b="textAreaBottom"/>
                  <a:pathLst>
                    <a:path w="1400" h="1110">
                      <a:moveTo>
                        <a:pt x="140" y="390"/>
                      </a:moveTo>
                      <a:cubicBezTo>
                        <a:pt x="210" y="480"/>
                        <a:pt x="280" y="570"/>
                        <a:pt x="380" y="570"/>
                      </a:cubicBezTo>
                      <a:cubicBezTo>
                        <a:pt x="480" y="570"/>
                        <a:pt x="620" y="420"/>
                        <a:pt x="740" y="390"/>
                      </a:cubicBezTo>
                      <a:cubicBezTo>
                        <a:pt x="860" y="360"/>
                        <a:pt x="1000" y="360"/>
                        <a:pt x="1100" y="390"/>
                      </a:cubicBezTo>
                      <a:cubicBezTo>
                        <a:pt x="1200" y="420"/>
                        <a:pt x="1300" y="480"/>
                        <a:pt x="1340" y="570"/>
                      </a:cubicBezTo>
                      <a:cubicBezTo>
                        <a:pt x="1380" y="660"/>
                        <a:pt x="1400" y="840"/>
                        <a:pt x="1340" y="930"/>
                      </a:cubicBezTo>
                      <a:cubicBezTo>
                        <a:pt x="1280" y="1020"/>
                        <a:pt x="1100" y="1110"/>
                        <a:pt x="980" y="1110"/>
                      </a:cubicBezTo>
                      <a:cubicBezTo>
                        <a:pt x="860" y="1110"/>
                        <a:pt x="700" y="990"/>
                        <a:pt x="620" y="930"/>
                      </a:cubicBezTo>
                      <a:cubicBezTo>
                        <a:pt x="540" y="870"/>
                        <a:pt x="540" y="840"/>
                        <a:pt x="500" y="750"/>
                      </a:cubicBezTo>
                      <a:cubicBezTo>
                        <a:pt x="460" y="660"/>
                        <a:pt x="400" y="480"/>
                        <a:pt x="380" y="390"/>
                      </a:cubicBezTo>
                      <a:cubicBezTo>
                        <a:pt x="360" y="300"/>
                        <a:pt x="400" y="270"/>
                        <a:pt x="380" y="210"/>
                      </a:cubicBezTo>
                      <a:cubicBezTo>
                        <a:pt x="360" y="150"/>
                        <a:pt x="320" y="60"/>
                        <a:pt x="260" y="30"/>
                      </a:cubicBezTo>
                      <a:cubicBezTo>
                        <a:pt x="200" y="0"/>
                        <a:pt x="40" y="30"/>
                        <a:pt x="20" y="30"/>
                      </a:cubicBezTo>
                      <a:cubicBezTo>
                        <a:pt x="0" y="30"/>
                        <a:pt x="70" y="30"/>
                        <a:pt x="140" y="30"/>
                      </a:cubicBezTo>
                    </a:path>
                  </a:pathLst>
                </a:custGeom>
                <a:noFill/>
                <a:ln w="507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867" name="Text Box 57"/>
              <p:cNvSpPr/>
              <p:nvPr/>
            </p:nvSpPr>
            <p:spPr>
              <a:xfrm>
                <a:off x="5695920" y="2080800"/>
                <a:ext cx="608400" cy="11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rmAutofit fontScale="83000"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tARN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8" name="Text Box 58"/>
              <p:cNvSpPr/>
              <p:nvPr/>
            </p:nvSpPr>
            <p:spPr>
              <a:xfrm>
                <a:off x="6532920" y="2880000"/>
                <a:ext cx="608760" cy="113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rmAutofit fontScale="83000"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nticodón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9" name="AutoShape 59"/>
              <p:cNvSpPr/>
              <p:nvPr/>
            </p:nvSpPr>
            <p:spPr>
              <a:xfrm rot="4260000">
                <a:off x="6542640" y="2642760"/>
                <a:ext cx="90360" cy="335880"/>
              </a:xfrm>
              <a:custGeom>
                <a:avLst/>
                <a:gdLst>
                  <a:gd name="textAreaLeft" fmla="*/ 0 w 90360"/>
                  <a:gd name="textAreaRight" fmla="*/ 63360 w 90360"/>
                  <a:gd name="textAreaTop" fmla="*/ 20880 h 335880"/>
                  <a:gd name="textAreaBottom" fmla="*/ 315000 h 335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10800" y="0"/>
                      <a:pt x="21600" y="1350"/>
                      <a:pt x="21600" y="2700"/>
                    </a:cubicBezTo>
                    <a:lnTo>
                      <a:pt x="21600" y="18900"/>
                    </a:lnTo>
                    <a:cubicBezTo>
                      <a:pt x="21600" y="20250"/>
                      <a:pt x="108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0" name="Line 60"/>
              <p:cNvSpPr/>
              <p:nvPr/>
            </p:nvSpPr>
            <p:spPr>
              <a:xfrm>
                <a:off x="6608880" y="2880000"/>
                <a:ext cx="1080" cy="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71" name="Group 61"/>
            <p:cNvGrpSpPr/>
            <p:nvPr/>
          </p:nvGrpSpPr>
          <p:grpSpPr>
            <a:xfrm>
              <a:off x="4476600" y="1738440"/>
              <a:ext cx="1316880" cy="1472400"/>
              <a:chOff x="4476600" y="1738440"/>
              <a:chExt cx="1316880" cy="1472400"/>
            </a:xfrm>
          </p:grpSpPr>
          <p:grpSp>
            <p:nvGrpSpPr>
              <p:cNvPr id="872" name="Group 62"/>
              <p:cNvGrpSpPr/>
              <p:nvPr/>
            </p:nvGrpSpPr>
            <p:grpSpPr>
              <a:xfrm>
                <a:off x="4769280" y="2140920"/>
                <a:ext cx="1024200" cy="1069920"/>
                <a:chOff x="4769280" y="2140920"/>
                <a:chExt cx="1024200" cy="1069920"/>
              </a:xfrm>
            </p:grpSpPr>
            <p:grpSp>
              <p:nvGrpSpPr>
                <p:cNvPr id="873" name="Group 63"/>
                <p:cNvGrpSpPr/>
                <p:nvPr/>
              </p:nvGrpSpPr>
              <p:grpSpPr>
                <a:xfrm>
                  <a:off x="4769280" y="2140920"/>
                  <a:ext cx="1024200" cy="1069920"/>
                  <a:chOff x="4769280" y="2140920"/>
                  <a:chExt cx="1024200" cy="1069920"/>
                </a:xfrm>
              </p:grpSpPr>
              <p:grpSp>
                <p:nvGrpSpPr>
                  <p:cNvPr id="874" name="Group 64"/>
                  <p:cNvGrpSpPr/>
                  <p:nvPr/>
                </p:nvGrpSpPr>
                <p:grpSpPr>
                  <a:xfrm>
                    <a:off x="4769280" y="2140920"/>
                    <a:ext cx="1024200" cy="1069920"/>
                    <a:chOff x="4769280" y="2140920"/>
                    <a:chExt cx="1024200" cy="1069920"/>
                  </a:xfrm>
                </p:grpSpPr>
                <p:grpSp>
                  <p:nvGrpSpPr>
                    <p:cNvPr id="875" name="Group 65"/>
                    <p:cNvGrpSpPr/>
                    <p:nvPr/>
                  </p:nvGrpSpPr>
                  <p:grpSpPr>
                    <a:xfrm>
                      <a:off x="5360040" y="2960280"/>
                      <a:ext cx="265320" cy="250560"/>
                      <a:chOff x="5360040" y="2960280"/>
                      <a:chExt cx="265320" cy="250560"/>
                    </a:xfrm>
                  </p:grpSpPr>
                  <p:sp>
                    <p:nvSpPr>
                      <p:cNvPr id="876" name="Line 66"/>
                      <p:cNvSpPr/>
                      <p:nvPr/>
                    </p:nvSpPr>
                    <p:spPr>
                      <a:xfrm>
                        <a:off x="5360040" y="3053520"/>
                        <a:ext cx="56880" cy="157320"/>
                      </a:xfrm>
                      <a:prstGeom prst="line">
                        <a:avLst/>
                      </a:prstGeom>
                      <a:ln w="507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77" name="Line 67"/>
                      <p:cNvSpPr/>
                      <p:nvPr/>
                    </p:nvSpPr>
                    <p:spPr>
                      <a:xfrm>
                        <a:off x="5462280" y="3014280"/>
                        <a:ext cx="56880" cy="157680"/>
                      </a:xfrm>
                      <a:prstGeom prst="line">
                        <a:avLst/>
                      </a:prstGeom>
                      <a:ln w="507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78" name="Line 68"/>
                      <p:cNvSpPr/>
                      <p:nvPr/>
                    </p:nvSpPr>
                    <p:spPr>
                      <a:xfrm>
                        <a:off x="5568480" y="2960280"/>
                        <a:ext cx="56880" cy="157320"/>
                      </a:xfrm>
                      <a:prstGeom prst="line">
                        <a:avLst/>
                      </a:prstGeom>
                      <a:ln w="507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879" name="Freeform 69"/>
                    <p:cNvSpPr/>
                    <p:nvPr/>
                  </p:nvSpPr>
                  <p:spPr>
                    <a:xfrm rot="2340000">
                      <a:off x="4860720" y="2340000"/>
                      <a:ext cx="841320" cy="588600"/>
                    </a:xfrm>
                    <a:custGeom>
                      <a:avLst/>
                      <a:gdLst>
                        <a:gd name="textAreaLeft" fmla="*/ 0 w 841320"/>
                        <a:gd name="textAreaRight" fmla="*/ 841680 w 841320"/>
                        <a:gd name="textAreaTop" fmla="*/ 0 h 588600"/>
                        <a:gd name="textAreaBottom" fmla="*/ 588960 h 588600"/>
                      </a:gdLst>
                      <a:ahLst/>
                      <a:rect l="textAreaLeft" t="textAreaTop" r="textAreaRight" b="textAreaBottom"/>
                      <a:pathLst>
                        <a:path w="1400" h="1110">
                          <a:moveTo>
                            <a:pt x="140" y="390"/>
                          </a:moveTo>
                          <a:cubicBezTo>
                            <a:pt x="210" y="480"/>
                            <a:pt x="280" y="570"/>
                            <a:pt x="380" y="570"/>
                          </a:cubicBezTo>
                          <a:cubicBezTo>
                            <a:pt x="480" y="570"/>
                            <a:pt x="620" y="420"/>
                            <a:pt x="740" y="390"/>
                          </a:cubicBezTo>
                          <a:cubicBezTo>
                            <a:pt x="860" y="360"/>
                            <a:pt x="1000" y="360"/>
                            <a:pt x="1100" y="390"/>
                          </a:cubicBezTo>
                          <a:cubicBezTo>
                            <a:pt x="1200" y="420"/>
                            <a:pt x="1300" y="480"/>
                            <a:pt x="1340" y="570"/>
                          </a:cubicBezTo>
                          <a:cubicBezTo>
                            <a:pt x="1380" y="660"/>
                            <a:pt x="1400" y="840"/>
                            <a:pt x="1340" y="930"/>
                          </a:cubicBezTo>
                          <a:cubicBezTo>
                            <a:pt x="1280" y="1020"/>
                            <a:pt x="1100" y="1110"/>
                            <a:pt x="980" y="1110"/>
                          </a:cubicBezTo>
                          <a:cubicBezTo>
                            <a:pt x="860" y="1110"/>
                            <a:pt x="700" y="990"/>
                            <a:pt x="620" y="930"/>
                          </a:cubicBezTo>
                          <a:cubicBezTo>
                            <a:pt x="540" y="870"/>
                            <a:pt x="540" y="840"/>
                            <a:pt x="500" y="750"/>
                          </a:cubicBezTo>
                          <a:cubicBezTo>
                            <a:pt x="460" y="660"/>
                            <a:pt x="400" y="480"/>
                            <a:pt x="380" y="390"/>
                          </a:cubicBezTo>
                          <a:cubicBezTo>
                            <a:pt x="360" y="300"/>
                            <a:pt x="400" y="270"/>
                            <a:pt x="380" y="210"/>
                          </a:cubicBezTo>
                          <a:cubicBezTo>
                            <a:pt x="360" y="150"/>
                            <a:pt x="320" y="60"/>
                            <a:pt x="260" y="30"/>
                          </a:cubicBezTo>
                          <a:cubicBezTo>
                            <a:pt x="200" y="0"/>
                            <a:pt x="40" y="30"/>
                            <a:pt x="20" y="30"/>
                          </a:cubicBezTo>
                          <a:cubicBezTo>
                            <a:pt x="0" y="30"/>
                            <a:pt x="70" y="30"/>
                            <a:pt x="140" y="30"/>
                          </a:cubicBezTo>
                        </a:path>
                      </a:pathLst>
                    </a:custGeom>
                    <a:noFill/>
                    <a:ln w="507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80" name="Oval 70"/>
                  <p:cNvSpPr/>
                  <p:nvPr/>
                </p:nvSpPr>
                <p:spPr>
                  <a:xfrm>
                    <a:off x="4781520" y="2195640"/>
                    <a:ext cx="380880" cy="228600"/>
                  </a:xfrm>
                  <a:prstGeom prst="ellipse">
                    <a:avLst/>
                  </a:prstGeom>
                  <a:solidFill>
                    <a:srgbClr val="c0c0c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81" name="Text Box 71"/>
                <p:cNvSpPr/>
                <p:nvPr/>
              </p:nvSpPr>
              <p:spPr>
                <a:xfrm>
                  <a:off x="4802040" y="2235240"/>
                  <a:ext cx="304920" cy="1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rmAutofit fontScale="83000"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Arial"/>
                    </a:rPr>
                    <a:t>Fen</a:t>
                  </a:r>
                  <a:endParaRPr b="0" lang="en-US" sz="9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882" name="Text Box 72"/>
              <p:cNvSpPr/>
              <p:nvPr/>
            </p:nvSpPr>
            <p:spPr>
              <a:xfrm>
                <a:off x="4476600" y="1738440"/>
                <a:ext cx="9151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tARN transportando un Aminoácido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83" name="Text Box 73"/>
            <p:cNvSpPr/>
            <p:nvPr/>
          </p:nvSpPr>
          <p:spPr>
            <a:xfrm>
              <a:off x="4324320" y="4290840"/>
              <a:ext cx="114300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Codones para los correspondientes aminoácidos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84" name="Group 74"/>
            <p:cNvGrpSpPr/>
            <p:nvPr/>
          </p:nvGrpSpPr>
          <p:grpSpPr>
            <a:xfrm>
              <a:off x="2190600" y="3235320"/>
              <a:ext cx="4646520" cy="763200"/>
              <a:chOff x="2190600" y="3235320"/>
              <a:chExt cx="4646520" cy="763200"/>
            </a:xfrm>
          </p:grpSpPr>
          <p:sp>
            <p:nvSpPr>
              <p:cNvPr id="885" name="Freeform 75"/>
              <p:cNvSpPr/>
              <p:nvPr/>
            </p:nvSpPr>
            <p:spPr>
              <a:xfrm>
                <a:off x="2266560" y="3315960"/>
                <a:ext cx="4570560" cy="682560"/>
              </a:xfrm>
              <a:custGeom>
                <a:avLst/>
                <a:gdLst>
                  <a:gd name="textAreaLeft" fmla="*/ 0 w 4570560"/>
                  <a:gd name="textAreaRight" fmla="*/ 4570920 w 4570560"/>
                  <a:gd name="textAreaTop" fmla="*/ 0 h 682560"/>
                  <a:gd name="textAreaBottom" fmla="*/ 682560 h 682560"/>
                </a:gdLst>
                <a:ahLst/>
                <a:rect l="textAreaLeft" t="textAreaTop" r="textAreaRight" b="textAreaBottom"/>
                <a:pathLst>
                  <a:path w="7200" h="930">
                    <a:moveTo>
                      <a:pt x="0" y="900"/>
                    </a:moveTo>
                    <a:cubicBezTo>
                      <a:pt x="110" y="825"/>
                      <a:pt x="220" y="750"/>
                      <a:pt x="360" y="720"/>
                    </a:cubicBezTo>
                    <a:cubicBezTo>
                      <a:pt x="500" y="690"/>
                      <a:pt x="640" y="690"/>
                      <a:pt x="840" y="720"/>
                    </a:cubicBezTo>
                    <a:cubicBezTo>
                      <a:pt x="1040" y="750"/>
                      <a:pt x="1320" y="870"/>
                      <a:pt x="1560" y="900"/>
                    </a:cubicBezTo>
                    <a:cubicBezTo>
                      <a:pt x="1800" y="930"/>
                      <a:pt x="2060" y="930"/>
                      <a:pt x="2280" y="900"/>
                    </a:cubicBezTo>
                    <a:cubicBezTo>
                      <a:pt x="2500" y="870"/>
                      <a:pt x="2660" y="780"/>
                      <a:pt x="2880" y="720"/>
                    </a:cubicBezTo>
                    <a:cubicBezTo>
                      <a:pt x="3100" y="660"/>
                      <a:pt x="3360" y="570"/>
                      <a:pt x="3600" y="540"/>
                    </a:cubicBezTo>
                    <a:cubicBezTo>
                      <a:pt x="3840" y="510"/>
                      <a:pt x="4060" y="510"/>
                      <a:pt x="4320" y="540"/>
                    </a:cubicBezTo>
                    <a:cubicBezTo>
                      <a:pt x="4580" y="570"/>
                      <a:pt x="4880" y="720"/>
                      <a:pt x="5160" y="720"/>
                    </a:cubicBezTo>
                    <a:cubicBezTo>
                      <a:pt x="5440" y="720"/>
                      <a:pt x="5780" y="600"/>
                      <a:pt x="6000" y="540"/>
                    </a:cubicBezTo>
                    <a:cubicBezTo>
                      <a:pt x="6220" y="480"/>
                      <a:pt x="6280" y="450"/>
                      <a:pt x="6480" y="360"/>
                    </a:cubicBezTo>
                    <a:cubicBezTo>
                      <a:pt x="6680" y="270"/>
                      <a:pt x="7080" y="60"/>
                      <a:pt x="7200" y="0"/>
                    </a:cubicBezTo>
                  </a:path>
                </a:pathLst>
              </a:custGeom>
              <a:noFill/>
              <a:ln w="50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886" name="Group 76"/>
              <p:cNvGrpSpPr/>
              <p:nvPr/>
            </p:nvGrpSpPr>
            <p:grpSpPr>
              <a:xfrm>
                <a:off x="2190600" y="3771000"/>
                <a:ext cx="226440" cy="225720"/>
                <a:chOff x="2190600" y="3771000"/>
                <a:chExt cx="226440" cy="225720"/>
              </a:xfrm>
            </p:grpSpPr>
            <p:sp>
              <p:nvSpPr>
                <p:cNvPr id="887" name="Line 77"/>
                <p:cNvSpPr/>
                <p:nvPr/>
              </p:nvSpPr>
              <p:spPr>
                <a:xfrm>
                  <a:off x="2190600" y="3882960"/>
                  <a:ext cx="75600" cy="11376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8" name="Line 78"/>
                <p:cNvSpPr/>
                <p:nvPr/>
              </p:nvSpPr>
              <p:spPr>
                <a:xfrm>
                  <a:off x="2266200" y="3832560"/>
                  <a:ext cx="75600" cy="11340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9" name="Line 79"/>
                <p:cNvSpPr/>
                <p:nvPr/>
              </p:nvSpPr>
              <p:spPr>
                <a:xfrm>
                  <a:off x="2341800" y="3771000"/>
                  <a:ext cx="75240" cy="11340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90" name="Group 80"/>
              <p:cNvGrpSpPr/>
              <p:nvPr/>
            </p:nvGrpSpPr>
            <p:grpSpPr>
              <a:xfrm>
                <a:off x="2512800" y="3698280"/>
                <a:ext cx="189360" cy="143280"/>
                <a:chOff x="2512800" y="3698280"/>
                <a:chExt cx="189360" cy="143280"/>
              </a:xfrm>
            </p:grpSpPr>
            <p:sp>
              <p:nvSpPr>
                <p:cNvPr id="891" name="Line 81"/>
                <p:cNvSpPr/>
                <p:nvPr/>
              </p:nvSpPr>
              <p:spPr>
                <a:xfrm flipH="1">
                  <a:off x="2512800" y="3705840"/>
                  <a:ext cx="4320" cy="13572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2" name="Line 82"/>
                <p:cNvSpPr/>
                <p:nvPr/>
              </p:nvSpPr>
              <p:spPr>
                <a:xfrm flipH="1">
                  <a:off x="2602080" y="3705840"/>
                  <a:ext cx="4320" cy="13572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3" name="Line 83"/>
                <p:cNvSpPr/>
                <p:nvPr/>
              </p:nvSpPr>
              <p:spPr>
                <a:xfrm flipH="1">
                  <a:off x="2697480" y="3698280"/>
                  <a:ext cx="4680" cy="13572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94" name="Group 84"/>
              <p:cNvGrpSpPr/>
              <p:nvPr/>
            </p:nvGrpSpPr>
            <p:grpSpPr>
              <a:xfrm>
                <a:off x="2876040" y="3710880"/>
                <a:ext cx="226440" cy="178200"/>
                <a:chOff x="2876040" y="3710880"/>
                <a:chExt cx="226440" cy="178200"/>
              </a:xfrm>
            </p:grpSpPr>
            <p:sp>
              <p:nvSpPr>
                <p:cNvPr id="895" name="Line 85"/>
                <p:cNvSpPr/>
                <p:nvPr/>
              </p:nvSpPr>
              <p:spPr>
                <a:xfrm flipH="1">
                  <a:off x="2876040" y="3710880"/>
                  <a:ext cx="46800" cy="12744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6" name="Line 86"/>
                <p:cNvSpPr/>
                <p:nvPr/>
              </p:nvSpPr>
              <p:spPr>
                <a:xfrm flipH="1">
                  <a:off x="2960280" y="3740400"/>
                  <a:ext cx="46800" cy="12744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7" name="Line 87"/>
                <p:cNvSpPr/>
                <p:nvPr/>
              </p:nvSpPr>
              <p:spPr>
                <a:xfrm flipH="1">
                  <a:off x="3055680" y="3762000"/>
                  <a:ext cx="46800" cy="12708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98" name="Group 88"/>
              <p:cNvGrpSpPr/>
              <p:nvPr/>
            </p:nvGrpSpPr>
            <p:grpSpPr>
              <a:xfrm>
                <a:off x="3269880" y="3830760"/>
                <a:ext cx="199440" cy="140400"/>
                <a:chOff x="3269880" y="3830760"/>
                <a:chExt cx="199440" cy="140400"/>
              </a:xfrm>
            </p:grpSpPr>
            <p:sp>
              <p:nvSpPr>
                <p:cNvPr id="899" name="Line 89"/>
                <p:cNvSpPr/>
                <p:nvPr/>
              </p:nvSpPr>
              <p:spPr>
                <a:xfrm flipH="1">
                  <a:off x="3269880" y="3830760"/>
                  <a:ext cx="13680" cy="13284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0" name="Line 90"/>
                <p:cNvSpPr/>
                <p:nvPr/>
              </p:nvSpPr>
              <p:spPr>
                <a:xfrm flipH="1">
                  <a:off x="3359160" y="3838680"/>
                  <a:ext cx="14040" cy="13248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1" name="Line 91"/>
                <p:cNvSpPr/>
                <p:nvPr/>
              </p:nvSpPr>
              <p:spPr>
                <a:xfrm flipH="1">
                  <a:off x="3455640" y="3835440"/>
                  <a:ext cx="13680" cy="13248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02" name="Group 92"/>
              <p:cNvGrpSpPr/>
              <p:nvPr/>
            </p:nvGrpSpPr>
            <p:grpSpPr>
              <a:xfrm>
                <a:off x="3650400" y="3801240"/>
                <a:ext cx="199440" cy="162360"/>
                <a:chOff x="3650400" y="3801240"/>
                <a:chExt cx="199440" cy="162360"/>
              </a:xfrm>
            </p:grpSpPr>
            <p:sp>
              <p:nvSpPr>
                <p:cNvPr id="903" name="Line 93"/>
                <p:cNvSpPr/>
                <p:nvPr/>
              </p:nvSpPr>
              <p:spPr>
                <a:xfrm>
                  <a:off x="3650400" y="3830400"/>
                  <a:ext cx="12600" cy="13320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4" name="Line 94"/>
                <p:cNvSpPr/>
                <p:nvPr/>
              </p:nvSpPr>
              <p:spPr>
                <a:xfrm>
                  <a:off x="3741480" y="3821040"/>
                  <a:ext cx="14040" cy="13320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5" name="Line 95"/>
                <p:cNvSpPr/>
                <p:nvPr/>
              </p:nvSpPr>
              <p:spPr>
                <a:xfrm>
                  <a:off x="3837600" y="3801240"/>
                  <a:ext cx="12240" cy="13320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06" name="Group 96"/>
              <p:cNvGrpSpPr/>
              <p:nvPr/>
            </p:nvGrpSpPr>
            <p:grpSpPr>
              <a:xfrm>
                <a:off x="4025160" y="3674520"/>
                <a:ext cx="215280" cy="190440"/>
                <a:chOff x="4025160" y="3674520"/>
                <a:chExt cx="215280" cy="190440"/>
              </a:xfrm>
            </p:grpSpPr>
            <p:sp>
              <p:nvSpPr>
                <p:cNvPr id="907" name="Line 97"/>
                <p:cNvSpPr/>
                <p:nvPr/>
              </p:nvSpPr>
              <p:spPr>
                <a:xfrm>
                  <a:off x="4025160" y="3734280"/>
                  <a:ext cx="36000" cy="13068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8" name="Line 98"/>
                <p:cNvSpPr/>
                <p:nvPr/>
              </p:nvSpPr>
              <p:spPr>
                <a:xfrm>
                  <a:off x="4112280" y="3709080"/>
                  <a:ext cx="36000" cy="13068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9" name="Line 99"/>
                <p:cNvSpPr/>
                <p:nvPr/>
              </p:nvSpPr>
              <p:spPr>
                <a:xfrm>
                  <a:off x="4204080" y="3674520"/>
                  <a:ext cx="36360" cy="13068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10" name="Group 100"/>
              <p:cNvGrpSpPr/>
              <p:nvPr/>
            </p:nvGrpSpPr>
            <p:grpSpPr>
              <a:xfrm>
                <a:off x="4412520" y="3574800"/>
                <a:ext cx="199440" cy="162360"/>
                <a:chOff x="4412520" y="3574800"/>
                <a:chExt cx="199440" cy="162360"/>
              </a:xfrm>
            </p:grpSpPr>
            <p:sp>
              <p:nvSpPr>
                <p:cNvPr id="911" name="Line 101"/>
                <p:cNvSpPr/>
                <p:nvPr/>
              </p:nvSpPr>
              <p:spPr>
                <a:xfrm>
                  <a:off x="4412520" y="3601440"/>
                  <a:ext cx="12240" cy="13572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2" name="Line 102"/>
                <p:cNvSpPr/>
                <p:nvPr/>
              </p:nvSpPr>
              <p:spPr>
                <a:xfrm>
                  <a:off x="4503600" y="3593520"/>
                  <a:ext cx="12240" cy="13572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3" name="Line 103"/>
                <p:cNvSpPr/>
                <p:nvPr/>
              </p:nvSpPr>
              <p:spPr>
                <a:xfrm>
                  <a:off x="4599720" y="3574800"/>
                  <a:ext cx="12240" cy="13572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14" name="Group 104"/>
              <p:cNvGrpSpPr/>
              <p:nvPr/>
            </p:nvGrpSpPr>
            <p:grpSpPr>
              <a:xfrm>
                <a:off x="4796280" y="3551400"/>
                <a:ext cx="194400" cy="140040"/>
                <a:chOff x="4796280" y="3551400"/>
                <a:chExt cx="194400" cy="140040"/>
              </a:xfrm>
            </p:grpSpPr>
            <p:sp>
              <p:nvSpPr>
                <p:cNvPr id="915" name="Line 105"/>
                <p:cNvSpPr/>
                <p:nvPr/>
              </p:nvSpPr>
              <p:spPr>
                <a:xfrm flipH="1">
                  <a:off x="4796280" y="3551400"/>
                  <a:ext cx="10800" cy="13572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6" name="Line 106"/>
                <p:cNvSpPr/>
                <p:nvPr/>
              </p:nvSpPr>
              <p:spPr>
                <a:xfrm flipH="1">
                  <a:off x="4885200" y="3555720"/>
                  <a:ext cx="10800" cy="13572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7" name="Line 107"/>
                <p:cNvSpPr/>
                <p:nvPr/>
              </p:nvSpPr>
              <p:spPr>
                <a:xfrm flipH="1">
                  <a:off x="4980240" y="3551400"/>
                  <a:ext cx="10440" cy="13572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18" name="Group 108"/>
              <p:cNvGrpSpPr/>
              <p:nvPr/>
            </p:nvGrpSpPr>
            <p:grpSpPr>
              <a:xfrm>
                <a:off x="5159880" y="3608280"/>
                <a:ext cx="229320" cy="185760"/>
                <a:chOff x="5159880" y="3608280"/>
                <a:chExt cx="229320" cy="185760"/>
              </a:xfrm>
            </p:grpSpPr>
            <p:sp>
              <p:nvSpPr>
                <p:cNvPr id="919" name="Line 109"/>
                <p:cNvSpPr/>
                <p:nvPr/>
              </p:nvSpPr>
              <p:spPr>
                <a:xfrm flipH="1">
                  <a:off x="5159880" y="3608280"/>
                  <a:ext cx="52560" cy="12564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0" name="Line 110"/>
                <p:cNvSpPr/>
                <p:nvPr/>
              </p:nvSpPr>
              <p:spPr>
                <a:xfrm flipH="1">
                  <a:off x="5241960" y="3641040"/>
                  <a:ext cx="52560" cy="12600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1" name="Line 111"/>
                <p:cNvSpPr/>
                <p:nvPr/>
              </p:nvSpPr>
              <p:spPr>
                <a:xfrm flipH="1">
                  <a:off x="5336640" y="3668040"/>
                  <a:ext cx="52560" cy="12600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22" name="Group 112"/>
              <p:cNvGrpSpPr/>
              <p:nvPr/>
            </p:nvGrpSpPr>
            <p:grpSpPr>
              <a:xfrm>
                <a:off x="5559840" y="3693600"/>
                <a:ext cx="191520" cy="153000"/>
                <a:chOff x="5559840" y="3693600"/>
                <a:chExt cx="191520" cy="153000"/>
              </a:xfrm>
            </p:grpSpPr>
            <p:sp>
              <p:nvSpPr>
                <p:cNvPr id="923" name="Line 113"/>
                <p:cNvSpPr/>
                <p:nvPr/>
              </p:nvSpPr>
              <p:spPr>
                <a:xfrm>
                  <a:off x="5559840" y="3710520"/>
                  <a:ext cx="4320" cy="13608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4" name="Line 114"/>
                <p:cNvSpPr/>
                <p:nvPr/>
              </p:nvSpPr>
              <p:spPr>
                <a:xfrm>
                  <a:off x="5649480" y="3705840"/>
                  <a:ext cx="4320" cy="13572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5" name="Line 115"/>
                <p:cNvSpPr/>
                <p:nvPr/>
              </p:nvSpPr>
              <p:spPr>
                <a:xfrm>
                  <a:off x="5747040" y="3693600"/>
                  <a:ext cx="4320" cy="13572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26" name="Group 116"/>
              <p:cNvGrpSpPr/>
              <p:nvPr/>
            </p:nvGrpSpPr>
            <p:grpSpPr>
              <a:xfrm>
                <a:off x="5926320" y="3554640"/>
                <a:ext cx="219960" cy="201600"/>
                <a:chOff x="5926320" y="3554640"/>
                <a:chExt cx="219960" cy="201600"/>
              </a:xfrm>
            </p:grpSpPr>
            <p:sp>
              <p:nvSpPr>
                <p:cNvPr id="927" name="Line 117"/>
                <p:cNvSpPr/>
                <p:nvPr/>
              </p:nvSpPr>
              <p:spPr>
                <a:xfrm>
                  <a:off x="5926320" y="3629520"/>
                  <a:ext cx="46800" cy="12672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8" name="Line 118"/>
                <p:cNvSpPr/>
                <p:nvPr/>
              </p:nvSpPr>
              <p:spPr>
                <a:xfrm>
                  <a:off x="6011280" y="3598200"/>
                  <a:ext cx="46800" cy="12636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9" name="Line 119"/>
                <p:cNvSpPr/>
                <p:nvPr/>
              </p:nvSpPr>
              <p:spPr>
                <a:xfrm>
                  <a:off x="6099480" y="3554640"/>
                  <a:ext cx="46800" cy="12636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30" name="Group 120"/>
              <p:cNvGrpSpPr/>
              <p:nvPr/>
            </p:nvGrpSpPr>
            <p:grpSpPr>
              <a:xfrm>
                <a:off x="6231240" y="3416760"/>
                <a:ext cx="219960" cy="201960"/>
                <a:chOff x="6231240" y="3416760"/>
                <a:chExt cx="219960" cy="201960"/>
              </a:xfrm>
            </p:grpSpPr>
            <p:sp>
              <p:nvSpPr>
                <p:cNvPr id="931" name="Line 121"/>
                <p:cNvSpPr/>
                <p:nvPr/>
              </p:nvSpPr>
              <p:spPr>
                <a:xfrm>
                  <a:off x="6231240" y="3492720"/>
                  <a:ext cx="46800" cy="12600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32" name="Line 122"/>
                <p:cNvSpPr/>
                <p:nvPr/>
              </p:nvSpPr>
              <p:spPr>
                <a:xfrm>
                  <a:off x="6316200" y="3461760"/>
                  <a:ext cx="46800" cy="12600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33" name="Line 123"/>
                <p:cNvSpPr/>
                <p:nvPr/>
              </p:nvSpPr>
              <p:spPr>
                <a:xfrm>
                  <a:off x="6404400" y="3416760"/>
                  <a:ext cx="46800" cy="12600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34" name="Group 124"/>
              <p:cNvGrpSpPr/>
              <p:nvPr/>
            </p:nvGrpSpPr>
            <p:grpSpPr>
              <a:xfrm>
                <a:off x="6535800" y="3235320"/>
                <a:ext cx="219960" cy="201600"/>
                <a:chOff x="6535800" y="3235320"/>
                <a:chExt cx="219960" cy="201600"/>
              </a:xfrm>
            </p:grpSpPr>
            <p:sp>
              <p:nvSpPr>
                <p:cNvPr id="935" name="Line 125"/>
                <p:cNvSpPr/>
                <p:nvPr/>
              </p:nvSpPr>
              <p:spPr>
                <a:xfrm>
                  <a:off x="6535800" y="3311280"/>
                  <a:ext cx="47160" cy="12564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36" name="Line 126"/>
                <p:cNvSpPr/>
                <p:nvPr/>
              </p:nvSpPr>
              <p:spPr>
                <a:xfrm>
                  <a:off x="6620400" y="3278520"/>
                  <a:ext cx="47160" cy="12600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37" name="Line 127"/>
                <p:cNvSpPr/>
                <p:nvPr/>
              </p:nvSpPr>
              <p:spPr>
                <a:xfrm>
                  <a:off x="6708600" y="3235320"/>
                  <a:ext cx="47160" cy="12564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38" name="Text Box 128"/>
            <p:cNvSpPr/>
            <p:nvPr/>
          </p:nvSpPr>
          <p:spPr>
            <a:xfrm>
              <a:off x="5543640" y="3909960"/>
              <a:ext cx="60948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 fontScale="83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Codón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9" name="AutoShape 129"/>
            <p:cNvSpPr/>
            <p:nvPr/>
          </p:nvSpPr>
          <p:spPr>
            <a:xfrm rot="4560000">
              <a:off x="5622840" y="3683880"/>
              <a:ext cx="119160" cy="336600"/>
            </a:xfrm>
            <a:custGeom>
              <a:avLst/>
              <a:gdLst>
                <a:gd name="textAreaLeft" fmla="*/ 0 w 119160"/>
                <a:gd name="textAreaRight" fmla="*/ 83520 w 119160"/>
                <a:gd name="textAreaTop" fmla="*/ 20160 h 336600"/>
                <a:gd name="textAreaBottom" fmla="*/ 316440 h 336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1311"/>
                    <a:pt x="21600" y="2622"/>
                  </a:cubicBezTo>
                  <a:lnTo>
                    <a:pt x="21600" y="18978"/>
                  </a:lnTo>
                  <a:cubicBezTo>
                    <a:pt x="21600" y="20289"/>
                    <a:pt x="108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0" name="Text Box 130"/>
            <p:cNvSpPr/>
            <p:nvPr/>
          </p:nvSpPr>
          <p:spPr>
            <a:xfrm>
              <a:off x="1962000" y="4024440"/>
              <a:ext cx="304920" cy="11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 fontScale="86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5’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1" name="Text Box 131"/>
            <p:cNvSpPr/>
            <p:nvPr/>
          </p:nvSpPr>
          <p:spPr>
            <a:xfrm>
              <a:off x="6762600" y="3224160"/>
              <a:ext cx="304920" cy="11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 fontScale="86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3’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2" name="Text Box 132"/>
            <p:cNvSpPr/>
            <p:nvPr/>
          </p:nvSpPr>
          <p:spPr>
            <a:xfrm>
              <a:off x="2190600" y="4024440"/>
              <a:ext cx="609840" cy="11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 fontScale="83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mARN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3" name="Text Box 133"/>
            <p:cNvSpPr/>
            <p:nvPr/>
          </p:nvSpPr>
          <p:spPr>
            <a:xfrm>
              <a:off x="2800440" y="4253040"/>
              <a:ext cx="609480" cy="11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 fontScale="83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Ribosoma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4" name="Line 134"/>
            <p:cNvSpPr/>
            <p:nvPr/>
          </p:nvSpPr>
          <p:spPr>
            <a:xfrm>
              <a:off x="4857840" y="3452760"/>
              <a:ext cx="91440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5" name="Text Box 135"/>
            <p:cNvSpPr/>
            <p:nvPr/>
          </p:nvSpPr>
          <p:spPr>
            <a:xfrm>
              <a:off x="4781520" y="3338640"/>
              <a:ext cx="11430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irección de lectura del mARN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6" name="Line 136"/>
            <p:cNvSpPr/>
            <p:nvPr/>
          </p:nvSpPr>
          <p:spPr>
            <a:xfrm>
              <a:off x="4400640" y="2995560"/>
              <a:ext cx="75960" cy="5716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47" name="Group 137"/>
            <p:cNvGrpSpPr/>
            <p:nvPr/>
          </p:nvGrpSpPr>
          <p:grpSpPr>
            <a:xfrm>
              <a:off x="3166560" y="2741760"/>
              <a:ext cx="1854360" cy="1892160"/>
              <a:chOff x="3166560" y="2741760"/>
              <a:chExt cx="1854360" cy="1892160"/>
            </a:xfrm>
          </p:grpSpPr>
          <p:sp>
            <p:nvSpPr>
              <p:cNvPr id="948" name="Line 138"/>
              <p:cNvSpPr/>
              <p:nvPr/>
            </p:nvSpPr>
            <p:spPr>
              <a:xfrm flipV="1">
                <a:off x="3409920" y="4181040"/>
                <a:ext cx="228600" cy="117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9" name="Line 139"/>
              <p:cNvSpPr/>
              <p:nvPr/>
            </p:nvSpPr>
            <p:spPr>
              <a:xfrm>
                <a:off x="3943440" y="4138560"/>
                <a:ext cx="38088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950" name="Group 140"/>
              <p:cNvGrpSpPr/>
              <p:nvPr/>
            </p:nvGrpSpPr>
            <p:grpSpPr>
              <a:xfrm>
                <a:off x="3166560" y="2741760"/>
                <a:ext cx="1854360" cy="1892160"/>
                <a:chOff x="3166560" y="2741760"/>
                <a:chExt cx="1854360" cy="1892160"/>
              </a:xfrm>
            </p:grpSpPr>
            <p:sp>
              <p:nvSpPr>
                <p:cNvPr id="951" name="Oval 141"/>
                <p:cNvSpPr/>
                <p:nvPr/>
              </p:nvSpPr>
              <p:spPr>
                <a:xfrm rot="20580000">
                  <a:off x="3308400" y="2933640"/>
                  <a:ext cx="1492920" cy="119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57575"/>
                    </a:gs>
                    <a:gs pos="100000">
                      <a:srgbClr val="ffffff">
                        <a:alpha val="47058"/>
                      </a:srgbClr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52" name="Oval 142"/>
                <p:cNvSpPr/>
                <p:nvPr/>
              </p:nvSpPr>
              <p:spPr>
                <a:xfrm rot="20580000">
                  <a:off x="3474000" y="3835440"/>
                  <a:ext cx="1492920" cy="592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75757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953" name="AutoShape 143"/>
              <p:cNvSpPr/>
              <p:nvPr/>
            </p:nvSpPr>
            <p:spPr>
              <a:xfrm rot="4260000">
                <a:off x="3731400" y="3812400"/>
                <a:ext cx="92160" cy="334800"/>
              </a:xfrm>
              <a:custGeom>
                <a:avLst/>
                <a:gdLst>
                  <a:gd name="textAreaLeft" fmla="*/ 0 w 92160"/>
                  <a:gd name="textAreaRight" fmla="*/ 64800 w 92160"/>
                  <a:gd name="textAreaTop" fmla="*/ 20880 h 334800"/>
                  <a:gd name="textAreaBottom" fmla="*/ 313920 h 334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10800" y="0"/>
                      <a:pt x="21600" y="1350"/>
                      <a:pt x="21600" y="2700"/>
                    </a:cubicBezTo>
                    <a:lnTo>
                      <a:pt x="21600" y="18900"/>
                    </a:lnTo>
                    <a:cubicBezTo>
                      <a:pt x="21600" y="20250"/>
                      <a:pt x="108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4" name="AutoShape 144"/>
              <p:cNvSpPr/>
              <p:nvPr/>
            </p:nvSpPr>
            <p:spPr>
              <a:xfrm rot="4260000">
                <a:off x="4111560" y="3673440"/>
                <a:ext cx="91800" cy="336240"/>
              </a:xfrm>
              <a:custGeom>
                <a:avLst/>
                <a:gdLst>
                  <a:gd name="textAreaLeft" fmla="*/ 0 w 91800"/>
                  <a:gd name="textAreaRight" fmla="*/ 64440 w 91800"/>
                  <a:gd name="textAreaTop" fmla="*/ 20880 h 336240"/>
                  <a:gd name="textAreaBottom" fmla="*/ 315360 h 336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10800" y="0"/>
                      <a:pt x="21600" y="1350"/>
                      <a:pt x="21600" y="2700"/>
                    </a:cubicBezTo>
                    <a:lnTo>
                      <a:pt x="21600" y="18900"/>
                    </a:lnTo>
                    <a:cubicBezTo>
                      <a:pt x="21600" y="20250"/>
                      <a:pt x="108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5" name="AutoShape 145"/>
              <p:cNvSpPr/>
              <p:nvPr/>
            </p:nvSpPr>
            <p:spPr>
              <a:xfrm rot="4380000">
                <a:off x="4461120" y="3569400"/>
                <a:ext cx="115920" cy="336600"/>
              </a:xfrm>
              <a:custGeom>
                <a:avLst/>
                <a:gdLst>
                  <a:gd name="textAreaLeft" fmla="*/ 0 w 115920"/>
                  <a:gd name="textAreaRight" fmla="*/ 81360 w 115920"/>
                  <a:gd name="textAreaTop" fmla="*/ 20160 h 336600"/>
                  <a:gd name="textAreaBottom" fmla="*/ 316440 h 336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10800" y="0"/>
                      <a:pt x="21600" y="1311"/>
                      <a:pt x="21600" y="2622"/>
                    </a:cubicBezTo>
                    <a:lnTo>
                      <a:pt x="21600" y="18978"/>
                    </a:lnTo>
                    <a:cubicBezTo>
                      <a:pt x="21600" y="20289"/>
                      <a:pt x="108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6" name="Text Box 146"/>
              <p:cNvSpPr/>
              <p:nvPr/>
            </p:nvSpPr>
            <p:spPr>
              <a:xfrm>
                <a:off x="3714840" y="4062240"/>
                <a:ext cx="304560" cy="117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rmAutofit fontScale="86000"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Val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7" name="Text Box 147"/>
              <p:cNvSpPr/>
              <p:nvPr/>
            </p:nvSpPr>
            <p:spPr>
              <a:xfrm>
                <a:off x="4095720" y="3909960"/>
                <a:ext cx="304920" cy="117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rmAutofit fontScale="86000"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la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8" name="Text Box 148"/>
              <p:cNvSpPr/>
              <p:nvPr/>
            </p:nvSpPr>
            <p:spPr>
              <a:xfrm>
                <a:off x="4476600" y="3795840"/>
                <a:ext cx="304920" cy="117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rmAutofit fontScale="86000"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Gli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9" name="Line 149"/>
              <p:cNvSpPr/>
              <p:nvPr/>
            </p:nvSpPr>
            <p:spPr>
              <a:xfrm>
                <a:off x="4248000" y="4024440"/>
                <a:ext cx="15264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0" name="Line 150"/>
              <p:cNvSpPr/>
              <p:nvPr/>
            </p:nvSpPr>
            <p:spPr>
              <a:xfrm flipH="1">
                <a:off x="4551480" y="3909960"/>
                <a:ext cx="79200" cy="320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961" name="Group 151"/>
              <p:cNvGrpSpPr/>
              <p:nvPr/>
            </p:nvGrpSpPr>
            <p:grpSpPr>
              <a:xfrm>
                <a:off x="3576960" y="3012840"/>
                <a:ext cx="1035360" cy="1335600"/>
                <a:chOff x="3576960" y="3012840"/>
                <a:chExt cx="1035360" cy="1335600"/>
              </a:xfrm>
            </p:grpSpPr>
            <p:sp>
              <p:nvSpPr>
                <p:cNvPr id="962" name="AutoShape 152"/>
                <p:cNvSpPr/>
                <p:nvPr/>
              </p:nvSpPr>
              <p:spPr>
                <a:xfrm rot="20400000">
                  <a:off x="3757680" y="3092400"/>
                  <a:ext cx="673920" cy="1176120"/>
                </a:xfrm>
                <a:custGeom>
                  <a:avLst/>
                  <a:gdLst>
                    <a:gd name="textAreaLeft" fmla="*/ 32760 w 673920"/>
                    <a:gd name="textAreaRight" fmla="*/ 641160 w 673920"/>
                    <a:gd name="textAreaTop" fmla="*/ 32760 h 1176120"/>
                    <a:gd name="textAreaBottom" fmla="*/ 1143360 h 1176120"/>
                  </a:gdLst>
                  <a:ahLst/>
                  <a:rect l="textAreaLeft" t="textAreaTop" r="textAreaRight" b="textAreaBottom"/>
                  <a:pathLst>
                    <a:path w="21600" h="37688">
                      <a:moveTo>
                        <a:pt x="3600" y="0"/>
                      </a:moveTo>
                      <a:arcTo wR="3600" hR="3600" stAng="16200000" swAng="-5400000"/>
                      <a:lnTo>
                        <a:pt x="0" y="34088"/>
                      </a:lnTo>
                      <a:arcTo wR="3600" hR="3600" stAng="10800000" swAng="-5400000"/>
                      <a:lnTo>
                        <a:pt x="18000" y="37688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63" name="Text Box 153"/>
                <p:cNvSpPr/>
                <p:nvPr/>
              </p:nvSpPr>
              <p:spPr>
                <a:xfrm>
                  <a:off x="3761640" y="3301200"/>
                  <a:ext cx="505440" cy="41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P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64" name="Group 154"/>
              <p:cNvGrpSpPr/>
              <p:nvPr/>
            </p:nvGrpSpPr>
            <p:grpSpPr>
              <a:xfrm>
                <a:off x="4030200" y="3011400"/>
                <a:ext cx="889560" cy="1107720"/>
                <a:chOff x="4030200" y="3011400"/>
                <a:chExt cx="889560" cy="1107720"/>
              </a:xfrm>
            </p:grpSpPr>
            <p:sp>
              <p:nvSpPr>
                <p:cNvPr id="965" name="AutoShape 155"/>
                <p:cNvSpPr/>
                <p:nvPr/>
              </p:nvSpPr>
              <p:spPr>
                <a:xfrm rot="20400000">
                  <a:off x="4176360" y="3084480"/>
                  <a:ext cx="596520" cy="961560"/>
                </a:xfrm>
                <a:custGeom>
                  <a:avLst/>
                  <a:gdLst>
                    <a:gd name="textAreaLeft" fmla="*/ 28800 w 596520"/>
                    <a:gd name="textAreaRight" fmla="*/ 567720 w 596520"/>
                    <a:gd name="textAreaTop" fmla="*/ 28800 h 961560"/>
                    <a:gd name="textAreaBottom" fmla="*/ 932760 h 961560"/>
                  </a:gdLst>
                  <a:ahLst/>
                  <a:rect l="textAreaLeft" t="textAreaTop" r="textAreaRight" b="textAreaBottom"/>
                  <a:pathLst>
                    <a:path w="21600" h="34810">
                      <a:moveTo>
                        <a:pt x="3600" y="0"/>
                      </a:moveTo>
                      <a:arcTo wR="3600" hR="3600" stAng="16200000" swAng="-5400000"/>
                      <a:lnTo>
                        <a:pt x="0" y="31210"/>
                      </a:lnTo>
                      <a:arcTo wR="3600" hR="3600" stAng="10800000" swAng="-5400000"/>
                      <a:lnTo>
                        <a:pt x="18000" y="34810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66" name="Text Box 156"/>
                <p:cNvSpPr/>
                <p:nvPr/>
              </p:nvSpPr>
              <p:spPr>
                <a:xfrm>
                  <a:off x="4179240" y="3254760"/>
                  <a:ext cx="447480" cy="34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A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67" name="AutoShape 157"/>
            <p:cNvSpPr/>
            <p:nvPr/>
          </p:nvSpPr>
          <p:spPr>
            <a:xfrm flipH="1" flipV="1" rot="2580000">
              <a:off x="3584160" y="1878120"/>
              <a:ext cx="1676520" cy="1433520"/>
            </a:xfrm>
            <a:custGeom>
              <a:avLst/>
              <a:gdLst>
                <a:gd name="textAreaLeft" fmla="*/ 838440 w 1676520"/>
                <a:gd name="textAreaRight" fmla="*/ 1676880 w 1676520"/>
                <a:gd name="textAreaTop" fmla="*/ 145800 h 1433520"/>
                <a:gd name="textAreaBottom" fmla="*/ 716040 h 1433520"/>
              </a:gdLst>
              <a:ahLst/>
              <a:rect l="textAreaLeft" t="textAreaTop" r="textAreaRight" b="textAreaBottom"/>
              <a:pathLst>
                <a:path stroke="0" w="21600" h="21600">
                  <a:moveTo>
                    <a:pt x="17788" y="2565"/>
                  </a:moveTo>
                  <a:cubicBezTo>
                    <a:pt x="20206" y="4617"/>
                    <a:pt x="21600" y="7628"/>
                    <a:pt x="21600" y="10800"/>
                  </a:cubicBezTo>
                  <a:lnTo>
                    <a:pt x="10800" y="10800"/>
                  </a:lnTo>
                  <a:lnTo>
                    <a:pt x="17788" y="2565"/>
                  </a:lnTo>
                  <a:close/>
                </a:path>
                <a:path fill="none" w="21600" h="21600">
                  <a:moveTo>
                    <a:pt x="17788" y="2565"/>
                  </a:moveTo>
                  <a:cubicBezTo>
                    <a:pt x="20206" y="4617"/>
                    <a:pt x="21600" y="7628"/>
                    <a:pt x="21600" y="108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8" name="Group 158"/>
            <p:cNvGrpSpPr/>
            <p:nvPr/>
          </p:nvGrpSpPr>
          <p:grpSpPr>
            <a:xfrm>
              <a:off x="3409920" y="2195640"/>
              <a:ext cx="227160" cy="226800"/>
              <a:chOff x="3409920" y="2195640"/>
              <a:chExt cx="227160" cy="226800"/>
            </a:xfrm>
          </p:grpSpPr>
          <p:sp>
            <p:nvSpPr>
              <p:cNvPr id="969" name="Oval 159"/>
              <p:cNvSpPr/>
              <p:nvPr/>
            </p:nvSpPr>
            <p:spPr>
              <a:xfrm>
                <a:off x="3409920" y="2195640"/>
                <a:ext cx="227160" cy="2268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0" name="Text Box 160"/>
              <p:cNvSpPr/>
              <p:nvPr/>
            </p:nvSpPr>
            <p:spPr>
              <a:xfrm>
                <a:off x="3409920" y="2223720"/>
                <a:ext cx="227160" cy="113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rmAutofit fontScale="62000"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71" name="Group 161"/>
            <p:cNvGrpSpPr/>
            <p:nvPr/>
          </p:nvGrpSpPr>
          <p:grpSpPr>
            <a:xfrm>
              <a:off x="3333600" y="3224160"/>
              <a:ext cx="227160" cy="227160"/>
              <a:chOff x="3333600" y="3224160"/>
              <a:chExt cx="227160" cy="227160"/>
            </a:xfrm>
          </p:grpSpPr>
          <p:sp>
            <p:nvSpPr>
              <p:cNvPr id="972" name="Oval 162"/>
              <p:cNvSpPr/>
              <p:nvPr/>
            </p:nvSpPr>
            <p:spPr>
              <a:xfrm>
                <a:off x="3333600" y="3224160"/>
                <a:ext cx="227160" cy="2271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3" name="Text Box 163"/>
              <p:cNvSpPr/>
              <p:nvPr/>
            </p:nvSpPr>
            <p:spPr>
              <a:xfrm>
                <a:off x="3333600" y="3252600"/>
                <a:ext cx="227160" cy="113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rmAutofit fontScale="62000"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74" name="Group 164"/>
            <p:cNvGrpSpPr/>
            <p:nvPr/>
          </p:nvGrpSpPr>
          <p:grpSpPr>
            <a:xfrm>
              <a:off x="2419200" y="5052960"/>
              <a:ext cx="2207880" cy="227160"/>
              <a:chOff x="2419200" y="5052960"/>
              <a:chExt cx="2207880" cy="227160"/>
            </a:xfrm>
          </p:grpSpPr>
          <p:grpSp>
            <p:nvGrpSpPr>
              <p:cNvPr id="975" name="Group 165"/>
              <p:cNvGrpSpPr/>
              <p:nvPr/>
            </p:nvGrpSpPr>
            <p:grpSpPr>
              <a:xfrm>
                <a:off x="2419200" y="5052960"/>
                <a:ext cx="226800" cy="227160"/>
                <a:chOff x="2419200" y="5052960"/>
                <a:chExt cx="226800" cy="227160"/>
              </a:xfrm>
            </p:grpSpPr>
            <p:sp>
              <p:nvSpPr>
                <p:cNvPr id="976" name="Oval 166"/>
                <p:cNvSpPr/>
                <p:nvPr/>
              </p:nvSpPr>
              <p:spPr>
                <a:xfrm>
                  <a:off x="2419200" y="5052960"/>
                  <a:ext cx="226800" cy="227160"/>
                </a:xfrm>
                <a:prstGeom prst="ellipse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7" name="Text Box 167"/>
                <p:cNvSpPr/>
                <p:nvPr/>
              </p:nvSpPr>
              <p:spPr>
                <a:xfrm>
                  <a:off x="2419200" y="5081400"/>
                  <a:ext cx="226800" cy="113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rmAutofit fontScale="62000"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978" name="Text Box 168"/>
              <p:cNvSpPr/>
              <p:nvPr/>
            </p:nvSpPr>
            <p:spPr>
              <a:xfrm>
                <a:off x="2647440" y="5079960"/>
                <a:ext cx="1979640" cy="200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rmAutofit fontScale="79000"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US" sz="1400" spc="-1" strike="noStrike">
                    <a:solidFill>
                      <a:srgbClr val="ff0000"/>
                    </a:solidFill>
                    <a:latin typeface="Arial"/>
                  </a:rPr>
                  <a:t>Enzima</a:t>
                </a:r>
                <a:r>
                  <a:rPr b="1" i="1" lang="en-US" sz="1400" spc="-1" strike="noStrike">
                    <a:solidFill>
                      <a:srgbClr val="ff0000"/>
                    </a:solidFill>
                    <a:latin typeface="Arial"/>
                  </a:rPr>
                  <a:t> Peptidililtransferasa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79" name="Group 169"/>
            <p:cNvGrpSpPr/>
            <p:nvPr/>
          </p:nvGrpSpPr>
          <p:grpSpPr>
            <a:xfrm>
              <a:off x="5315040" y="5052960"/>
              <a:ext cx="1775880" cy="461520"/>
              <a:chOff x="5315040" y="5052960"/>
              <a:chExt cx="1775880" cy="461520"/>
            </a:xfrm>
          </p:grpSpPr>
          <p:grpSp>
            <p:nvGrpSpPr>
              <p:cNvPr id="980" name="Group 170"/>
              <p:cNvGrpSpPr/>
              <p:nvPr/>
            </p:nvGrpSpPr>
            <p:grpSpPr>
              <a:xfrm>
                <a:off x="5315040" y="5052960"/>
                <a:ext cx="226440" cy="226080"/>
                <a:chOff x="5315040" y="5052960"/>
                <a:chExt cx="226440" cy="226080"/>
              </a:xfrm>
            </p:grpSpPr>
            <p:sp>
              <p:nvSpPr>
                <p:cNvPr id="981" name="Oval 171"/>
                <p:cNvSpPr/>
                <p:nvPr/>
              </p:nvSpPr>
              <p:spPr>
                <a:xfrm>
                  <a:off x="5315040" y="5052960"/>
                  <a:ext cx="226440" cy="226080"/>
                </a:xfrm>
                <a:prstGeom prst="ellipse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2" name="Text Box 172"/>
                <p:cNvSpPr/>
                <p:nvPr/>
              </p:nvSpPr>
              <p:spPr>
                <a:xfrm>
                  <a:off x="5315040" y="5081400"/>
                  <a:ext cx="226440" cy="112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rmAutofit fontScale="62000"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983" name="Text Box 173"/>
              <p:cNvSpPr/>
              <p:nvPr/>
            </p:nvSpPr>
            <p:spPr>
              <a:xfrm>
                <a:off x="5606640" y="5081400"/>
                <a:ext cx="1484280" cy="43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i="1" lang="en-US" sz="1400" spc="-1" strike="noStrike">
                    <a:solidFill>
                      <a:srgbClr val="ff0000"/>
                    </a:solidFill>
                    <a:latin typeface="Arial"/>
                  </a:rPr>
                  <a:t>Translocasa</a:t>
                </a:r>
                <a:r>
                  <a:rPr b="1" i="1" lang="en-US" sz="1100" spc="-1" strike="noStrike">
                    <a:solidFill>
                      <a:srgbClr val="ff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0" i="1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4" name="Line 174"/>
              <p:cNvSpPr/>
              <p:nvPr/>
            </p:nvSpPr>
            <p:spPr>
              <a:xfrm>
                <a:off x="6083640" y="5372280"/>
                <a:ext cx="287280" cy="108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85" name="AutoShape 175"/>
            <p:cNvSpPr/>
            <p:nvPr/>
          </p:nvSpPr>
          <p:spPr>
            <a:xfrm rot="4560000">
              <a:off x="6648840" y="3272400"/>
              <a:ext cx="118800" cy="336600"/>
            </a:xfrm>
            <a:custGeom>
              <a:avLst/>
              <a:gdLst>
                <a:gd name="textAreaLeft" fmla="*/ 0 w 118800"/>
                <a:gd name="textAreaRight" fmla="*/ 83520 w 118800"/>
                <a:gd name="textAreaTop" fmla="*/ 20160 h 336600"/>
                <a:gd name="textAreaBottom" fmla="*/ 316440 h 336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1311"/>
                    <a:pt x="21600" y="2622"/>
                  </a:cubicBezTo>
                  <a:lnTo>
                    <a:pt x="21600" y="18978"/>
                  </a:lnTo>
                  <a:cubicBezTo>
                    <a:pt x="21600" y="20289"/>
                    <a:pt x="108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6" name="Text Box 176"/>
            <p:cNvSpPr/>
            <p:nvPr/>
          </p:nvSpPr>
          <p:spPr>
            <a:xfrm>
              <a:off x="6516720" y="3530520"/>
              <a:ext cx="719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Codón de terminación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7" name="Text Box 177"/>
            <p:cNvSpPr/>
            <p:nvPr/>
          </p:nvSpPr>
          <p:spPr>
            <a:xfrm>
              <a:off x="1771560" y="2133720"/>
              <a:ext cx="5540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H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9T13:37:10Z</dcterms:created>
  <dc:creator>Facultad</dc:creator>
  <dc:description/>
  <dc:language>en-US</dc:language>
  <cp:lastModifiedBy>Ana Anzulovich</cp:lastModifiedBy>
  <dcterms:modified xsi:type="dcterms:W3CDTF">2016-10-24T22:13:24Z</dcterms:modified>
  <cp:revision>59</cp:revision>
  <dc:subject/>
  <dc:title>Transcripción y traducción de un gen eucariota</dc:title>
</cp:coreProperties>
</file>